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33407A-F908-4F59-85E6-B1F75A0CE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E2E429-743C-4CEC-A4AC-C94DB54EDB5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67A0F0-C01D-4350-82DD-6A092029097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7F1FE4-95E5-4598-846D-EF0E298D170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7EBCCD-79DA-442D-8D14-B8B951AE88E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D41-641A-47AA-981B-A6210B65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9BC-79CE-40A0-90D2-66E88F12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4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852-3970-424C-B4C4-A44A68FA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72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1024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72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1024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7BF-5D95-4068-994E-1FB53906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2F8B-225B-4E0D-BFF7-043215AC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0A06-506B-431A-BE5E-8F53224C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5EAC-86DE-4C57-98D7-0C46C6BC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4D9D-C3FB-4273-BC29-13E1CE54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082B-2459-4EAA-B1F6-2B5906D6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2640"/>
            <a:ext cx="579096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30CE-DB44-4CC5-8DC8-E15B29E9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A3D3-5A3B-41E5-8820-2DA25C73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82F-EC67-4843-AFEF-581A9CAE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4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D1E2-35D3-4E54-A996-3F2C30C6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38E5-EA1B-484D-AC88-270047C5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DD43-52F6-475D-A9EB-37AEBB60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4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31D9-4247-452A-9CAF-15EDD3DE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72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1024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72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1024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9EF4-36F2-467F-92D1-8CFC6A85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BA371-AE8A-413A-ACF0-037C2313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63FF-1183-4A20-8772-E63C7982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D93B8-8E9F-470B-AD8D-18431192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1CED-D7B9-4017-9E3D-CA2982B4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B7C8F-E3EC-4C68-99CD-69A1C29F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99C-D724-4051-B2CB-60B1C088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640"/>
            <a:ext cx="579096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3753F-D242-441E-AB35-AAB347F5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A964-BE09-4676-AA27-5C0D51C6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4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8C2B1-F25B-45ED-8A7A-F902B24E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9BB39-717C-4BA2-A781-4E63B892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E6088-75A0-4149-98DF-6DB06486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4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51DB0-61F3-49AB-AADE-1839A6C3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72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1024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72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1024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17CCF-2584-465D-9BC0-044DC5D0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601-BF9A-4A62-AFED-B27CD71D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A7E-2427-4DE9-97F9-78D5EC36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2640"/>
            <a:ext cx="579096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CA9-734D-4986-B4FE-90C46327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216-3639-456C-9428-20C00E08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4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D1D-516E-47DC-88FA-50F389C1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85B-CA7B-4701-BC27-7E1D2F92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9001080" y="0"/>
            <a:ext cx="142560" cy="13712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9001080" y="1371600"/>
            <a:ext cx="142560" cy="54860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60" strike="noStrike" cap="all">
                <a:solidFill>
                  <a:srgbClr val="303030"/>
                </a:solidFill>
                <a:latin typeface="Constantia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indent="-182880">
              <a:lnSpc>
                <a:spcPct val="100000"/>
              </a:lnSpc>
              <a:spcBef>
                <a:spcPts val="400"/>
              </a:spcBef>
              <a:buClr>
                <a:srgbClr val="30303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30303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30303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30303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172200"/>
            <a:ext cx="3428640" cy="3045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7200" y="6492960"/>
            <a:ext cx="3428640" cy="2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5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2400" spc="-1" strike="noStrike">
                <a:solidFill>
                  <a:srgbClr val="30303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64E48FE-4B32-4AFE-9CB6-A7809691CB08}" type="slidenum">
              <a:rPr b="1" lang="en-US" sz="2400" spc="-1" strike="noStrike">
                <a:solidFill>
                  <a:srgbClr val="30303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001080" y="0"/>
            <a:ext cx="142560" cy="13712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001080" y="1371600"/>
            <a:ext cx="142560" cy="54860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56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60" strike="noStrike" cap="all">
                <a:solidFill>
                  <a:srgbClr val="303030"/>
                </a:solidFill>
                <a:latin typeface="Constantia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560" cy="49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авка таблицы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80880" y="640080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120" cy="32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2400" spc="-1" strike="noStrike">
                <a:solidFill>
                  <a:srgbClr val="30303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686C5F7-5D8B-4820-9265-6649EC09703E}" type="slidenum">
              <a:rPr b="1" lang="en-US" sz="2400" spc="-1" strike="noStrike">
                <a:solidFill>
                  <a:srgbClr val="30303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001080" y="0"/>
            <a:ext cx="142560" cy="13712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001080" y="1371600"/>
            <a:ext cx="142560" cy="54860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60" strike="noStrike" cap="all">
                <a:solidFill>
                  <a:srgbClr val="303030"/>
                </a:solidFill>
                <a:latin typeface="Constantia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7200" y="6172200"/>
            <a:ext cx="3428640" cy="3045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457200" y="6492960"/>
            <a:ext cx="3428640" cy="2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5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2400" spc="-1" strike="noStrike">
                <a:solidFill>
                  <a:srgbClr val="30303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A5113F0-3C52-42F1-883C-2EF2CC314660}" type="slidenum">
              <a:rPr b="1" lang="en-US" sz="2400" spc="-1" strike="noStrike">
                <a:solidFill>
                  <a:srgbClr val="30303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2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ФОРМИРУЮЩЕЕ и КРИТЕРИАЛЬНОЕ ОЦЕНИВАНИЕ 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как фактор повышения качества образования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71320" y="142920"/>
            <a:ext cx="8383320" cy="65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Arial Black"/>
              </a:rPr>
              <a:t>Критериальное оценивание </a:t>
            </a: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Franklin Gothic Book"/>
              </a:rPr>
              <a:t>–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это процесс, основанный на сравнении учебных достижений учащихся с четко определенными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коллективно выработанными,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заране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известными всем участникам образовательного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процесса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критериями, соответствующими целям и содержанию образования, способствующим формированию ключевых компетентностей учащихся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60" strike="noStrike" cap="all">
                <a:solidFill>
                  <a:schemeClr val="accent1">
                    <a:lumMod val="75000"/>
                  </a:schemeClr>
                </a:solidFill>
                <a:latin typeface="Arial Black"/>
              </a:rPr>
              <a:t>Критериальное оцен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383320" cy="44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цениваться может только работа учащегося, а не его личность;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азработан четкий алгоритм выведения отметки, по которому учащийся может сам определить свой уровень достижения и определить свою отметку;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цениваться может только то, чему учат, поэтому критерий оценивания – конкретное выражение учебных целей;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бщие учебные цели по предмету являются критериями оценивания достижений учащихся по данному предмету и позволяют обобщать результаты, выявленные отдельными работами учащегося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640" y="620640"/>
            <a:ext cx="5636520" cy="5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5000"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60" strike="noStrike" cap="all">
                <a:solidFill>
                  <a:srgbClr val="ff0000"/>
                </a:solidFill>
                <a:latin typeface="Constantia"/>
              </a:rPr>
              <a:t>Рубрика для оценивания</a:t>
            </a:r>
            <a:br>
              <a:rPr sz="1800"/>
            </a:br>
            <a:r>
              <a:rPr b="0" lang="ru-RU" sz="1800" spc="-60" strike="noStrike" cap="all">
                <a:solidFill>
                  <a:srgbClr val="ff0000"/>
                </a:solidFill>
                <a:latin typeface="Constantia"/>
              </a:rPr>
              <a:t>контрольного задания и домашней работы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Объект 3"/>
          <p:cNvGraphicFramePr/>
          <p:nvPr/>
        </p:nvGraphicFramePr>
        <p:xfrm>
          <a:off x="827640" y="836640"/>
          <a:ext cx="7560360" cy="5989320"/>
        </p:xfrm>
        <a:graphic>
          <a:graphicData uri="http://schemas.openxmlformats.org/drawingml/2006/table">
            <a:tbl>
              <a:tblPr/>
              <a:tblGrid>
                <a:gridCol w="1478160"/>
                <a:gridCol w="3475080"/>
                <a:gridCol w="2607120"/>
              </a:tblGrid>
              <a:tr h="42696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Уровень достиж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Общий под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Поним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6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Образцов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(5 балл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Отвечает на вопро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Даёт адекватный, убедительный отв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Логично и последовательно аргументирует отв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Использует приемлемый стиль и грамматику (ошибок не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Wingdings-Regular"/>
                        </a:rPr>
                        <a:t>-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Wingdings-Regular"/>
                        </a:rPr>
                        <a:t>Демонстрирует точное и полное понимание вопрос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Wingdings-Regular"/>
                        </a:rPr>
                        <a:t>-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Wingdings-Regular"/>
                        </a:rPr>
                        <a:t>Подкрепляет выводы данными и доказательствам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Wingdings-Regular"/>
                        </a:rPr>
                        <a:t>-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Wingdings-Regular"/>
                        </a:rPr>
                        <a:t>Использует не менее двух идей, примеров и\или аргументов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Wingdings-Regular"/>
                        </a:rPr>
                        <a:t>поддерживающих отв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94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Адекватный (4 балл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Не отвечает на вопрос прямо, но косвенно с ним соотноситс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Даёт адекватный и убедительный отв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Логично и последовательно аргументирует отв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Использует приемлемый стиль и грамматику (ошибок не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Демонстрирует точное, но всего лишь адекватное понимание вопроса, поскольку не подкрепля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выводы доказательствами или данным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 Использует только одну идею, поддерживающую отв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Менее подроб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12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Нуждается в улучш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 Не отвечает на вопро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 Не даёт адекватных ответ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 Обнаруживает недопонимание, неправильные представле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 Ответ неясный и логичес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не организованны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 Не находит приемлемого стиля. Грамматика (2 и более ошибок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 Не демонстрирует точного понимания вопрос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-Не представляет доказательств в пользу своего отве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Не соответств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NewBaskervilleITC-Regular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Oval 140"/>
          <p:cNvSpPr/>
          <p:nvPr/>
        </p:nvSpPr>
        <p:spPr>
          <a:xfrm>
            <a:off x="4800600" y="1828800"/>
            <a:ext cx="4114440" cy="4343040"/>
          </a:xfrm>
          <a:prstGeom prst="ellipse">
            <a:avLst/>
          </a:prstGeom>
          <a:gradFill rotWithShape="0">
            <a:gsLst>
              <a:gs pos="0">
                <a:srgbClr val="eab764"/>
              </a:gs>
              <a:gs pos="100000">
                <a:srgbClr val="003b76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60" strike="noStrike" cap="all">
                <a:solidFill>
                  <a:srgbClr val="303030"/>
                </a:solidFill>
                <a:latin typeface="Arial Black"/>
              </a:rPr>
              <a:t>Критериальное оцен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00"/>
          <p:cNvSpPr/>
          <p:nvPr/>
        </p:nvSpPr>
        <p:spPr>
          <a:xfrm>
            <a:off x="152280" y="1828800"/>
            <a:ext cx="4114440" cy="4343040"/>
          </a:xfrm>
          <a:prstGeom prst="ellipse">
            <a:avLst/>
          </a:prstGeom>
          <a:gradFill rotWithShape="0">
            <a:gsLst>
              <a:gs pos="0">
                <a:srgbClr val="003b76"/>
              </a:gs>
              <a:gs pos="100000">
                <a:srgbClr val="54d060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02"/>
          <p:cNvGrpSpPr/>
          <p:nvPr/>
        </p:nvGrpSpPr>
        <p:grpSpPr>
          <a:xfrm>
            <a:off x="4343400" y="2895480"/>
            <a:ext cx="380520" cy="380520"/>
            <a:chOff x="4343400" y="2895480"/>
            <a:chExt cx="380520" cy="380520"/>
          </a:xfrm>
        </p:grpSpPr>
        <p:sp>
          <p:nvSpPr>
            <p:cNvPr id="173" name="Oval 103"/>
            <p:cNvSpPr/>
            <p:nvPr/>
          </p:nvSpPr>
          <p:spPr>
            <a:xfrm>
              <a:off x="4343400" y="289548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04"/>
            <p:cNvSpPr/>
            <p:nvPr/>
          </p:nvSpPr>
          <p:spPr>
            <a:xfrm>
              <a:off x="4365000" y="291708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05"/>
            <p:cNvSpPr/>
            <p:nvPr/>
          </p:nvSpPr>
          <p:spPr>
            <a:xfrm>
              <a:off x="4384800" y="293724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900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06"/>
            <p:cNvSpPr/>
            <p:nvPr/>
          </p:nvSpPr>
          <p:spPr>
            <a:xfrm>
              <a:off x="4384800" y="293724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07"/>
            <p:cNvSpPr/>
            <p:nvPr/>
          </p:nvSpPr>
          <p:spPr>
            <a:xfrm>
              <a:off x="4404600" y="295668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713800"/>
                </a:gs>
                <a:gs pos="50000">
                  <a:srgbClr val="d26900"/>
                </a:gs>
                <a:gs pos="100000">
                  <a:srgbClr val="713800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08"/>
            <p:cNvSpPr/>
            <p:nvPr/>
          </p:nvSpPr>
          <p:spPr>
            <a:xfrm>
              <a:off x="4404600" y="295668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b6300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09"/>
          <p:cNvGrpSpPr/>
          <p:nvPr/>
        </p:nvGrpSpPr>
        <p:grpSpPr>
          <a:xfrm>
            <a:off x="4343400" y="3352680"/>
            <a:ext cx="380520" cy="380520"/>
            <a:chOff x="4343400" y="3352680"/>
            <a:chExt cx="380520" cy="380520"/>
          </a:xfrm>
        </p:grpSpPr>
        <p:sp>
          <p:nvSpPr>
            <p:cNvPr id="180" name="Oval 110"/>
            <p:cNvSpPr/>
            <p:nvPr/>
          </p:nvSpPr>
          <p:spPr>
            <a:xfrm>
              <a:off x="4343400" y="335268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11"/>
            <p:cNvSpPr/>
            <p:nvPr/>
          </p:nvSpPr>
          <p:spPr>
            <a:xfrm>
              <a:off x="4365000" y="337428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12"/>
            <p:cNvSpPr/>
            <p:nvPr/>
          </p:nvSpPr>
          <p:spPr>
            <a:xfrm>
              <a:off x="4384800" y="339444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900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13"/>
            <p:cNvSpPr/>
            <p:nvPr/>
          </p:nvSpPr>
          <p:spPr>
            <a:xfrm>
              <a:off x="4384800" y="339444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14"/>
            <p:cNvSpPr/>
            <p:nvPr/>
          </p:nvSpPr>
          <p:spPr>
            <a:xfrm>
              <a:off x="4404600" y="341388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713800"/>
                </a:gs>
                <a:gs pos="50000">
                  <a:srgbClr val="d26900"/>
                </a:gs>
                <a:gs pos="100000">
                  <a:srgbClr val="713800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15"/>
            <p:cNvSpPr/>
            <p:nvPr/>
          </p:nvSpPr>
          <p:spPr>
            <a:xfrm>
              <a:off x="4404600" y="341388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16"/>
          <p:cNvGrpSpPr/>
          <p:nvPr/>
        </p:nvGrpSpPr>
        <p:grpSpPr>
          <a:xfrm>
            <a:off x="4343400" y="3809880"/>
            <a:ext cx="380520" cy="380520"/>
            <a:chOff x="4343400" y="3809880"/>
            <a:chExt cx="380520" cy="380520"/>
          </a:xfrm>
        </p:grpSpPr>
        <p:sp>
          <p:nvSpPr>
            <p:cNvPr id="187" name="Oval 117"/>
            <p:cNvSpPr/>
            <p:nvPr/>
          </p:nvSpPr>
          <p:spPr>
            <a:xfrm>
              <a:off x="4343400" y="380988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18"/>
            <p:cNvSpPr/>
            <p:nvPr/>
          </p:nvSpPr>
          <p:spPr>
            <a:xfrm>
              <a:off x="4365000" y="383148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19"/>
            <p:cNvSpPr/>
            <p:nvPr/>
          </p:nvSpPr>
          <p:spPr>
            <a:xfrm>
              <a:off x="4384800" y="385164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900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20"/>
            <p:cNvSpPr/>
            <p:nvPr/>
          </p:nvSpPr>
          <p:spPr>
            <a:xfrm>
              <a:off x="4384800" y="385164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8"/>
                </a:gs>
              </a:gsLst>
              <a:lin ang="54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21"/>
            <p:cNvSpPr/>
            <p:nvPr/>
          </p:nvSpPr>
          <p:spPr>
            <a:xfrm>
              <a:off x="4404600" y="387108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713800"/>
                </a:gs>
                <a:gs pos="50000">
                  <a:srgbClr val="d26900"/>
                </a:gs>
                <a:gs pos="100000">
                  <a:srgbClr val="713800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22"/>
            <p:cNvSpPr/>
            <p:nvPr/>
          </p:nvSpPr>
          <p:spPr>
            <a:xfrm>
              <a:off x="4404600" y="387108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23"/>
          <p:cNvGrpSpPr/>
          <p:nvPr/>
        </p:nvGrpSpPr>
        <p:grpSpPr>
          <a:xfrm>
            <a:off x="4343400" y="4267080"/>
            <a:ext cx="380520" cy="380520"/>
            <a:chOff x="4343400" y="4267080"/>
            <a:chExt cx="380520" cy="380520"/>
          </a:xfrm>
        </p:grpSpPr>
        <p:sp>
          <p:nvSpPr>
            <p:cNvPr id="194" name="Oval 124"/>
            <p:cNvSpPr/>
            <p:nvPr/>
          </p:nvSpPr>
          <p:spPr>
            <a:xfrm>
              <a:off x="4343400" y="426708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25"/>
            <p:cNvSpPr/>
            <p:nvPr/>
          </p:nvSpPr>
          <p:spPr>
            <a:xfrm>
              <a:off x="4365000" y="428868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26"/>
            <p:cNvSpPr/>
            <p:nvPr/>
          </p:nvSpPr>
          <p:spPr>
            <a:xfrm>
              <a:off x="4384800" y="430884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900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27"/>
            <p:cNvSpPr/>
            <p:nvPr/>
          </p:nvSpPr>
          <p:spPr>
            <a:xfrm>
              <a:off x="4384800" y="430884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28"/>
            <p:cNvSpPr/>
            <p:nvPr/>
          </p:nvSpPr>
          <p:spPr>
            <a:xfrm>
              <a:off x="4404600" y="432828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713800"/>
                </a:gs>
                <a:gs pos="50000">
                  <a:srgbClr val="d26900"/>
                </a:gs>
                <a:gs pos="100000">
                  <a:srgbClr val="713800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9"/>
            <p:cNvSpPr/>
            <p:nvPr/>
          </p:nvSpPr>
          <p:spPr>
            <a:xfrm>
              <a:off x="4404600" y="432828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4326d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30"/>
          <p:cNvGrpSpPr/>
          <p:nvPr/>
        </p:nvGrpSpPr>
        <p:grpSpPr>
          <a:xfrm>
            <a:off x="4343400" y="4724280"/>
            <a:ext cx="380520" cy="380520"/>
            <a:chOff x="4343400" y="4724280"/>
            <a:chExt cx="380520" cy="380520"/>
          </a:xfrm>
        </p:grpSpPr>
        <p:sp>
          <p:nvSpPr>
            <p:cNvPr id="201" name="Oval 131"/>
            <p:cNvSpPr/>
            <p:nvPr/>
          </p:nvSpPr>
          <p:spPr>
            <a:xfrm>
              <a:off x="4343400" y="472428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32"/>
            <p:cNvSpPr/>
            <p:nvPr/>
          </p:nvSpPr>
          <p:spPr>
            <a:xfrm>
              <a:off x="4365000" y="474588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33"/>
            <p:cNvSpPr/>
            <p:nvPr/>
          </p:nvSpPr>
          <p:spPr>
            <a:xfrm>
              <a:off x="4384800" y="476604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900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34"/>
            <p:cNvSpPr/>
            <p:nvPr/>
          </p:nvSpPr>
          <p:spPr>
            <a:xfrm>
              <a:off x="4384800" y="476604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35"/>
            <p:cNvSpPr/>
            <p:nvPr/>
          </p:nvSpPr>
          <p:spPr>
            <a:xfrm>
              <a:off x="4404600" y="478548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713800"/>
                </a:gs>
                <a:gs pos="50000">
                  <a:srgbClr val="d26900"/>
                </a:gs>
                <a:gs pos="100000">
                  <a:srgbClr val="713800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36"/>
            <p:cNvSpPr/>
            <p:nvPr/>
          </p:nvSpPr>
          <p:spPr>
            <a:xfrm>
              <a:off x="4404600" y="478548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d11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4"/>
          <p:cNvSpPr/>
          <p:nvPr/>
        </p:nvSpPr>
        <p:spPr>
          <a:xfrm>
            <a:off x="5371200" y="2643120"/>
            <a:ext cx="28771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емк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а первом этап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0"/>
          <p:cNvSpPr/>
          <p:nvPr/>
        </p:nvSpPr>
        <p:spPr>
          <a:xfrm>
            <a:off x="4877640" y="3786120"/>
            <a:ext cx="41983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держки адаптацио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2"/>
          <p:cNvSpPr/>
          <p:nvPr/>
        </p:nvSpPr>
        <p:spPr>
          <a:xfrm>
            <a:off x="446760" y="3071880"/>
            <a:ext cx="3825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жение трев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4"/>
          <p:cNvSpPr/>
          <p:nvPr/>
        </p:nvSpPr>
        <p:spPr>
          <a:xfrm>
            <a:off x="1012320" y="2571840"/>
            <a:ext cx="2544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6"/>
          <p:cNvSpPr/>
          <p:nvPr/>
        </p:nvSpPr>
        <p:spPr>
          <a:xfrm>
            <a:off x="1081800" y="2071800"/>
            <a:ext cx="2317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зра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8"/>
          <p:cNvSpPr/>
          <p:nvPr/>
        </p:nvSpPr>
        <p:spPr>
          <a:xfrm>
            <a:off x="214200" y="3571920"/>
            <a:ext cx="40716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ение собственных достижений с этало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8"/>
          <p:cNvSpPr/>
          <p:nvPr/>
        </p:nvSpPr>
        <p:spPr>
          <a:xfrm>
            <a:off x="1071360" y="1357200"/>
            <a:ext cx="2571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9"/>
          <p:cNvSpPr/>
          <p:nvPr/>
        </p:nvSpPr>
        <p:spPr>
          <a:xfrm>
            <a:off x="4929120" y="1357200"/>
            <a:ext cx="4071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0"/>
          <p:cNvSpPr/>
          <p:nvPr/>
        </p:nvSpPr>
        <p:spPr>
          <a:xfrm>
            <a:off x="428760" y="5715000"/>
            <a:ext cx="3714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ство треб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1"/>
          <p:cNvSpPr/>
          <p:nvPr/>
        </p:nvSpPr>
        <p:spPr>
          <a:xfrm>
            <a:off x="214200" y="4429080"/>
            <a:ext cx="4214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ь самооценки, самоанализа, само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97" strike="noStrike" cap="all">
                <a:solidFill>
                  <a:schemeClr val="accent1">
                    <a:lumMod val="75000"/>
                  </a:schemeClr>
                </a:solidFill>
                <a:latin typeface="Arial Black"/>
              </a:rPr>
              <a:t>Этапы разработки системы критериального оцени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357120" y="1500120"/>
            <a:ext cx="8357760" cy="4928760"/>
            <a:chOff x="357120" y="1500120"/>
            <a:chExt cx="8357760" cy="4928760"/>
          </a:xfrm>
        </p:grpSpPr>
        <p:sp>
          <p:nvSpPr>
            <p:cNvPr id="219" name="Freeform 4"/>
            <p:cNvSpPr/>
            <p:nvPr/>
          </p:nvSpPr>
          <p:spPr>
            <a:xfrm>
              <a:off x="8020800" y="1500120"/>
              <a:ext cx="686520" cy="1244160"/>
            </a:xfrm>
            <a:custGeom>
              <a:avLst/>
              <a:gdLst>
                <a:gd name="textAreaLeft" fmla="*/ 0 w 686520"/>
                <a:gd name="textAreaRight" fmla="*/ 686880 w 68652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30040" y="1500120"/>
              <a:ext cx="3984840" cy="795960"/>
            </a:xfrm>
            <a:custGeom>
              <a:avLst/>
              <a:gdLst>
                <a:gd name="textAreaLeft" fmla="*/ 0 w 3984840"/>
                <a:gd name="textAreaRight" fmla="*/ 3985200 w 3984840"/>
                <a:gd name="textAreaTop" fmla="*/ 0 h 795960"/>
                <a:gd name="textAreaBottom" fmla="*/ 796320 h 79596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7329240" y="2736000"/>
              <a:ext cx="686520" cy="1237320"/>
            </a:xfrm>
            <a:custGeom>
              <a:avLst/>
              <a:gdLst>
                <a:gd name="textAreaLeft" fmla="*/ 0 w 686520"/>
                <a:gd name="textAreaRight" fmla="*/ 686880 w 686520"/>
                <a:gd name="textAreaTop" fmla="*/ 0 h 1237320"/>
                <a:gd name="textAreaBottom" fmla="*/ 1237680 h 123732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739680" y="2736000"/>
              <a:ext cx="4284000" cy="794160"/>
            </a:xfrm>
            <a:custGeom>
              <a:avLst/>
              <a:gdLst>
                <a:gd name="textAreaLeft" fmla="*/ 0 w 4284000"/>
                <a:gd name="textAreaRight" fmla="*/ 4284360 w 4284000"/>
                <a:gd name="textAreaTop" fmla="*/ 0 h 794160"/>
                <a:gd name="textAreaBottom" fmla="*/ 794520 h 79416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636240" y="3959640"/>
              <a:ext cx="683280" cy="1242360"/>
            </a:xfrm>
            <a:custGeom>
              <a:avLst/>
              <a:gdLst>
                <a:gd name="textAreaLeft" fmla="*/ 0 w 683280"/>
                <a:gd name="textAreaRight" fmla="*/ 683640 w 683280"/>
                <a:gd name="textAreaTop" fmla="*/ 0 h 1242360"/>
                <a:gd name="textAreaBottom" fmla="*/ 1242720 h 124236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947920" y="5184720"/>
              <a:ext cx="687960" cy="124416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1771200" y="5191920"/>
              <a:ext cx="4864680" cy="794160"/>
            </a:xfrm>
            <a:custGeom>
              <a:avLst/>
              <a:gdLst>
                <a:gd name="textAreaLeft" fmla="*/ 0 w 4864680"/>
                <a:gd name="textAreaRight" fmla="*/ 4865040 w 4864680"/>
                <a:gd name="textAreaTop" fmla="*/ 0 h 794160"/>
                <a:gd name="textAreaBottom" fmla="*/ 794520 h 79416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357120" y="6420240"/>
              <a:ext cx="141408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357120" y="5184720"/>
              <a:ext cx="240300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357120" y="3964680"/>
              <a:ext cx="339192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357120" y="2746440"/>
              <a:ext cx="438048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357120" y="1508760"/>
              <a:ext cx="536940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570240" y="1500120"/>
              <a:ext cx="360" cy="12816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570240" y="2781720"/>
              <a:ext cx="360" cy="12006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570240" y="3982320"/>
              <a:ext cx="360" cy="12006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570240" y="5184720"/>
              <a:ext cx="360" cy="12002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476800" y="1740240"/>
              <a:ext cx="2190960" cy="4003920"/>
            </a:xfrm>
            <a:custGeom>
              <a:avLst/>
              <a:gdLst>
                <a:gd name="textAreaLeft" fmla="*/ 0 w 2190960"/>
                <a:gd name="textAreaRight" fmla="*/ 2191320 w 2190960"/>
                <a:gd name="textAreaTop" fmla="*/ 0 h 4003920"/>
                <a:gd name="textAreaBottom" fmla="*/ 4004280 h 400392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36520" y="2296440"/>
              <a:ext cx="3299760" cy="44640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714840" y="3500640"/>
              <a:ext cx="3642120" cy="499320"/>
            </a:xfrm>
            <a:prstGeom prst="rect">
              <a:avLst/>
            </a:prstGeom>
            <a:gradFill rotWithShape="0">
              <a:gsLst>
                <a:gs pos="0">
                  <a:srgbClr val="5c2fb8"/>
                </a:gs>
                <a:gs pos="50000">
                  <a:srgbClr val="8041ff"/>
                </a:gs>
                <a:gs pos="100000">
                  <a:srgbClr val="5c2fb8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d0d0d"/>
                </a:solidFill>
                <a:latin typeface="Arial Black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756880" y="3959640"/>
              <a:ext cx="4570560" cy="80100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801000"/>
                <a:gd name="textAreaBottom" fmla="*/ 801360 h 80100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760120" y="4759200"/>
              <a:ext cx="3891600" cy="437400"/>
            </a:xfrm>
            <a:prstGeom prst="rect">
              <a:avLst/>
            </a:prstGeom>
            <a:gradFill rotWithShape="0">
              <a:gsLst>
                <a:gs pos="0">
                  <a:srgbClr val="9f513a"/>
                </a:gs>
                <a:gs pos="50000">
                  <a:srgbClr val="dc7150"/>
                </a:gs>
                <a:gs pos="100000">
                  <a:srgbClr val="9f513a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1769760" y="5987880"/>
              <a:ext cx="4187160" cy="43740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663120" y="1976760"/>
              <a:ext cx="1572480" cy="7902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3200" spc="-1" strike="noStrike" u="sng" cap="all">
                  <a:solidFill>
                    <a:schemeClr val="accent1">
                      <a:lumMod val="75000"/>
                    </a:schemeClr>
                  </a:solidFill>
                  <a:uFillTx/>
                  <a:latin typeface="Arial Black"/>
                </a:rPr>
                <a:t>4 ша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650880" y="3191400"/>
              <a:ext cx="1397160" cy="729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800" spc="-1" strike="noStrike" u="sng" cap="all">
                  <a:solidFill>
                    <a:schemeClr val="accent1">
                      <a:lumMod val="75000"/>
                    </a:schemeClr>
                  </a:solidFill>
                  <a:uFillTx/>
                  <a:latin typeface="Arial Black"/>
                </a:rPr>
                <a:t>3 шаг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572040" y="4642560"/>
              <a:ext cx="1398240" cy="6685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400" spc="-1" strike="noStrike" u="sng" cap="all">
                  <a:solidFill>
                    <a:schemeClr val="accent1">
                      <a:lumMod val="75000"/>
                    </a:schemeClr>
                  </a:solidFill>
                  <a:uFillTx/>
                  <a:latin typeface="Arial Black"/>
                </a:rPr>
                <a:t>2 шаг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559440" y="5647320"/>
              <a:ext cx="206640" cy="389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5" name="Прямоугольник 29"/>
          <p:cNvSpPr/>
          <p:nvPr/>
        </p:nvSpPr>
        <p:spPr>
          <a:xfrm>
            <a:off x="636480" y="5929200"/>
            <a:ext cx="1051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Arial Black"/>
              </a:rPr>
              <a:t>1 ша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0"/>
          <p:cNvSpPr/>
          <p:nvPr/>
        </p:nvSpPr>
        <p:spPr>
          <a:xfrm>
            <a:off x="1785960" y="5572080"/>
            <a:ext cx="49287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Изучение экспериментальной интегрированной учебной программы, постановка целей и задач по предм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31"/>
          <p:cNvSpPr/>
          <p:nvPr/>
        </p:nvSpPr>
        <p:spPr>
          <a:xfrm>
            <a:off x="2571840" y="4429080"/>
            <a:ext cx="4571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Разработка общих критериев оценивания учебных достижений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2"/>
          <p:cNvSpPr/>
          <p:nvPr/>
        </p:nvSpPr>
        <p:spPr>
          <a:xfrm>
            <a:off x="4143240" y="1785960"/>
            <a:ext cx="43574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Реализация критериального оценивания по конкретным темам предм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3"/>
          <p:cNvSpPr/>
          <p:nvPr/>
        </p:nvSpPr>
        <p:spPr>
          <a:xfrm>
            <a:off x="3643200" y="3214800"/>
            <a:ext cx="4000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Разработка критери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шкалы  оцен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60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Arial Black"/>
              </a:rPr>
              <a:t>1 шаг:</a:t>
            </a:r>
            <a:r>
              <a:rPr b="0" lang="ru-RU" sz="2400" spc="-60" strike="noStrike" cap="all">
                <a:solidFill>
                  <a:srgbClr val="303030"/>
                </a:solidFill>
                <a:latin typeface="Arial Black"/>
              </a:rPr>
              <a:t> постановка целей и задач по предмету</a:t>
            </a:r>
            <a:r>
              <a:rPr b="0" lang="ru-RU" sz="2400" spc="-60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Arial Black"/>
              </a:rPr>
              <a:t>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05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Цель учебного предмета "Русский язык" :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одействие становлению и развитию личности, способной использовать навыки чтения, письма, виды речевой деятельности на русском языке в реальной жизни; готовой к творческой самореализации и совершенствованию коммуникативных навыков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60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Arial Black"/>
              </a:rPr>
              <a:t>2 шаг:</a:t>
            </a:r>
            <a:r>
              <a:rPr b="0" lang="ru-RU" sz="2000" spc="-60" strike="noStrike" cap="all">
                <a:solidFill>
                  <a:srgbClr val="303030"/>
                </a:solidFill>
                <a:latin typeface="Arial Black"/>
              </a:rPr>
              <a:t> </a:t>
            </a:r>
            <a:br>
              <a:rPr sz="2000"/>
            </a:br>
            <a:r>
              <a:rPr b="0" lang="ru-RU" sz="2000" spc="-60" strike="noStrike" cap="all">
                <a:solidFill>
                  <a:schemeClr val="accent1">
                    <a:lumMod val="75000"/>
                  </a:schemeClr>
                </a:solidFill>
                <a:latin typeface="Constantia"/>
              </a:rPr>
              <a:t>ОБЩИЕ КРИТЕРИИ ОЦЕНИВАНИЯ УЧЕБНЫХ ДОСТИЖЕНИЙ УЧАЩИХСЯ ПО ПРЕДМЕТУ </a:t>
            </a:r>
            <a:r>
              <a:rPr b="0" lang="ru-RU" sz="2400" spc="-60" strike="noStrike" cap="all">
                <a:solidFill>
                  <a:schemeClr val="accent1">
                    <a:lumMod val="75000"/>
                  </a:schemeClr>
                </a:solidFill>
                <a:latin typeface="Constantia"/>
              </a:rPr>
              <a:t>«Русский язы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Group 70"/>
          <p:cNvGraphicFramePr/>
          <p:nvPr/>
        </p:nvGraphicFramePr>
        <p:xfrm>
          <a:off x="685800" y="1905120"/>
          <a:ext cx="7814880" cy="4341240"/>
        </p:xfrm>
        <a:graphic>
          <a:graphicData uri="http://schemas.openxmlformats.org/drawingml/2006/table">
            <a:tbl>
              <a:tblPr/>
              <a:tblGrid>
                <a:gridCol w="1814400"/>
                <a:gridCol w="3357360"/>
                <a:gridCol w="2643120"/>
              </a:tblGrid>
              <a:tr h="1357920">
                <a:tc>
                  <a:txBody>
                    <a:bodyPr anchor="ctr">
                      <a:noAutofit/>
                    </a:bodyPr>
                    <a:p>
                      <a:endParaRPr b="0" lang="ru-RU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ксимальный уровень достижений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</a:tr>
              <a:tr h="53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 cap="all">
                          <a:solidFill>
                            <a:schemeClr val="accent4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 cap="all">
                          <a:solidFill>
                            <a:schemeClr val="accent4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26056"/>
                        </a:gs>
                        <a:gs pos="100000">
                          <a:srgbClr val="b6ada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9c4040"/>
                          </a:solidFill>
                          <a:latin typeface="Franklin Gothic Book"/>
                        </a:rPr>
                        <a:t>Знание и воспроиз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30303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0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 cap="all">
                          <a:solidFill>
                            <a:schemeClr val="accent4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 cap="all">
                          <a:solidFill>
                            <a:schemeClr val="accent4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26056"/>
                        </a:gs>
                        <a:gs pos="100000">
                          <a:srgbClr val="b6ada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9c4040"/>
                          </a:solidFill>
                          <a:latin typeface="Franklin Gothic Book"/>
                        </a:rPr>
                        <a:t>Понимание и приме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30303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0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 cap="all">
                          <a:solidFill>
                            <a:schemeClr val="accent4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 cap="all">
                          <a:solidFill>
                            <a:schemeClr val="accent4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26056"/>
                        </a:gs>
                        <a:gs pos="100000">
                          <a:srgbClr val="b6ada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9c4040"/>
                          </a:solidFill>
                          <a:latin typeface="Franklin Gothic Book"/>
                        </a:rPr>
                        <a:t>Интеграция знаний, практическая грамо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303030"/>
                          </a:solidFill>
                          <a:latin typeface="Arial Black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0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 cap="all">
                          <a:solidFill>
                            <a:schemeClr val="accent4"/>
                          </a:solidFill>
                          <a:latin typeface="Arial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26056"/>
                        </a:gs>
                        <a:gs pos="100000">
                          <a:srgbClr val="b6ada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ru-RU" sz="20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303030"/>
                          </a:solidFill>
                          <a:latin typeface="Arial Black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2960" y="1357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60" strike="noStrike" cap="all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Шкала перевода баллов в отме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0040" y="3000240"/>
            <a:ext cx="8229240" cy="31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7-2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баллов- отметка «5»  (100%-89%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4-1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баллов – отметка «4»  (75%-88%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2-1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баллов- отметка «3»  (61%-74%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менее баллов- отметка «2» (60% и менее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9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60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Arial Black"/>
              </a:rPr>
              <a:t>3 шаг : Разработка критериальной шкалы</a:t>
            </a:r>
            <a:br>
              <a:rPr sz="2000"/>
            </a:br>
            <a:r>
              <a:rPr b="0" lang="ru-RU" sz="2000" spc="-60" strike="noStrike" cap="all">
                <a:solidFill>
                  <a:schemeClr val="accent1">
                    <a:lumMod val="75000"/>
                  </a:schemeClr>
                </a:solidFill>
                <a:latin typeface="Constantia"/>
              </a:rPr>
              <a:t>Критериальная шкала оценивания учащихся по предметному блоку «Русская словесн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214200" y="1500120"/>
            <a:ext cx="2304720" cy="833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dbd6f"/>
              </a:gs>
              <a:gs pos="100000">
                <a:srgbClr val="8f834d"/>
              </a:gs>
            </a:gsLst>
            <a:lin ang="5400000"/>
          </a:gradFill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 cap="all">
                <a:solidFill>
                  <a:schemeClr val="accent4"/>
                </a:solidFill>
                <a:latin typeface="Arial"/>
              </a:rPr>
              <a:t>кри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214200" y="2714760"/>
            <a:ext cx="2304720" cy="18093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c9900"/>
              </a:gs>
              <a:gs pos="100000">
                <a:srgbClr val="8e6a00"/>
              </a:gs>
            </a:gsLst>
            <a:lin ang="5400000"/>
          </a:gradFill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2"/>
          <p:cNvSpPr/>
          <p:nvPr/>
        </p:nvSpPr>
        <p:spPr>
          <a:xfrm>
            <a:off x="1295280" y="3124080"/>
            <a:ext cx="684000" cy="685440"/>
          </a:xfrm>
          <a:custGeom>
            <a:avLst/>
            <a:gdLst>
              <a:gd name="textAreaLeft" fmla="*/ 0 w 684000"/>
              <a:gd name="textAreaRight" fmla="*/ 684360 w 68400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ecd9a1"/>
              </a:gs>
              <a:gs pos="50000">
                <a:srgbClr val="cc9900"/>
              </a:gs>
              <a:gs pos="100000">
                <a:srgbClr val="ecd9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428760" y="3214800"/>
            <a:ext cx="2214360" cy="115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 u="sng" cap="all">
                <a:solidFill>
                  <a:schemeClr val="accent4"/>
                </a:solidFill>
                <a:uFillTx/>
                <a:latin typeface="Arial"/>
              </a:rPr>
              <a:t>А (6 </a:t>
            </a:r>
            <a:r>
              <a:rPr b="1" lang="en-US" sz="2800" spc="-1" strike="noStrike" u="sng" cap="all">
                <a:solidFill>
                  <a:schemeClr val="accent4"/>
                </a:solidFill>
                <a:uFillTx/>
                <a:latin typeface="Arial"/>
              </a:rPr>
              <a:t>max</a:t>
            </a:r>
            <a:r>
              <a:rPr b="1" lang="ru-RU" sz="2800" spc="-1" strike="noStrike" u="sng" cap="all">
                <a:solidFill>
                  <a:schemeClr val="accent4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 cap="all">
                <a:solidFill>
                  <a:schemeClr val="accent5">
                    <a:lumMod val="75000"/>
                  </a:schemeClr>
                </a:solidFill>
                <a:latin typeface="Arial"/>
              </a:rPr>
              <a:t>Знание и воспроиз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6"/>
          <p:cNvGrpSpPr/>
          <p:nvPr/>
        </p:nvGrpSpPr>
        <p:grpSpPr>
          <a:xfrm>
            <a:off x="2720880" y="2571840"/>
            <a:ext cx="6064560" cy="4182120"/>
            <a:chOff x="2720880" y="2571840"/>
            <a:chExt cx="6064560" cy="4182120"/>
          </a:xfrm>
        </p:grpSpPr>
        <p:grpSp>
          <p:nvGrpSpPr>
            <p:cNvPr id="262" name="Group 22"/>
            <p:cNvGrpSpPr/>
            <p:nvPr/>
          </p:nvGrpSpPr>
          <p:grpSpPr>
            <a:xfrm>
              <a:off x="2720880" y="2571840"/>
              <a:ext cx="6064560" cy="4182120"/>
              <a:chOff x="2720880" y="2571840"/>
              <a:chExt cx="6064560" cy="4182120"/>
            </a:xfrm>
          </p:grpSpPr>
          <p:sp>
            <p:nvSpPr>
              <p:cNvPr id="263" name="AutoShape 9"/>
              <p:cNvSpPr/>
              <p:nvPr/>
            </p:nvSpPr>
            <p:spPr>
              <a:xfrm>
                <a:off x="2785680" y="2571840"/>
                <a:ext cx="5999760" cy="4182120"/>
              </a:xfrm>
              <a:prstGeom prst="roundRect">
                <a:avLst>
                  <a:gd name="adj" fmla="val 10889"/>
                </a:avLst>
              </a:prstGeom>
              <a:solidFill>
                <a:srgbClr val="c0c0c0"/>
              </a:soli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1"/>
              <p:cNvSpPr/>
              <p:nvPr/>
            </p:nvSpPr>
            <p:spPr>
              <a:xfrm>
                <a:off x="2720880" y="3067560"/>
                <a:ext cx="696960" cy="1946520"/>
              </a:xfrm>
              <a:custGeom>
                <a:avLst/>
                <a:gdLst>
                  <a:gd name="textAreaLeft" fmla="*/ 0 w 696960"/>
                  <a:gd name="textAreaRight" fmla="*/ 697320 w 696960"/>
                  <a:gd name="textAreaTop" fmla="*/ 0 h 1946520"/>
                  <a:gd name="textAreaBottom" fmla="*/ 1946880 h 19465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e8"/>
                  </a:gs>
                  <a:gs pos="50000">
                    <a:srgbClr val="c0c0c0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 Box 14"/>
            <p:cNvSpPr/>
            <p:nvPr/>
          </p:nvSpPr>
          <p:spPr>
            <a:xfrm>
              <a:off x="2953800" y="2643840"/>
              <a:ext cx="5689080" cy="707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27"/>
          <p:cNvGrpSpPr/>
          <p:nvPr/>
        </p:nvGrpSpPr>
        <p:grpSpPr>
          <a:xfrm>
            <a:off x="2743200" y="1523880"/>
            <a:ext cx="6043320" cy="833040"/>
            <a:chOff x="2743200" y="1523880"/>
            <a:chExt cx="6043320" cy="833040"/>
          </a:xfrm>
        </p:grpSpPr>
        <p:grpSp>
          <p:nvGrpSpPr>
            <p:cNvPr id="267" name="Group 28"/>
            <p:cNvGrpSpPr/>
            <p:nvPr/>
          </p:nvGrpSpPr>
          <p:grpSpPr>
            <a:xfrm>
              <a:off x="2743200" y="1523880"/>
              <a:ext cx="6043320" cy="833040"/>
              <a:chOff x="2743200" y="1523880"/>
              <a:chExt cx="6043320" cy="833040"/>
            </a:xfrm>
          </p:grpSpPr>
          <p:sp>
            <p:nvSpPr>
              <p:cNvPr id="268" name="AutoShape 29"/>
              <p:cNvSpPr/>
              <p:nvPr/>
            </p:nvSpPr>
            <p:spPr>
              <a:xfrm>
                <a:off x="2743200" y="1523880"/>
                <a:ext cx="6043320" cy="833040"/>
              </a:xfrm>
              <a:prstGeom prst="roundRect">
                <a:avLst>
                  <a:gd name="adj" fmla="val 10889"/>
                </a:avLst>
              </a:prstGeom>
              <a:solidFill>
                <a:srgbClr val="c0c0c0"/>
              </a:soli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30"/>
              <p:cNvSpPr/>
              <p:nvPr/>
            </p:nvSpPr>
            <p:spPr>
              <a:xfrm>
                <a:off x="2832120" y="1570320"/>
                <a:ext cx="797760" cy="415440"/>
              </a:xfrm>
              <a:custGeom>
                <a:avLst/>
                <a:gdLst>
                  <a:gd name="textAreaLeft" fmla="*/ 0 w 797760"/>
                  <a:gd name="textAreaRight" fmla="*/ 798120 w 797760"/>
                  <a:gd name="textAreaTop" fmla="*/ 0 h 415440"/>
                  <a:gd name="textAreaBottom" fmla="*/ 415800 h 41544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e8"/>
                  </a:gs>
                  <a:gs pos="50000">
                    <a:srgbClr val="c0c0c0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Text Box 31"/>
            <p:cNvSpPr/>
            <p:nvPr/>
          </p:nvSpPr>
          <p:spPr>
            <a:xfrm>
              <a:off x="3098880" y="1714680"/>
              <a:ext cx="5421240" cy="369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Прямоугольник 28"/>
          <p:cNvSpPr/>
          <p:nvPr/>
        </p:nvSpPr>
        <p:spPr>
          <a:xfrm>
            <a:off x="3143160" y="1643040"/>
            <a:ext cx="4071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 cap="all">
                <a:solidFill>
                  <a:srgbClr val="000000"/>
                </a:solidFill>
                <a:latin typeface="Arial"/>
              </a:rPr>
              <a:t>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9"/>
          <p:cNvSpPr/>
          <p:nvPr/>
        </p:nvSpPr>
        <p:spPr>
          <a:xfrm>
            <a:off x="3000240" y="2714760"/>
            <a:ext cx="54288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ащий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ладеет разными видами речевой деятельности (слушание, чтение,  говорение, письмо) и диалогическими форм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0"/>
          <p:cNvSpPr/>
          <p:nvPr/>
        </p:nvSpPr>
        <p:spPr>
          <a:xfrm>
            <a:off x="3000240" y="4357800"/>
            <a:ext cx="5357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меет употреблять в речи знакомые фразы и выражения, необходимые для выполнения конкретных зада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2"/>
          <p:cNvSpPr/>
          <p:nvPr/>
        </p:nvSpPr>
        <p:spPr>
          <a:xfrm>
            <a:off x="3000240" y="5500800"/>
            <a:ext cx="5428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нает  терминологию и специальную лекс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60" strike="noStrike" cap="all">
                <a:solidFill>
                  <a:schemeClr val="accent1">
                    <a:lumMod val="75000"/>
                  </a:schemeClr>
                </a:solidFill>
                <a:latin typeface="Constantia"/>
              </a:rPr>
              <a:t>Критериальная шкала оценивания учащихся по предметному блоку «Русская словесн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214200" y="1500120"/>
            <a:ext cx="2304720" cy="833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dbd6f"/>
              </a:gs>
              <a:gs pos="100000">
                <a:srgbClr val="8f834d"/>
              </a:gs>
            </a:gsLst>
            <a:lin ang="5400000"/>
          </a:gradFill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 cap="all">
                <a:solidFill>
                  <a:schemeClr val="accent4"/>
                </a:solidFill>
                <a:latin typeface="Arial"/>
              </a:rPr>
              <a:t>кри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285840" y="2786040"/>
            <a:ext cx="2304720" cy="18093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c9900"/>
              </a:gs>
              <a:gs pos="100000">
                <a:srgbClr val="8e6a00"/>
              </a:gs>
            </a:gsLst>
            <a:lin ang="5400000"/>
          </a:gradFill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2"/>
          <p:cNvSpPr/>
          <p:nvPr/>
        </p:nvSpPr>
        <p:spPr>
          <a:xfrm>
            <a:off x="1295280" y="3124080"/>
            <a:ext cx="684000" cy="685440"/>
          </a:xfrm>
          <a:custGeom>
            <a:avLst/>
            <a:gdLst>
              <a:gd name="textAreaLeft" fmla="*/ 0 w 684000"/>
              <a:gd name="textAreaRight" fmla="*/ 684360 w 68400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ecd9a1"/>
              </a:gs>
              <a:gs pos="50000">
                <a:srgbClr val="cc9900"/>
              </a:gs>
              <a:gs pos="100000">
                <a:srgbClr val="ecd9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428760" y="3214800"/>
            <a:ext cx="2214360" cy="136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 u="sng" cap="all">
                <a:solidFill>
                  <a:schemeClr val="accent4"/>
                </a:solidFill>
                <a:uFillTx/>
                <a:latin typeface="Arial"/>
              </a:rPr>
              <a:t>В (6 </a:t>
            </a:r>
            <a:r>
              <a:rPr b="1" lang="en-US" sz="2800" spc="-1" strike="noStrike" u="sng" cap="all">
                <a:solidFill>
                  <a:schemeClr val="accent4"/>
                </a:solidFill>
                <a:uFillTx/>
                <a:latin typeface="Arial"/>
              </a:rPr>
              <a:t>max</a:t>
            </a:r>
            <a:r>
              <a:rPr b="1" lang="ru-RU" sz="2800" spc="-1" strike="noStrike" u="sng" cap="all">
                <a:solidFill>
                  <a:schemeClr val="accent4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1400" spc="-1" strike="noStrike" cap="all">
                <a:solidFill>
                  <a:schemeClr val="accent5">
                    <a:lumMod val="75000"/>
                  </a:schemeClr>
                </a:solidFill>
                <a:latin typeface="Arial"/>
              </a:rPr>
              <a:t>Понимание и примен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6"/>
          <p:cNvGrpSpPr/>
          <p:nvPr/>
        </p:nvGrpSpPr>
        <p:grpSpPr>
          <a:xfrm>
            <a:off x="2714760" y="2786040"/>
            <a:ext cx="6064200" cy="3762360"/>
            <a:chOff x="2714760" y="2786040"/>
            <a:chExt cx="6064200" cy="3762360"/>
          </a:xfrm>
        </p:grpSpPr>
        <p:grpSp>
          <p:nvGrpSpPr>
            <p:cNvPr id="281" name="Group 22"/>
            <p:cNvGrpSpPr/>
            <p:nvPr/>
          </p:nvGrpSpPr>
          <p:grpSpPr>
            <a:xfrm>
              <a:off x="2714760" y="2786040"/>
              <a:ext cx="6064200" cy="3762360"/>
              <a:chOff x="2714760" y="2786040"/>
              <a:chExt cx="6064200" cy="3762360"/>
            </a:xfrm>
          </p:grpSpPr>
          <p:sp>
            <p:nvSpPr>
              <p:cNvPr id="282" name="AutoShape 9"/>
              <p:cNvSpPr/>
              <p:nvPr/>
            </p:nvSpPr>
            <p:spPr>
              <a:xfrm>
                <a:off x="2779200" y="2786040"/>
                <a:ext cx="5999760" cy="3762360"/>
              </a:xfrm>
              <a:prstGeom prst="roundRect">
                <a:avLst>
                  <a:gd name="adj" fmla="val 10889"/>
                </a:avLst>
              </a:prstGeom>
              <a:solidFill>
                <a:srgbClr val="c0c0c0"/>
              </a:soli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1"/>
              <p:cNvSpPr/>
              <p:nvPr/>
            </p:nvSpPr>
            <p:spPr>
              <a:xfrm>
                <a:off x="2714760" y="3043080"/>
                <a:ext cx="696960" cy="1850760"/>
              </a:xfrm>
              <a:custGeom>
                <a:avLst/>
                <a:gdLst>
                  <a:gd name="textAreaLeft" fmla="*/ 0 w 696960"/>
                  <a:gd name="textAreaRight" fmla="*/ 697320 w 696960"/>
                  <a:gd name="textAreaTop" fmla="*/ 0 h 1850760"/>
                  <a:gd name="textAreaBottom" fmla="*/ 1851120 h 185076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e8"/>
                  </a:gs>
                  <a:gs pos="50000">
                    <a:srgbClr val="c0c0c0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14"/>
            <p:cNvSpPr/>
            <p:nvPr/>
          </p:nvSpPr>
          <p:spPr>
            <a:xfrm>
              <a:off x="3000960" y="4787280"/>
              <a:ext cx="5689080" cy="46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ru-RU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285" name="Group 27"/>
          <p:cNvGrpSpPr/>
          <p:nvPr/>
        </p:nvGrpSpPr>
        <p:grpSpPr>
          <a:xfrm>
            <a:off x="2743200" y="1523880"/>
            <a:ext cx="6043320" cy="833040"/>
            <a:chOff x="2743200" y="1523880"/>
            <a:chExt cx="6043320" cy="833040"/>
          </a:xfrm>
        </p:grpSpPr>
        <p:grpSp>
          <p:nvGrpSpPr>
            <p:cNvPr id="286" name="Group 28"/>
            <p:cNvGrpSpPr/>
            <p:nvPr/>
          </p:nvGrpSpPr>
          <p:grpSpPr>
            <a:xfrm>
              <a:off x="2743200" y="1523880"/>
              <a:ext cx="6043320" cy="833040"/>
              <a:chOff x="2743200" y="1523880"/>
              <a:chExt cx="6043320" cy="833040"/>
            </a:xfrm>
          </p:grpSpPr>
          <p:sp>
            <p:nvSpPr>
              <p:cNvPr id="287" name="AutoShape 29"/>
              <p:cNvSpPr/>
              <p:nvPr/>
            </p:nvSpPr>
            <p:spPr>
              <a:xfrm>
                <a:off x="2743200" y="1523880"/>
                <a:ext cx="6043320" cy="833040"/>
              </a:xfrm>
              <a:prstGeom prst="roundRect">
                <a:avLst>
                  <a:gd name="adj" fmla="val 10889"/>
                </a:avLst>
              </a:prstGeom>
              <a:solidFill>
                <a:srgbClr val="c0c0c0"/>
              </a:soli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0"/>
              <p:cNvSpPr/>
              <p:nvPr/>
            </p:nvSpPr>
            <p:spPr>
              <a:xfrm>
                <a:off x="2832120" y="1570320"/>
                <a:ext cx="797760" cy="415440"/>
              </a:xfrm>
              <a:custGeom>
                <a:avLst/>
                <a:gdLst>
                  <a:gd name="textAreaLeft" fmla="*/ 0 w 797760"/>
                  <a:gd name="textAreaRight" fmla="*/ 798120 w 797760"/>
                  <a:gd name="textAreaTop" fmla="*/ 0 h 415440"/>
                  <a:gd name="textAreaBottom" fmla="*/ 415800 h 41544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e8"/>
                  </a:gs>
                  <a:gs pos="50000">
                    <a:srgbClr val="c0c0c0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Text Box 31"/>
            <p:cNvSpPr/>
            <p:nvPr/>
          </p:nvSpPr>
          <p:spPr>
            <a:xfrm>
              <a:off x="3098880" y="1714680"/>
              <a:ext cx="5421240" cy="369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28"/>
          <p:cNvSpPr/>
          <p:nvPr/>
        </p:nvSpPr>
        <p:spPr>
          <a:xfrm>
            <a:off x="3143160" y="1643040"/>
            <a:ext cx="4071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 cap="all">
                <a:solidFill>
                  <a:srgbClr val="000000"/>
                </a:solidFill>
                <a:latin typeface="Arial"/>
              </a:rPr>
              <a:t>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3071880" y="2928960"/>
            <a:ext cx="5428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Учащий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ладеет  орфоэпическими и орфографическими нормами русского языка (в пределах установленного программой минимум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8"/>
          <p:cNvSpPr/>
          <p:nvPr/>
        </p:nvSpPr>
        <p:spPr>
          <a:xfrm>
            <a:off x="3071880" y="5214960"/>
            <a:ext cx="5571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знает и применяет на письме правила орфографии и пунк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592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60" strike="noStrike" cap="all">
                <a:solidFill>
                  <a:srgbClr val="ff0000"/>
                </a:solidFill>
                <a:latin typeface="Constantia"/>
              </a:rPr>
              <a:t>Ц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2571840"/>
            <a:ext cx="8305560" cy="36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818"/>
                </a:solidFill>
                <a:latin typeface="Franklin Gothic Book"/>
              </a:rPr>
              <a:t>Актуализация знаний о формирующем и критериальном  оценивания учебных достижений обучающихс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9B3-A9E2-43FD-BAC0-CB6BC16D68A2}" type="slidenum">
              <a:t>2</a:t>
            </a:fld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60" strike="noStrike" cap="all">
                <a:solidFill>
                  <a:srgbClr val="206ddd"/>
                </a:solidFill>
                <a:latin typeface="Constantia"/>
              </a:rPr>
              <a:t>Критериальная шкала оценивания учащихся по предметному блоку «Русский язы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285840" y="1643040"/>
            <a:ext cx="2304720" cy="2642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c9900"/>
              </a:gs>
              <a:gs pos="100000">
                <a:srgbClr val="8e6a00"/>
              </a:gs>
            </a:gsLst>
            <a:lin ang="5400000"/>
          </a:gradFill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2"/>
          <p:cNvSpPr/>
          <p:nvPr/>
        </p:nvSpPr>
        <p:spPr>
          <a:xfrm>
            <a:off x="1295280" y="3124080"/>
            <a:ext cx="684000" cy="685440"/>
          </a:xfrm>
          <a:custGeom>
            <a:avLst/>
            <a:gdLst>
              <a:gd name="textAreaLeft" fmla="*/ 0 w 684000"/>
              <a:gd name="textAreaRight" fmla="*/ 684360 w 68400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ecd9a1"/>
              </a:gs>
              <a:gs pos="50000">
                <a:srgbClr val="cc9900"/>
              </a:gs>
              <a:gs pos="100000">
                <a:srgbClr val="ecd9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357120" y="1928880"/>
            <a:ext cx="2214360" cy="2008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 u="sng" cap="all">
                <a:solidFill>
                  <a:schemeClr val="accent4"/>
                </a:solidFill>
                <a:uFillTx/>
                <a:latin typeface="Arial"/>
              </a:rPr>
              <a:t>С (8 </a:t>
            </a:r>
            <a:r>
              <a:rPr b="1" lang="en-US" sz="2800" spc="-1" strike="noStrike" u="sng" cap="all">
                <a:solidFill>
                  <a:schemeClr val="accent4"/>
                </a:solidFill>
                <a:uFillTx/>
                <a:latin typeface="Arial"/>
              </a:rPr>
              <a:t>max</a:t>
            </a:r>
            <a:r>
              <a:rPr b="1" lang="ru-RU" sz="2800" spc="-1" strike="noStrike" u="sng" cap="all">
                <a:solidFill>
                  <a:schemeClr val="accent4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1400" spc="-1" strike="noStrike" cap="all">
                <a:solidFill>
                  <a:schemeClr val="accent5">
                    <a:lumMod val="75000"/>
                  </a:schemeClr>
                </a:solidFill>
                <a:latin typeface="Arial"/>
              </a:rPr>
              <a:t>Интеграция знаний, практическая грамо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6"/>
          <p:cNvGrpSpPr/>
          <p:nvPr/>
        </p:nvGrpSpPr>
        <p:grpSpPr>
          <a:xfrm>
            <a:off x="2714760" y="1571760"/>
            <a:ext cx="6064200" cy="5071680"/>
            <a:chOff x="2714760" y="1571760"/>
            <a:chExt cx="6064200" cy="5071680"/>
          </a:xfrm>
        </p:grpSpPr>
        <p:grpSp>
          <p:nvGrpSpPr>
            <p:cNvPr id="298" name="Group 22"/>
            <p:cNvGrpSpPr/>
            <p:nvPr/>
          </p:nvGrpSpPr>
          <p:grpSpPr>
            <a:xfrm>
              <a:off x="2714760" y="1571760"/>
              <a:ext cx="6064200" cy="5071680"/>
              <a:chOff x="2714760" y="1571760"/>
              <a:chExt cx="6064200" cy="5071680"/>
            </a:xfrm>
          </p:grpSpPr>
          <p:sp>
            <p:nvSpPr>
              <p:cNvPr id="299" name="AutoShape 9"/>
              <p:cNvSpPr/>
              <p:nvPr/>
            </p:nvSpPr>
            <p:spPr>
              <a:xfrm>
                <a:off x="2779200" y="1571760"/>
                <a:ext cx="5999760" cy="5071680"/>
              </a:xfrm>
              <a:prstGeom prst="roundRect">
                <a:avLst>
                  <a:gd name="adj" fmla="val 10889"/>
                </a:avLst>
              </a:prstGeom>
              <a:solidFill>
                <a:srgbClr val="c0c0c0"/>
              </a:soli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1"/>
              <p:cNvSpPr/>
              <p:nvPr/>
            </p:nvSpPr>
            <p:spPr>
              <a:xfrm>
                <a:off x="2714760" y="1918080"/>
                <a:ext cx="696960" cy="2495160"/>
              </a:xfrm>
              <a:custGeom>
                <a:avLst/>
                <a:gdLst>
                  <a:gd name="textAreaLeft" fmla="*/ 0 w 696960"/>
                  <a:gd name="textAreaRight" fmla="*/ 697320 w 696960"/>
                  <a:gd name="textAreaTop" fmla="*/ 0 h 2495160"/>
                  <a:gd name="textAreaBottom" fmla="*/ 2495520 h 249516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e8"/>
                  </a:gs>
                  <a:gs pos="50000">
                    <a:srgbClr val="c0c0c0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Text Box 14"/>
            <p:cNvSpPr/>
            <p:nvPr/>
          </p:nvSpPr>
          <p:spPr>
            <a:xfrm>
              <a:off x="3000960" y="1716120"/>
              <a:ext cx="5689080" cy="398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ru-RU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02" name="TextBox 18"/>
          <p:cNvSpPr/>
          <p:nvPr/>
        </p:nvSpPr>
        <p:spPr>
          <a:xfrm>
            <a:off x="3000240" y="1857240"/>
            <a:ext cx="5428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чащий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рименяет полученные знания для решения проблем, возникающих в жизненной практике, в учебе и бы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9"/>
          <p:cNvSpPr/>
          <p:nvPr/>
        </p:nvSpPr>
        <p:spPr>
          <a:xfrm>
            <a:off x="3071880" y="3286080"/>
            <a:ext cx="55717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использует различные источники информации и современные информационные технологии для  выражения и обоснования собственного м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0"/>
          <p:cNvSpPr/>
          <p:nvPr/>
        </p:nvSpPr>
        <p:spPr>
          <a:xfrm>
            <a:off x="3000240" y="4857840"/>
            <a:ext cx="521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оздает тексты разных типов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1"/>
          <p:cNvSpPr/>
          <p:nvPr/>
        </p:nvSpPr>
        <p:spPr>
          <a:xfrm>
            <a:off x="3071880" y="5357880"/>
            <a:ext cx="5071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использует изобразительно-выразительные средства языка  при   создании  собственных  текс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60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Arial Black"/>
              </a:rPr>
              <a:t>4 шаг : </a:t>
            </a:r>
            <a:r>
              <a:rPr b="0" lang="ru-RU" sz="2400" spc="-60" strike="noStrike" cap="all">
                <a:solidFill>
                  <a:srgbClr val="303030"/>
                </a:solidFill>
                <a:latin typeface="Arial Black"/>
              </a:rPr>
              <a:t>Реализация  по конкретным темам предмета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9294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 cap="all">
                <a:solidFill>
                  <a:srgbClr val="cc00cc"/>
                </a:solidFill>
                <a:latin typeface="Franklin Gothic Book"/>
              </a:rPr>
              <a:t>    </a:t>
            </a:r>
            <a:r>
              <a:rPr b="1" lang="ru-RU" sz="2000" spc="-1" strike="noStrike" cap="all">
                <a:solidFill>
                  <a:schemeClr val="accent1">
                    <a:lumMod val="75000"/>
                  </a:schemeClr>
                </a:solidFill>
                <a:latin typeface="Franklin Gothic Book"/>
              </a:rPr>
              <a:t>Тема: Лексика. 3 класс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 cap="all">
                <a:solidFill>
                  <a:srgbClr val="cc00cc"/>
                </a:solidFill>
                <a:latin typeface="Franklin Gothic Book"/>
              </a:rPr>
              <a:t>Учебные задачи: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1) ознакомить учащихся с разделом науки о русском языке – лексикой;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2) продолжить работу над формированием понятия  лексического значения слова;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3)  познакомить  учащихся с новыми понятиями: «однозначные» и «многозначные» слова, «синонимы» и «антонимы»;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4) научить пользоваться, ориентироваться в толковом словаре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5)развивать навык сравнения  значения  слова в словаре и тексте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6) выяснить причины появления у слов нескольких значений;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60" strike="noStrike" cap="all">
                <a:solidFill>
                  <a:schemeClr val="accent1">
                    <a:lumMod val="75000"/>
                  </a:schemeClr>
                </a:solidFill>
                <a:latin typeface="Constantia"/>
              </a:rPr>
              <a:t>КАК СОЗДАТЬ КРИТЕРИАЛЬНУЮ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42520" y="4729320"/>
            <a:ext cx="1144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5">
                    <a:lumMod val="75000"/>
                  </a:schemeClr>
                </a:solidFill>
                <a:latin typeface="Verdana"/>
              </a:rPr>
              <a:t>1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31"/>
          <p:cNvGrpSpPr/>
          <p:nvPr/>
        </p:nvGrpSpPr>
        <p:grpSpPr>
          <a:xfrm>
            <a:off x="1049400" y="5738760"/>
            <a:ext cx="228240" cy="228240"/>
            <a:chOff x="1049400" y="5738760"/>
            <a:chExt cx="228240" cy="228240"/>
          </a:xfrm>
        </p:grpSpPr>
        <p:sp>
          <p:nvSpPr>
            <p:cNvPr id="311" name="Oval 32"/>
            <p:cNvSpPr/>
            <p:nvPr/>
          </p:nvSpPr>
          <p:spPr>
            <a:xfrm>
              <a:off x="1049400" y="573876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e101"/>
                </a:gs>
                <a:gs pos="100000">
                  <a:srgbClr val="3e36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3"/>
            <p:cNvSpPr/>
            <p:nvPr/>
          </p:nvSpPr>
          <p:spPr>
            <a:xfrm>
              <a:off x="1075320" y="574272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e1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3" name="AutoShape 35"/>
          <p:cNvCxnSpPr>
            <a:endCxn id="311" idx="0"/>
          </p:cNvCxnSpPr>
          <p:nvPr/>
        </p:nvCxnSpPr>
        <p:spPr>
          <a:xfrm>
            <a:off x="1143000" y="5243400"/>
            <a:ext cx="20880" cy="495720"/>
          </a:xfrm>
          <a:prstGeom prst="straightConnector1">
            <a:avLst/>
          </a:prstGeom>
          <a:ln cap="rnd" w="38100">
            <a:solidFill>
              <a:srgbClr val="ffe101"/>
            </a:solidFill>
            <a:prstDash val="sysDot"/>
            <a:round/>
          </a:ln>
        </p:spPr>
      </p:cxnSp>
      <p:sp>
        <p:nvSpPr>
          <p:cNvPr id="314" name="AutoShape 54"/>
          <p:cNvSpPr/>
          <p:nvPr/>
        </p:nvSpPr>
        <p:spPr>
          <a:xfrm flipH="1">
            <a:off x="1294560" y="5272200"/>
            <a:ext cx="7198920" cy="1066320"/>
          </a:xfrm>
          <a:prstGeom prst="homePlate">
            <a:avLst>
              <a:gd name="adj" fmla="val 42053"/>
            </a:avLst>
          </a:prstGeom>
          <a:gradFill rotWithShape="0">
            <a:gsLst>
              <a:gs pos="0">
                <a:srgbClr val="ddd923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ddd923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2000160" y="5857920"/>
            <a:ext cx="6000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1.  Проанализировать содержание 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5"/>
          <p:cNvSpPr/>
          <p:nvPr/>
        </p:nvSpPr>
        <p:spPr>
          <a:xfrm>
            <a:off x="1303920" y="3619440"/>
            <a:ext cx="1144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92d365"/>
                </a:solidFill>
                <a:latin typeface="Verdana"/>
              </a:rPr>
              <a:t>2</a:t>
            </a:r>
            <a:r>
              <a:rPr b="1" lang="ru-RU" sz="2400" spc="-1" strike="noStrike">
                <a:solidFill>
                  <a:srgbClr val="92d365"/>
                </a:solidFill>
                <a:latin typeface="Verdana"/>
              </a:rPr>
              <a:t>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56"/>
          <p:cNvGrpSpPr/>
          <p:nvPr/>
        </p:nvGrpSpPr>
        <p:grpSpPr>
          <a:xfrm>
            <a:off x="1811160" y="4519440"/>
            <a:ext cx="228240" cy="228240"/>
            <a:chOff x="1811160" y="4519440"/>
            <a:chExt cx="228240" cy="228240"/>
          </a:xfrm>
        </p:grpSpPr>
        <p:sp>
          <p:nvSpPr>
            <p:cNvPr id="318" name="Oval 57"/>
            <p:cNvSpPr/>
            <p:nvPr/>
          </p:nvSpPr>
          <p:spPr>
            <a:xfrm>
              <a:off x="1811160" y="45194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3612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8"/>
            <p:cNvSpPr/>
            <p:nvPr/>
          </p:nvSpPr>
          <p:spPr>
            <a:xfrm>
              <a:off x="1837440" y="452340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d3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0" name="AutoShape 59"/>
          <p:cNvCxnSpPr>
            <a:stCxn id="316" idx="2"/>
            <a:endCxn id="318" idx="0"/>
          </p:cNvCxnSpPr>
          <p:nvPr/>
        </p:nvCxnSpPr>
        <p:spPr>
          <a:xfrm>
            <a:off x="1876320" y="4080960"/>
            <a:ext cx="49320" cy="438840"/>
          </a:xfrm>
          <a:prstGeom prst="straightConnector1">
            <a:avLst/>
          </a:prstGeom>
          <a:ln cap="rnd" w="38100">
            <a:solidFill>
              <a:srgbClr val="92d365"/>
            </a:solidFill>
            <a:prstDash val="sysDot"/>
            <a:round/>
          </a:ln>
        </p:spPr>
      </p:cxnSp>
      <p:sp>
        <p:nvSpPr>
          <p:cNvPr id="321" name="AutoShape 60"/>
          <p:cNvSpPr/>
          <p:nvPr/>
        </p:nvSpPr>
        <p:spPr>
          <a:xfrm flipH="1">
            <a:off x="2057400" y="4100400"/>
            <a:ext cx="6433920" cy="1066320"/>
          </a:xfrm>
          <a:prstGeom prst="homePlate">
            <a:avLst>
              <a:gd name="adj" fmla="val 44955"/>
            </a:avLst>
          </a:prstGeom>
          <a:gradFill rotWithShape="0">
            <a:gsLst>
              <a:gs pos="0">
                <a:srgbClr val="92d365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92d365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2"/>
          <p:cNvSpPr/>
          <p:nvPr/>
        </p:nvSpPr>
        <p:spPr>
          <a:xfrm>
            <a:off x="2142720" y="2476440"/>
            <a:ext cx="1144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86cef6"/>
                </a:solidFill>
                <a:latin typeface="Verdana"/>
              </a:rPr>
              <a:t>3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63"/>
          <p:cNvGrpSpPr/>
          <p:nvPr/>
        </p:nvGrpSpPr>
        <p:grpSpPr>
          <a:xfrm>
            <a:off x="2649600" y="3371760"/>
            <a:ext cx="228240" cy="228240"/>
            <a:chOff x="2649600" y="3371760"/>
            <a:chExt cx="228240" cy="228240"/>
          </a:xfrm>
        </p:grpSpPr>
        <p:sp>
          <p:nvSpPr>
            <p:cNvPr id="324" name="Oval 64"/>
            <p:cNvSpPr/>
            <p:nvPr/>
          </p:nvSpPr>
          <p:spPr>
            <a:xfrm>
              <a:off x="2649600" y="337176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86cef6"/>
                </a:gs>
                <a:gs pos="100000">
                  <a:srgbClr val="3e5f71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5"/>
            <p:cNvSpPr/>
            <p:nvPr/>
          </p:nvSpPr>
          <p:spPr>
            <a:xfrm>
              <a:off x="2675520" y="337572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bfdfe"/>
                </a:gs>
                <a:gs pos="100000">
                  <a:srgbClr val="86ce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6" name="AutoShape 66"/>
          <p:cNvCxnSpPr>
            <a:stCxn id="322" idx="2"/>
          </p:cNvCxnSpPr>
          <p:nvPr/>
        </p:nvCxnSpPr>
        <p:spPr>
          <a:xfrm>
            <a:off x="2714400" y="2937960"/>
            <a:ext cx="51120" cy="316440"/>
          </a:xfrm>
          <a:prstGeom prst="straightConnector1">
            <a:avLst/>
          </a:prstGeom>
          <a:ln cap="rnd" w="38100">
            <a:solidFill>
              <a:srgbClr val="86cef6"/>
            </a:solidFill>
            <a:prstDash val="sysDot"/>
            <a:round/>
          </a:ln>
        </p:spPr>
      </p:cxnSp>
      <p:sp>
        <p:nvSpPr>
          <p:cNvPr id="327" name="AutoShape 67"/>
          <p:cNvSpPr/>
          <p:nvPr/>
        </p:nvSpPr>
        <p:spPr>
          <a:xfrm flipH="1">
            <a:off x="2894760" y="2933640"/>
            <a:ext cx="5600520" cy="1066320"/>
          </a:xfrm>
          <a:prstGeom prst="homePlate">
            <a:avLst>
              <a:gd name="adj" fmla="val 39083"/>
            </a:avLst>
          </a:prstGeom>
          <a:gradFill rotWithShape="0">
            <a:gsLst>
              <a:gs pos="0">
                <a:srgbClr val="5491d4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5491d4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9"/>
          <p:cNvSpPr/>
          <p:nvPr/>
        </p:nvSpPr>
        <p:spPr>
          <a:xfrm>
            <a:off x="3018960" y="1300320"/>
            <a:ext cx="1144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9b96dc"/>
                </a:solidFill>
                <a:latin typeface="Verdana"/>
              </a:rPr>
              <a:t>4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70"/>
          <p:cNvGrpSpPr/>
          <p:nvPr/>
        </p:nvGrpSpPr>
        <p:grpSpPr>
          <a:xfrm>
            <a:off x="3525840" y="2192400"/>
            <a:ext cx="228240" cy="228240"/>
            <a:chOff x="3525840" y="2192400"/>
            <a:chExt cx="228240" cy="228240"/>
          </a:xfrm>
        </p:grpSpPr>
        <p:sp>
          <p:nvSpPr>
            <p:cNvPr id="330" name="Oval 71"/>
            <p:cNvSpPr/>
            <p:nvPr/>
          </p:nvSpPr>
          <p:spPr>
            <a:xfrm>
              <a:off x="3525840" y="21924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a7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72"/>
            <p:cNvSpPr/>
            <p:nvPr/>
          </p:nvSpPr>
          <p:spPr>
            <a:xfrm>
              <a:off x="3552120" y="219600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67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2" name="AutoShape 73"/>
          <p:cNvCxnSpPr>
            <a:stCxn id="328" idx="2"/>
            <a:endCxn id="330" idx="0"/>
          </p:cNvCxnSpPr>
          <p:nvPr/>
        </p:nvCxnSpPr>
        <p:spPr>
          <a:xfrm>
            <a:off x="3591000" y="1761480"/>
            <a:ext cx="49320" cy="430920"/>
          </a:xfrm>
          <a:prstGeom prst="straightConnector1">
            <a:avLst/>
          </a:prstGeom>
          <a:ln cap="rnd" w="38100">
            <a:solidFill>
              <a:srgbClr val="b67ff3"/>
            </a:solidFill>
            <a:prstDash val="sysDot"/>
            <a:round/>
          </a:ln>
        </p:spPr>
      </p:cxnSp>
      <p:sp>
        <p:nvSpPr>
          <p:cNvPr id="333" name="AutoShape 74"/>
          <p:cNvSpPr/>
          <p:nvPr/>
        </p:nvSpPr>
        <p:spPr>
          <a:xfrm flipH="1">
            <a:off x="3772080" y="1754280"/>
            <a:ext cx="4728960" cy="1066320"/>
          </a:xfrm>
          <a:prstGeom prst="homePlate">
            <a:avLst>
              <a:gd name="adj" fmla="val 37742"/>
            </a:avLst>
          </a:prstGeom>
          <a:gradFill rotWithShape="0">
            <a:gsLst>
              <a:gs pos="0">
                <a:srgbClr val="9b96dc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9b96dc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60" strike="noStrike" cap="all">
                <a:solidFill>
                  <a:schemeClr val="accent1">
                    <a:lumMod val="75000"/>
                  </a:schemeClr>
                </a:solidFill>
                <a:latin typeface="Constantia"/>
              </a:rPr>
              <a:t>Тема: Лексика. 3 класс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9294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 cap="all">
                <a:solidFill>
                  <a:srgbClr val="cc00cc"/>
                </a:solidFill>
                <a:latin typeface="Franklin Gothic Book"/>
              </a:rPr>
              <a:t>    </a:t>
            </a:r>
            <a:r>
              <a:rPr b="1" lang="ru-RU" sz="1800" spc="-1" strike="noStrike" cap="all">
                <a:solidFill>
                  <a:schemeClr val="accent1">
                    <a:lumMod val="75000"/>
                  </a:schemeClr>
                </a:solidFill>
                <a:latin typeface="Franklin Gothic Book"/>
              </a:rPr>
              <a:t>Требования к ожидаемым результатам обучения по теме</a:t>
            </a:r>
            <a:r>
              <a:rPr b="1" lang="ru-RU" sz="2800" spc="-1" strike="noStrike" cap="all">
                <a:solidFill>
                  <a:srgbClr val="cc00cc"/>
                </a:solidFill>
                <a:latin typeface="Franklin Gothic Book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 cap="all">
                <a:solidFill>
                  <a:schemeClr val="accent1">
                    <a:lumMod val="75000"/>
                  </a:schemeClr>
                </a:solidFill>
                <a:latin typeface="Franklin Gothic Book"/>
              </a:rPr>
              <a:t>УЧАЩИЙСЯ: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) Понимает лексическое значение слова, многозначность слова, его прямое и переносное значение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) умеет раскрыть понятия «синонимы», «антонимы»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) использует в  диалогической и монологической речи многозначные слова, слова в прямом и переносном значении, синонимы и антонимы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) умеет пользоваться толковыми словарями при объяснении значения слова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60" strike="noStrike" cap="all">
                <a:solidFill>
                  <a:schemeClr val="accent1">
                    <a:lumMod val="75000"/>
                  </a:schemeClr>
                </a:solidFill>
                <a:latin typeface="Constantia"/>
              </a:rPr>
              <a:t>КАК СОЗДАТЬ КРИТЕРИАЛЬНУЮ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542520" y="4729320"/>
            <a:ext cx="1144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5">
                    <a:lumMod val="75000"/>
                  </a:schemeClr>
                </a:solidFill>
                <a:latin typeface="Verdana"/>
              </a:rPr>
              <a:t>1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1"/>
          <p:cNvGrpSpPr/>
          <p:nvPr/>
        </p:nvGrpSpPr>
        <p:grpSpPr>
          <a:xfrm>
            <a:off x="1049400" y="5738760"/>
            <a:ext cx="228240" cy="228240"/>
            <a:chOff x="1049400" y="5738760"/>
            <a:chExt cx="228240" cy="228240"/>
          </a:xfrm>
        </p:grpSpPr>
        <p:sp>
          <p:nvSpPr>
            <p:cNvPr id="339" name="Oval 32"/>
            <p:cNvSpPr/>
            <p:nvPr/>
          </p:nvSpPr>
          <p:spPr>
            <a:xfrm>
              <a:off x="1049400" y="573876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e101"/>
                </a:gs>
                <a:gs pos="100000">
                  <a:srgbClr val="3e36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3"/>
            <p:cNvSpPr/>
            <p:nvPr/>
          </p:nvSpPr>
          <p:spPr>
            <a:xfrm>
              <a:off x="1075320" y="574272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e1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1" name="AutoShape 35"/>
          <p:cNvCxnSpPr>
            <a:endCxn id="339" idx="0"/>
          </p:cNvCxnSpPr>
          <p:nvPr/>
        </p:nvCxnSpPr>
        <p:spPr>
          <a:xfrm>
            <a:off x="1143000" y="5243400"/>
            <a:ext cx="20880" cy="495720"/>
          </a:xfrm>
          <a:prstGeom prst="straightConnector1">
            <a:avLst/>
          </a:prstGeom>
          <a:ln cap="rnd" w="38100">
            <a:solidFill>
              <a:srgbClr val="ffe101"/>
            </a:solidFill>
            <a:prstDash val="sysDot"/>
            <a:round/>
          </a:ln>
        </p:spPr>
      </p:cxnSp>
      <p:sp>
        <p:nvSpPr>
          <p:cNvPr id="342" name="AutoShape 54"/>
          <p:cNvSpPr/>
          <p:nvPr/>
        </p:nvSpPr>
        <p:spPr>
          <a:xfrm flipH="1">
            <a:off x="1294560" y="5272200"/>
            <a:ext cx="7198920" cy="1066320"/>
          </a:xfrm>
          <a:prstGeom prst="homePlate">
            <a:avLst>
              <a:gd name="adj" fmla="val 42053"/>
            </a:avLst>
          </a:prstGeom>
          <a:gradFill rotWithShape="0">
            <a:gsLst>
              <a:gs pos="0">
                <a:srgbClr val="ddd923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ddd923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2000160" y="5857920"/>
            <a:ext cx="6000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1.  Проанализировать содержание 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5"/>
          <p:cNvSpPr/>
          <p:nvPr/>
        </p:nvSpPr>
        <p:spPr>
          <a:xfrm>
            <a:off x="1303920" y="3619440"/>
            <a:ext cx="1144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92d365"/>
                </a:solidFill>
                <a:latin typeface="Verdana"/>
              </a:rPr>
              <a:t>2</a:t>
            </a:r>
            <a:r>
              <a:rPr b="1" lang="ru-RU" sz="2400" spc="-1" strike="noStrike">
                <a:solidFill>
                  <a:srgbClr val="92d365"/>
                </a:solidFill>
                <a:latin typeface="Verdana"/>
              </a:rPr>
              <a:t>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56"/>
          <p:cNvGrpSpPr/>
          <p:nvPr/>
        </p:nvGrpSpPr>
        <p:grpSpPr>
          <a:xfrm>
            <a:off x="1811160" y="4519440"/>
            <a:ext cx="228240" cy="228240"/>
            <a:chOff x="1811160" y="4519440"/>
            <a:chExt cx="228240" cy="228240"/>
          </a:xfrm>
        </p:grpSpPr>
        <p:sp>
          <p:nvSpPr>
            <p:cNvPr id="346" name="Oval 57"/>
            <p:cNvSpPr/>
            <p:nvPr/>
          </p:nvSpPr>
          <p:spPr>
            <a:xfrm>
              <a:off x="1811160" y="45194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3612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8"/>
            <p:cNvSpPr/>
            <p:nvPr/>
          </p:nvSpPr>
          <p:spPr>
            <a:xfrm>
              <a:off x="1837440" y="452340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d3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8" name="AutoShape 59"/>
          <p:cNvCxnSpPr>
            <a:stCxn id="344" idx="2"/>
            <a:endCxn id="346" idx="0"/>
          </p:cNvCxnSpPr>
          <p:nvPr/>
        </p:nvCxnSpPr>
        <p:spPr>
          <a:xfrm>
            <a:off x="1876320" y="4080960"/>
            <a:ext cx="49320" cy="438840"/>
          </a:xfrm>
          <a:prstGeom prst="straightConnector1">
            <a:avLst/>
          </a:prstGeom>
          <a:ln cap="rnd" w="38100">
            <a:solidFill>
              <a:srgbClr val="92d365"/>
            </a:solidFill>
            <a:prstDash val="sysDot"/>
            <a:round/>
          </a:ln>
        </p:spPr>
      </p:cxnSp>
      <p:sp>
        <p:nvSpPr>
          <p:cNvPr id="349" name="AutoShape 60"/>
          <p:cNvSpPr/>
          <p:nvPr/>
        </p:nvSpPr>
        <p:spPr>
          <a:xfrm flipH="1">
            <a:off x="2057400" y="4100400"/>
            <a:ext cx="6433920" cy="1066320"/>
          </a:xfrm>
          <a:prstGeom prst="homePlate">
            <a:avLst>
              <a:gd name="adj" fmla="val 44955"/>
            </a:avLst>
          </a:prstGeom>
          <a:gradFill rotWithShape="0">
            <a:gsLst>
              <a:gs pos="0">
                <a:srgbClr val="92d365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92d365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1"/>
          <p:cNvSpPr/>
          <p:nvPr/>
        </p:nvSpPr>
        <p:spPr>
          <a:xfrm>
            <a:off x="2571840" y="4643280"/>
            <a:ext cx="5028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3. Выделить итоговые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2"/>
          <p:cNvSpPr/>
          <p:nvPr/>
        </p:nvSpPr>
        <p:spPr>
          <a:xfrm>
            <a:off x="2142720" y="2476440"/>
            <a:ext cx="1144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86cef6"/>
                </a:solidFill>
                <a:latin typeface="Verdana"/>
              </a:rPr>
              <a:t>3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63"/>
          <p:cNvGrpSpPr/>
          <p:nvPr/>
        </p:nvGrpSpPr>
        <p:grpSpPr>
          <a:xfrm>
            <a:off x="2649600" y="3371760"/>
            <a:ext cx="228240" cy="228240"/>
            <a:chOff x="2649600" y="3371760"/>
            <a:chExt cx="228240" cy="228240"/>
          </a:xfrm>
        </p:grpSpPr>
        <p:sp>
          <p:nvSpPr>
            <p:cNvPr id="353" name="Oval 64"/>
            <p:cNvSpPr/>
            <p:nvPr/>
          </p:nvSpPr>
          <p:spPr>
            <a:xfrm>
              <a:off x="2649600" y="337176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86cef6"/>
                </a:gs>
                <a:gs pos="100000">
                  <a:srgbClr val="3e5f71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5"/>
            <p:cNvSpPr/>
            <p:nvPr/>
          </p:nvSpPr>
          <p:spPr>
            <a:xfrm>
              <a:off x="2675520" y="337572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bfdfe"/>
                </a:gs>
                <a:gs pos="100000">
                  <a:srgbClr val="86ce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5" name="AutoShape 66"/>
          <p:cNvCxnSpPr>
            <a:stCxn id="351" idx="2"/>
          </p:cNvCxnSpPr>
          <p:nvPr/>
        </p:nvCxnSpPr>
        <p:spPr>
          <a:xfrm>
            <a:off x="2714400" y="2937960"/>
            <a:ext cx="51120" cy="316440"/>
          </a:xfrm>
          <a:prstGeom prst="straightConnector1">
            <a:avLst/>
          </a:prstGeom>
          <a:ln cap="rnd" w="38100">
            <a:solidFill>
              <a:srgbClr val="86cef6"/>
            </a:solidFill>
            <a:prstDash val="sysDot"/>
            <a:round/>
          </a:ln>
        </p:spPr>
      </p:cxnSp>
      <p:sp>
        <p:nvSpPr>
          <p:cNvPr id="356" name="AutoShape 67"/>
          <p:cNvSpPr/>
          <p:nvPr/>
        </p:nvSpPr>
        <p:spPr>
          <a:xfrm flipH="1">
            <a:off x="2894760" y="2933640"/>
            <a:ext cx="5600520" cy="1066320"/>
          </a:xfrm>
          <a:prstGeom prst="homePlate">
            <a:avLst>
              <a:gd name="adj" fmla="val 39083"/>
            </a:avLst>
          </a:prstGeom>
          <a:gradFill rotWithShape="0">
            <a:gsLst>
              <a:gs pos="0">
                <a:srgbClr val="5491d4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5491d4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9"/>
          <p:cNvSpPr/>
          <p:nvPr/>
        </p:nvSpPr>
        <p:spPr>
          <a:xfrm>
            <a:off x="3018960" y="1300320"/>
            <a:ext cx="1144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9b96dc"/>
                </a:solidFill>
                <a:latin typeface="Verdana"/>
              </a:rPr>
              <a:t>4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70"/>
          <p:cNvGrpSpPr/>
          <p:nvPr/>
        </p:nvGrpSpPr>
        <p:grpSpPr>
          <a:xfrm>
            <a:off x="3525840" y="2192400"/>
            <a:ext cx="228240" cy="228240"/>
            <a:chOff x="3525840" y="2192400"/>
            <a:chExt cx="228240" cy="228240"/>
          </a:xfrm>
        </p:grpSpPr>
        <p:sp>
          <p:nvSpPr>
            <p:cNvPr id="359" name="Oval 71"/>
            <p:cNvSpPr/>
            <p:nvPr/>
          </p:nvSpPr>
          <p:spPr>
            <a:xfrm>
              <a:off x="3525840" y="21924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a7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2"/>
            <p:cNvSpPr/>
            <p:nvPr/>
          </p:nvSpPr>
          <p:spPr>
            <a:xfrm>
              <a:off x="3552120" y="219600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67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61" name="AutoShape 73"/>
          <p:cNvCxnSpPr>
            <a:stCxn id="357" idx="2"/>
            <a:endCxn id="359" idx="0"/>
          </p:cNvCxnSpPr>
          <p:nvPr/>
        </p:nvCxnSpPr>
        <p:spPr>
          <a:xfrm>
            <a:off x="3591000" y="1761480"/>
            <a:ext cx="49320" cy="430920"/>
          </a:xfrm>
          <a:prstGeom prst="straightConnector1">
            <a:avLst/>
          </a:prstGeom>
          <a:ln cap="rnd" w="38100">
            <a:solidFill>
              <a:srgbClr val="b67ff3"/>
            </a:solidFill>
            <a:prstDash val="sysDot"/>
            <a:round/>
          </a:ln>
        </p:spPr>
      </p:cxnSp>
      <p:sp>
        <p:nvSpPr>
          <p:cNvPr id="362" name="AutoShape 74"/>
          <p:cNvSpPr/>
          <p:nvPr/>
        </p:nvSpPr>
        <p:spPr>
          <a:xfrm flipH="1">
            <a:off x="3772080" y="1754280"/>
            <a:ext cx="4728960" cy="1066320"/>
          </a:xfrm>
          <a:prstGeom prst="homePlate">
            <a:avLst>
              <a:gd name="adj" fmla="val 37742"/>
            </a:avLst>
          </a:prstGeom>
          <a:gradFill rotWithShape="0">
            <a:gsLst>
              <a:gs pos="0">
                <a:srgbClr val="9b96dc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9b96dc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2143080" y="5357880"/>
            <a:ext cx="57862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2. Продумать виды проверочных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64360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60" strike="noStrike" cap="all">
                <a:solidFill>
                  <a:srgbClr val="303030"/>
                </a:solidFill>
                <a:latin typeface="Arial Black"/>
              </a:rPr>
              <a:t>Методы и инструменты оцени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14200" y="1357200"/>
            <a:ext cx="878652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Формализованные и  неформализованные  устные опросы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исьменные работы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тесты, структурированные короткие ответы,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просы типа «вопрос-ответ», эссе, проекты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рактические работы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оздание  текста разных типов речи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писание (предмета, природы, растений,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животных); повествование,  рассуждение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екоторых жанров деловой речи (письмо,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бъявление, поздравление); умение находить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информацию, используя различные источник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54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54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60" strike="noStrike" cap="all">
                <a:solidFill>
                  <a:schemeClr val="accent1">
                    <a:lumMod val="75000"/>
                  </a:schemeClr>
                </a:solidFill>
                <a:latin typeface="Constantia"/>
              </a:rPr>
              <a:t>КАК СОЗДАТЬ КРИТЕРИАЛЬНУЮ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542520" y="4729320"/>
            <a:ext cx="1144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5">
                    <a:lumMod val="75000"/>
                  </a:schemeClr>
                </a:solidFill>
                <a:latin typeface="Verdana"/>
              </a:rPr>
              <a:t>1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31"/>
          <p:cNvGrpSpPr/>
          <p:nvPr/>
        </p:nvGrpSpPr>
        <p:grpSpPr>
          <a:xfrm>
            <a:off x="1049400" y="5738760"/>
            <a:ext cx="228240" cy="228240"/>
            <a:chOff x="1049400" y="5738760"/>
            <a:chExt cx="228240" cy="228240"/>
          </a:xfrm>
        </p:grpSpPr>
        <p:sp>
          <p:nvSpPr>
            <p:cNvPr id="369" name="Oval 32"/>
            <p:cNvSpPr/>
            <p:nvPr/>
          </p:nvSpPr>
          <p:spPr>
            <a:xfrm>
              <a:off x="1049400" y="573876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e101"/>
                </a:gs>
                <a:gs pos="100000">
                  <a:srgbClr val="3e36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3"/>
            <p:cNvSpPr/>
            <p:nvPr/>
          </p:nvSpPr>
          <p:spPr>
            <a:xfrm>
              <a:off x="1075320" y="574272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e1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1" name="AutoShape 35"/>
          <p:cNvCxnSpPr>
            <a:endCxn id="369" idx="0"/>
          </p:cNvCxnSpPr>
          <p:nvPr/>
        </p:nvCxnSpPr>
        <p:spPr>
          <a:xfrm>
            <a:off x="1143000" y="5243400"/>
            <a:ext cx="20880" cy="495720"/>
          </a:xfrm>
          <a:prstGeom prst="straightConnector1">
            <a:avLst/>
          </a:prstGeom>
          <a:ln cap="rnd" w="38100">
            <a:solidFill>
              <a:srgbClr val="ffe101"/>
            </a:solidFill>
            <a:prstDash val="sysDot"/>
            <a:round/>
          </a:ln>
        </p:spPr>
      </p:cxnSp>
      <p:sp>
        <p:nvSpPr>
          <p:cNvPr id="372" name="AutoShape 54"/>
          <p:cNvSpPr/>
          <p:nvPr/>
        </p:nvSpPr>
        <p:spPr>
          <a:xfrm flipH="1">
            <a:off x="1294560" y="5272200"/>
            <a:ext cx="7198920" cy="1066320"/>
          </a:xfrm>
          <a:prstGeom prst="homePlate">
            <a:avLst>
              <a:gd name="adj" fmla="val 42053"/>
            </a:avLst>
          </a:prstGeom>
          <a:gradFill rotWithShape="0">
            <a:gsLst>
              <a:gs pos="0">
                <a:srgbClr val="ddd923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ddd923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2000160" y="5857920"/>
            <a:ext cx="6000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1.  Проанализировать содержание 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5"/>
          <p:cNvSpPr/>
          <p:nvPr/>
        </p:nvSpPr>
        <p:spPr>
          <a:xfrm>
            <a:off x="1303920" y="3619440"/>
            <a:ext cx="1144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92d365"/>
                </a:solidFill>
                <a:latin typeface="Verdana"/>
              </a:rPr>
              <a:t>2</a:t>
            </a:r>
            <a:r>
              <a:rPr b="1" lang="ru-RU" sz="2400" spc="-1" strike="noStrike">
                <a:solidFill>
                  <a:srgbClr val="92d365"/>
                </a:solidFill>
                <a:latin typeface="Verdana"/>
              </a:rPr>
              <a:t>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6"/>
          <p:cNvGrpSpPr/>
          <p:nvPr/>
        </p:nvGrpSpPr>
        <p:grpSpPr>
          <a:xfrm>
            <a:off x="1811160" y="4519440"/>
            <a:ext cx="228240" cy="228240"/>
            <a:chOff x="1811160" y="4519440"/>
            <a:chExt cx="228240" cy="228240"/>
          </a:xfrm>
        </p:grpSpPr>
        <p:sp>
          <p:nvSpPr>
            <p:cNvPr id="376" name="Oval 57"/>
            <p:cNvSpPr/>
            <p:nvPr/>
          </p:nvSpPr>
          <p:spPr>
            <a:xfrm>
              <a:off x="1811160" y="45194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3612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8"/>
            <p:cNvSpPr/>
            <p:nvPr/>
          </p:nvSpPr>
          <p:spPr>
            <a:xfrm>
              <a:off x="1837440" y="452340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d3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8" name="AutoShape 59"/>
          <p:cNvCxnSpPr>
            <a:stCxn id="374" idx="2"/>
            <a:endCxn id="376" idx="0"/>
          </p:cNvCxnSpPr>
          <p:nvPr/>
        </p:nvCxnSpPr>
        <p:spPr>
          <a:xfrm>
            <a:off x="1876320" y="4080960"/>
            <a:ext cx="49320" cy="438840"/>
          </a:xfrm>
          <a:prstGeom prst="straightConnector1">
            <a:avLst/>
          </a:prstGeom>
          <a:ln cap="rnd" w="38100">
            <a:solidFill>
              <a:srgbClr val="92d365"/>
            </a:solidFill>
            <a:prstDash val="sysDot"/>
            <a:round/>
          </a:ln>
        </p:spPr>
      </p:cxnSp>
      <p:sp>
        <p:nvSpPr>
          <p:cNvPr id="379" name="AutoShape 60"/>
          <p:cNvSpPr/>
          <p:nvPr/>
        </p:nvSpPr>
        <p:spPr>
          <a:xfrm flipH="1">
            <a:off x="2057400" y="4100400"/>
            <a:ext cx="6433920" cy="1066320"/>
          </a:xfrm>
          <a:prstGeom prst="homePlate">
            <a:avLst>
              <a:gd name="adj" fmla="val 44955"/>
            </a:avLst>
          </a:prstGeom>
          <a:gradFill rotWithShape="0">
            <a:gsLst>
              <a:gs pos="0">
                <a:srgbClr val="92d365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92d365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1"/>
          <p:cNvSpPr/>
          <p:nvPr/>
        </p:nvSpPr>
        <p:spPr>
          <a:xfrm>
            <a:off x="2571840" y="4643280"/>
            <a:ext cx="5028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3. Выделить итоговые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2"/>
          <p:cNvSpPr/>
          <p:nvPr/>
        </p:nvSpPr>
        <p:spPr>
          <a:xfrm>
            <a:off x="2142720" y="2476440"/>
            <a:ext cx="1144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86cef6"/>
                </a:solidFill>
                <a:latin typeface="Verdana"/>
              </a:rPr>
              <a:t>3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63"/>
          <p:cNvGrpSpPr/>
          <p:nvPr/>
        </p:nvGrpSpPr>
        <p:grpSpPr>
          <a:xfrm>
            <a:off x="2649600" y="3371760"/>
            <a:ext cx="228240" cy="228240"/>
            <a:chOff x="2649600" y="3371760"/>
            <a:chExt cx="228240" cy="228240"/>
          </a:xfrm>
        </p:grpSpPr>
        <p:sp>
          <p:nvSpPr>
            <p:cNvPr id="383" name="Oval 64"/>
            <p:cNvSpPr/>
            <p:nvPr/>
          </p:nvSpPr>
          <p:spPr>
            <a:xfrm>
              <a:off x="2649600" y="337176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86cef6"/>
                </a:gs>
                <a:gs pos="100000">
                  <a:srgbClr val="3e5f71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5"/>
            <p:cNvSpPr/>
            <p:nvPr/>
          </p:nvSpPr>
          <p:spPr>
            <a:xfrm>
              <a:off x="2675520" y="337572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bfdfe"/>
                </a:gs>
                <a:gs pos="100000">
                  <a:srgbClr val="86ce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5" name="AutoShape 66"/>
          <p:cNvCxnSpPr>
            <a:stCxn id="381" idx="2"/>
          </p:cNvCxnSpPr>
          <p:nvPr/>
        </p:nvCxnSpPr>
        <p:spPr>
          <a:xfrm>
            <a:off x="2714400" y="2937960"/>
            <a:ext cx="51120" cy="316440"/>
          </a:xfrm>
          <a:prstGeom prst="straightConnector1">
            <a:avLst/>
          </a:prstGeom>
          <a:ln cap="rnd" w="38100">
            <a:solidFill>
              <a:srgbClr val="86cef6"/>
            </a:solidFill>
            <a:prstDash val="sysDot"/>
            <a:round/>
          </a:ln>
        </p:spPr>
      </p:cxnSp>
      <p:sp>
        <p:nvSpPr>
          <p:cNvPr id="386" name="AutoShape 67"/>
          <p:cNvSpPr/>
          <p:nvPr/>
        </p:nvSpPr>
        <p:spPr>
          <a:xfrm flipH="1">
            <a:off x="2894760" y="2933640"/>
            <a:ext cx="5600520" cy="1066320"/>
          </a:xfrm>
          <a:prstGeom prst="homePlate">
            <a:avLst>
              <a:gd name="adj" fmla="val 39083"/>
            </a:avLst>
          </a:prstGeom>
          <a:gradFill rotWithShape="0">
            <a:gsLst>
              <a:gs pos="0">
                <a:srgbClr val="5491d4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5491d4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9"/>
          <p:cNvSpPr/>
          <p:nvPr/>
        </p:nvSpPr>
        <p:spPr>
          <a:xfrm>
            <a:off x="3018960" y="1300320"/>
            <a:ext cx="1144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9b96dc"/>
                </a:solidFill>
                <a:latin typeface="Verdana"/>
              </a:rPr>
              <a:t>4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70"/>
          <p:cNvGrpSpPr/>
          <p:nvPr/>
        </p:nvGrpSpPr>
        <p:grpSpPr>
          <a:xfrm>
            <a:off x="3525840" y="2192400"/>
            <a:ext cx="228240" cy="228240"/>
            <a:chOff x="3525840" y="2192400"/>
            <a:chExt cx="228240" cy="228240"/>
          </a:xfrm>
        </p:grpSpPr>
        <p:sp>
          <p:nvSpPr>
            <p:cNvPr id="389" name="Oval 71"/>
            <p:cNvSpPr/>
            <p:nvPr/>
          </p:nvSpPr>
          <p:spPr>
            <a:xfrm>
              <a:off x="3525840" y="21924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a7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72"/>
            <p:cNvSpPr/>
            <p:nvPr/>
          </p:nvSpPr>
          <p:spPr>
            <a:xfrm>
              <a:off x="3552120" y="219600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67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1" name="AutoShape 73"/>
          <p:cNvCxnSpPr>
            <a:stCxn id="387" idx="2"/>
            <a:endCxn id="389" idx="0"/>
          </p:cNvCxnSpPr>
          <p:nvPr/>
        </p:nvCxnSpPr>
        <p:spPr>
          <a:xfrm>
            <a:off x="3591000" y="1761480"/>
            <a:ext cx="49320" cy="430920"/>
          </a:xfrm>
          <a:prstGeom prst="straightConnector1">
            <a:avLst/>
          </a:prstGeom>
          <a:ln cap="rnd" w="38100">
            <a:solidFill>
              <a:srgbClr val="b67ff3"/>
            </a:solidFill>
            <a:prstDash val="sysDot"/>
            <a:round/>
          </a:ln>
        </p:spPr>
      </p:cxnSp>
      <p:sp>
        <p:nvSpPr>
          <p:cNvPr id="392" name="AutoShape 74"/>
          <p:cNvSpPr/>
          <p:nvPr/>
        </p:nvSpPr>
        <p:spPr>
          <a:xfrm flipH="1">
            <a:off x="3772080" y="1754280"/>
            <a:ext cx="4728960" cy="1066320"/>
          </a:xfrm>
          <a:prstGeom prst="homePlate">
            <a:avLst>
              <a:gd name="adj" fmla="val 37742"/>
            </a:avLst>
          </a:prstGeom>
          <a:gradFill rotWithShape="0">
            <a:gsLst>
              <a:gs pos="0">
                <a:srgbClr val="9b96dc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9b96dc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2143080" y="5357880"/>
            <a:ext cx="57862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2. Продумать виды проверочных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2571840" y="4143240"/>
            <a:ext cx="57862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4. продумать, какие критерии использ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8300520" cy="56880"/>
          </a:xfrm>
          <a:prstGeom prst="rect">
            <a:avLst/>
          </a:prstGeom>
          <a:noFill/>
          <a:ln w="0">
            <a:noFill/>
          </a:ln>
        </p:spPr>
        <p:txBody>
          <a:bodyPr tIns="28440" bIns="28440" anchor="b">
            <a:normAutofit/>
          </a:bodyPr>
          <a:p>
            <a:pPr>
              <a:lnSpc>
                <a:spcPct val="100000"/>
              </a:lnSpc>
              <a:buClr>
                <a:srgbClr val="820101"/>
              </a:buClr>
              <a:buFont typeface="Wingdings" charset="2"/>
              <a:buChar char=""/>
            </a:pPr>
            <a:r>
              <a:rPr b="0" lang="ru-RU" sz="2400" spc="-60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Constantia"/>
              </a:rPr>
              <a:t>  </a:t>
            </a:r>
            <a:r>
              <a:rPr b="0" lang="ru-RU" sz="2400" spc="-60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Constantia"/>
              </a:rPr>
              <a:t>Критерий А.</a:t>
            </a:r>
            <a:r>
              <a:rPr b="0" lang="ru-RU" sz="2400" spc="-60" strike="noStrike" cap="all">
                <a:solidFill>
                  <a:schemeClr val="accent1">
                    <a:lumMod val="75000"/>
                  </a:schemeClr>
                </a:solidFill>
                <a:latin typeface="Constantia"/>
              </a:rPr>
              <a:t> Знание и воспроизведение. </a:t>
            </a:r>
            <a:br>
              <a:rPr sz="2800"/>
            </a:br>
            <a:r>
              <a:rPr b="0" lang="ru-RU" sz="2800" spc="-60" strike="noStrike" cap="all">
                <a:solidFill>
                  <a:schemeClr val="accent1">
                    <a:lumMod val="75000"/>
                  </a:schemeClr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560" cy="53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Franklin Gothic Book"/>
              </a:rPr>
              <a:t>Учащийся: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9c4040"/>
                </a:solidFill>
                <a:latin typeface="Franklin Gothic Book"/>
              </a:rPr>
              <a:t>понимает и объясняет лексическое значение слов активного усвоения,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9c4040"/>
                </a:solidFill>
                <a:latin typeface="Franklin Gothic Book"/>
              </a:rPr>
              <a:t>имеет представление о многозначности слова, его прямом и переносном значении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9c404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9c4040"/>
                </a:solidFill>
                <a:latin typeface="Franklin Gothic Book"/>
              </a:rPr>
              <a:t>умеет раскрыть понятия «синонимы», «антонимы»;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9c404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9c4040"/>
                </a:solidFill>
                <a:latin typeface="Franklin Gothic Book"/>
              </a:rPr>
              <a:t>имеет представление о толковых  словарях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8300520" cy="56880"/>
          </a:xfrm>
          <a:prstGeom prst="rect">
            <a:avLst/>
          </a:prstGeom>
          <a:noFill/>
          <a:ln w="0">
            <a:noFill/>
          </a:ln>
        </p:spPr>
        <p:txBody>
          <a:bodyPr tIns="28440" bIns="28440" anchor="b">
            <a:normAutofit/>
          </a:bodyPr>
          <a:p>
            <a:pPr>
              <a:lnSpc>
                <a:spcPct val="100000"/>
              </a:lnSpc>
              <a:buClr>
                <a:srgbClr val="820101"/>
              </a:buClr>
              <a:buFont typeface="Wingdings" charset="2"/>
              <a:buChar char=""/>
            </a:pPr>
            <a:r>
              <a:rPr b="0" lang="ru-RU" sz="2400" spc="-60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Constantia"/>
              </a:rPr>
              <a:t>  </a:t>
            </a:r>
            <a:r>
              <a:rPr b="0" lang="ru-RU" sz="2400" spc="-60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Constantia"/>
              </a:rPr>
              <a:t>Критерий В.</a:t>
            </a:r>
            <a:r>
              <a:rPr b="0" lang="ru-RU" sz="2400" spc="-60" strike="noStrike" cap="all">
                <a:solidFill>
                  <a:schemeClr val="accent1">
                    <a:lumMod val="75000"/>
                  </a:schemeClr>
                </a:solidFill>
                <a:latin typeface="Constantia"/>
              </a:rPr>
              <a:t> Понимание и применение. </a:t>
            </a:r>
            <a:br>
              <a:rPr sz="2800"/>
            </a:br>
            <a:r>
              <a:rPr b="0" lang="ru-RU" sz="2800" spc="-60" strike="noStrike" cap="all">
                <a:solidFill>
                  <a:schemeClr val="accent1">
                    <a:lumMod val="75000"/>
                  </a:schemeClr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560" cy="53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Franklin Gothic Book"/>
              </a:rPr>
              <a:t>Учащийся: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9c4040"/>
                </a:solidFill>
                <a:latin typeface="Franklin Gothic Book"/>
              </a:rPr>
              <a:t>использует в  диалогической и монологической речи многозначные слова, слова в прямом и переносном значении, синонимы и антонимы;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9c4040"/>
                </a:solidFill>
                <a:latin typeface="Franklin Gothic Book"/>
              </a:rPr>
              <a:t>пользуется, ориентируется в толковом словаре, словаре синонимов и антонимов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8300520" cy="56880"/>
          </a:xfrm>
          <a:prstGeom prst="rect">
            <a:avLst/>
          </a:prstGeom>
          <a:noFill/>
          <a:ln w="0">
            <a:noFill/>
          </a:ln>
        </p:spPr>
        <p:txBody>
          <a:bodyPr tIns="28440" bIns="28440" anchor="b">
            <a:normAutofit/>
          </a:bodyPr>
          <a:p>
            <a:pPr>
              <a:lnSpc>
                <a:spcPct val="100000"/>
              </a:lnSpc>
              <a:buClr>
                <a:srgbClr val="820101"/>
              </a:buClr>
              <a:buFont typeface="Wingdings" charset="2"/>
              <a:buChar char=""/>
            </a:pPr>
            <a:r>
              <a:rPr b="0" lang="ru-RU" sz="2400" spc="-60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Constantia"/>
              </a:rPr>
              <a:t>  </a:t>
            </a:r>
            <a:r>
              <a:rPr b="0" lang="ru-RU" sz="2400" spc="-60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Constantia"/>
              </a:rPr>
              <a:t>Критерий с.</a:t>
            </a:r>
            <a:r>
              <a:rPr b="0" lang="ru-RU" sz="2400" spc="-60" strike="noStrike" cap="all">
                <a:solidFill>
                  <a:schemeClr val="accent1">
                    <a:lumMod val="75000"/>
                  </a:schemeClr>
                </a:solidFill>
                <a:latin typeface="Constantia"/>
              </a:rPr>
              <a:t> Интеграция знаний, практическая грамотность</a:t>
            </a:r>
            <a:r>
              <a:rPr b="0" lang="ru-RU" sz="2400" spc="-60" strike="noStrike" cap="all">
                <a:solidFill>
                  <a:schemeClr val="accent4"/>
                </a:solidFill>
                <a:latin typeface="Constantia"/>
              </a:rPr>
              <a:t>. </a:t>
            </a:r>
            <a:br>
              <a:rPr sz="2800"/>
            </a:br>
            <a:r>
              <a:rPr b="0" lang="ru-RU" sz="2800" spc="-60" strike="noStrike" cap="all">
                <a:solidFill>
                  <a:schemeClr val="accent4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560" cy="53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Franklin Gothic Book"/>
              </a:rPr>
              <a:t>Учащийся: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9c4040"/>
                </a:solidFill>
                <a:latin typeface="Franklin Gothic Book"/>
              </a:rPr>
              <a:t>применяет  полученные знания для решения проблем, возникающих в жизненной практике, в учебе и быту, извлекает заданную информацию из различных источников (словари, Интернет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9c4040"/>
                </a:solidFill>
                <a:latin typeface="Franklin Gothic Book"/>
              </a:rPr>
              <a:t>Собирает и систематизирует материал на заданную тему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9c4040"/>
                </a:solidFill>
                <a:latin typeface="Franklin Gothic Book"/>
              </a:rPr>
              <a:t>Использует изобразительно-выразительные средства языка  при   создании  собственных  текстов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9c4040"/>
                </a:solidFill>
                <a:latin typeface="Franklin Gothic Book"/>
              </a:rPr>
              <a:t>Умеет представлять информацию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32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2000"/>
          </a:bodyPr>
          <a:p>
            <a:pPr indent="0">
              <a:buNone/>
            </a:pPr>
            <a:endParaRPr b="0" lang="en-US" sz="3600" spc="-60" strike="noStrike" cap="all">
              <a:solidFill>
                <a:srgbClr val="303030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761976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«метапредметные результаты освоения ООП   должны отражать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) умение самостоятельно </a:t>
            </a:r>
            <a:r>
              <a:rPr b="1" lang="ru-RU" sz="1600" spc="-1" strike="noStrike">
                <a:solidFill>
                  <a:srgbClr val="ff0000"/>
                </a:solidFill>
                <a:latin typeface="Franklin Gothic Book"/>
              </a:rPr>
              <a:t>определять цели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своего обучения, ставить и формулировать для себя новые задачи в учёбе и познавательной деятельности, развивать мотивы и интересы своей познавательной деятельности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2) умение самостоятельно </a:t>
            </a:r>
            <a:r>
              <a:rPr b="1" lang="ru-RU" sz="1600" spc="-1" strike="noStrike">
                <a:solidFill>
                  <a:srgbClr val="ff0000"/>
                </a:solidFill>
                <a:latin typeface="Franklin Gothic Book"/>
              </a:rPr>
              <a:t>планировать пути достижения целей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, в том числе альтернативные, осознанно выбирать наиболее эффективные способы решения учебных и познавательных задач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3) умение </a:t>
            </a:r>
            <a:r>
              <a:rPr b="1" lang="ru-RU" sz="1600" spc="-1" strike="noStrike">
                <a:solidFill>
                  <a:srgbClr val="ff0000"/>
                </a:solidFill>
                <a:latin typeface="Franklin Gothic Book"/>
              </a:rPr>
              <a:t>соотносить свои действия с планируемыми результатами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ru-RU" sz="1600" spc="-1" strike="noStrike">
                <a:solidFill>
                  <a:srgbClr val="ff0000"/>
                </a:solidFill>
                <a:latin typeface="Franklin Gothic Book"/>
              </a:rPr>
              <a:t>осуществлять контроль своей деятельности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 процессе достижения результата, определять способы действий в рамках предложенных условий и требований, корректировать свои действия в соответствии с изменяющейся ситуацией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4) умение </a:t>
            </a:r>
            <a:r>
              <a:rPr b="1" lang="ru-RU" sz="1600" spc="-1" strike="noStrike">
                <a:solidFill>
                  <a:srgbClr val="ff0000"/>
                </a:solidFill>
                <a:latin typeface="Franklin Gothic Book"/>
              </a:rPr>
              <a:t>оценивать правильность выполнения учебной задачи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, собственные возможности её решения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5) владение основами </a:t>
            </a:r>
            <a:r>
              <a:rPr b="1" lang="ru-RU" sz="1600" spc="-1" strike="noStrike">
                <a:solidFill>
                  <a:srgbClr val="ff0000"/>
                </a:solidFill>
                <a:latin typeface="Franklin Gothic Book"/>
              </a:rPr>
              <a:t>самоконтроля, самооценки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, принятия решений и осуществления осознанного выбора в учебной и познавательной деятельности; аргументировать и отстаивать своё мнение»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60" strike="noStrike" cap="all">
                <a:solidFill>
                  <a:schemeClr val="accent1">
                    <a:lumMod val="75000"/>
                  </a:schemeClr>
                </a:solidFill>
                <a:latin typeface="Constantia"/>
              </a:rPr>
              <a:t>КАК СОЗДАТЬ КРИТЕРИАЛЬНУЮ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542520" y="4729320"/>
            <a:ext cx="1144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5">
                    <a:lumMod val="75000"/>
                  </a:schemeClr>
                </a:solidFill>
                <a:latin typeface="Verdana"/>
              </a:rPr>
              <a:t>1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31"/>
          <p:cNvGrpSpPr/>
          <p:nvPr/>
        </p:nvGrpSpPr>
        <p:grpSpPr>
          <a:xfrm>
            <a:off x="1049400" y="5738760"/>
            <a:ext cx="228240" cy="228240"/>
            <a:chOff x="1049400" y="5738760"/>
            <a:chExt cx="228240" cy="228240"/>
          </a:xfrm>
        </p:grpSpPr>
        <p:sp>
          <p:nvSpPr>
            <p:cNvPr id="404" name="Oval 32"/>
            <p:cNvSpPr/>
            <p:nvPr/>
          </p:nvSpPr>
          <p:spPr>
            <a:xfrm>
              <a:off x="1049400" y="573876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e101"/>
                </a:gs>
                <a:gs pos="100000">
                  <a:srgbClr val="3e36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3"/>
            <p:cNvSpPr/>
            <p:nvPr/>
          </p:nvSpPr>
          <p:spPr>
            <a:xfrm>
              <a:off x="1075320" y="574272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e1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06" name="AutoShape 35"/>
          <p:cNvCxnSpPr>
            <a:endCxn id="404" idx="0"/>
          </p:cNvCxnSpPr>
          <p:nvPr/>
        </p:nvCxnSpPr>
        <p:spPr>
          <a:xfrm>
            <a:off x="1143000" y="5243400"/>
            <a:ext cx="20880" cy="495720"/>
          </a:xfrm>
          <a:prstGeom prst="straightConnector1">
            <a:avLst/>
          </a:prstGeom>
          <a:ln cap="rnd" w="38100">
            <a:solidFill>
              <a:srgbClr val="ffe101"/>
            </a:solidFill>
            <a:prstDash val="sysDot"/>
            <a:round/>
          </a:ln>
        </p:spPr>
      </p:cxnSp>
      <p:sp>
        <p:nvSpPr>
          <p:cNvPr id="407" name="AutoShape 54"/>
          <p:cNvSpPr/>
          <p:nvPr/>
        </p:nvSpPr>
        <p:spPr>
          <a:xfrm flipH="1">
            <a:off x="1294560" y="5272200"/>
            <a:ext cx="7198920" cy="1066320"/>
          </a:xfrm>
          <a:prstGeom prst="homePlate">
            <a:avLst>
              <a:gd name="adj" fmla="val 42053"/>
            </a:avLst>
          </a:prstGeom>
          <a:gradFill rotWithShape="0">
            <a:gsLst>
              <a:gs pos="0">
                <a:srgbClr val="ddd923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ddd923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2000160" y="5857920"/>
            <a:ext cx="6000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1.  Проанализировать содержание 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5"/>
          <p:cNvSpPr/>
          <p:nvPr/>
        </p:nvSpPr>
        <p:spPr>
          <a:xfrm>
            <a:off x="1303920" y="3619440"/>
            <a:ext cx="1144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92d365"/>
                </a:solidFill>
                <a:latin typeface="Verdana"/>
              </a:rPr>
              <a:t>2</a:t>
            </a:r>
            <a:r>
              <a:rPr b="1" lang="ru-RU" sz="2400" spc="-1" strike="noStrike">
                <a:solidFill>
                  <a:srgbClr val="92d365"/>
                </a:solidFill>
                <a:latin typeface="Verdana"/>
              </a:rPr>
              <a:t>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6"/>
          <p:cNvGrpSpPr/>
          <p:nvPr/>
        </p:nvGrpSpPr>
        <p:grpSpPr>
          <a:xfrm>
            <a:off x="1811160" y="4519440"/>
            <a:ext cx="228240" cy="228240"/>
            <a:chOff x="1811160" y="4519440"/>
            <a:chExt cx="228240" cy="228240"/>
          </a:xfrm>
        </p:grpSpPr>
        <p:sp>
          <p:nvSpPr>
            <p:cNvPr id="411" name="Oval 57"/>
            <p:cNvSpPr/>
            <p:nvPr/>
          </p:nvSpPr>
          <p:spPr>
            <a:xfrm>
              <a:off x="1811160" y="45194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3612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8"/>
            <p:cNvSpPr/>
            <p:nvPr/>
          </p:nvSpPr>
          <p:spPr>
            <a:xfrm>
              <a:off x="1837440" y="452340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d3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3" name="AutoShape 59"/>
          <p:cNvCxnSpPr>
            <a:stCxn id="409" idx="2"/>
            <a:endCxn id="411" idx="0"/>
          </p:cNvCxnSpPr>
          <p:nvPr/>
        </p:nvCxnSpPr>
        <p:spPr>
          <a:xfrm>
            <a:off x="1876320" y="4080960"/>
            <a:ext cx="49320" cy="438840"/>
          </a:xfrm>
          <a:prstGeom prst="straightConnector1">
            <a:avLst/>
          </a:prstGeom>
          <a:ln cap="rnd" w="38100">
            <a:solidFill>
              <a:srgbClr val="92d365"/>
            </a:solidFill>
            <a:prstDash val="sysDot"/>
            <a:round/>
          </a:ln>
        </p:spPr>
      </p:cxnSp>
      <p:sp>
        <p:nvSpPr>
          <p:cNvPr id="414" name="AutoShape 60"/>
          <p:cNvSpPr/>
          <p:nvPr/>
        </p:nvSpPr>
        <p:spPr>
          <a:xfrm flipH="1">
            <a:off x="2057400" y="4100400"/>
            <a:ext cx="6433920" cy="1066320"/>
          </a:xfrm>
          <a:prstGeom prst="homePlate">
            <a:avLst>
              <a:gd name="adj" fmla="val 44955"/>
            </a:avLst>
          </a:prstGeom>
          <a:gradFill rotWithShape="0">
            <a:gsLst>
              <a:gs pos="0">
                <a:srgbClr val="92d365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92d365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1"/>
          <p:cNvSpPr/>
          <p:nvPr/>
        </p:nvSpPr>
        <p:spPr>
          <a:xfrm>
            <a:off x="2571840" y="4643280"/>
            <a:ext cx="5028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3. Выделить итоговые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2"/>
          <p:cNvSpPr/>
          <p:nvPr/>
        </p:nvSpPr>
        <p:spPr>
          <a:xfrm>
            <a:off x="2142720" y="2476440"/>
            <a:ext cx="1144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86cef6"/>
                </a:solidFill>
                <a:latin typeface="Verdana"/>
              </a:rPr>
              <a:t>3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63"/>
          <p:cNvGrpSpPr/>
          <p:nvPr/>
        </p:nvGrpSpPr>
        <p:grpSpPr>
          <a:xfrm>
            <a:off x="2649600" y="3371760"/>
            <a:ext cx="228240" cy="228240"/>
            <a:chOff x="2649600" y="3371760"/>
            <a:chExt cx="228240" cy="228240"/>
          </a:xfrm>
        </p:grpSpPr>
        <p:sp>
          <p:nvSpPr>
            <p:cNvPr id="418" name="Oval 64"/>
            <p:cNvSpPr/>
            <p:nvPr/>
          </p:nvSpPr>
          <p:spPr>
            <a:xfrm>
              <a:off x="2649600" y="337176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86cef6"/>
                </a:gs>
                <a:gs pos="100000">
                  <a:srgbClr val="3e5f71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5"/>
            <p:cNvSpPr/>
            <p:nvPr/>
          </p:nvSpPr>
          <p:spPr>
            <a:xfrm>
              <a:off x="2675520" y="337572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bfdfe"/>
                </a:gs>
                <a:gs pos="100000">
                  <a:srgbClr val="86ce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20" name="AutoShape 66"/>
          <p:cNvCxnSpPr>
            <a:stCxn id="416" idx="2"/>
          </p:cNvCxnSpPr>
          <p:nvPr/>
        </p:nvCxnSpPr>
        <p:spPr>
          <a:xfrm>
            <a:off x="2714400" y="2937960"/>
            <a:ext cx="51120" cy="316440"/>
          </a:xfrm>
          <a:prstGeom prst="straightConnector1">
            <a:avLst/>
          </a:prstGeom>
          <a:ln cap="rnd" w="38100">
            <a:solidFill>
              <a:srgbClr val="86cef6"/>
            </a:solidFill>
            <a:prstDash val="sysDot"/>
            <a:round/>
          </a:ln>
        </p:spPr>
      </p:cxnSp>
      <p:sp>
        <p:nvSpPr>
          <p:cNvPr id="421" name="AutoShape 67"/>
          <p:cNvSpPr/>
          <p:nvPr/>
        </p:nvSpPr>
        <p:spPr>
          <a:xfrm flipH="1">
            <a:off x="2894760" y="2933640"/>
            <a:ext cx="5600520" cy="1066320"/>
          </a:xfrm>
          <a:prstGeom prst="homePlate">
            <a:avLst>
              <a:gd name="adj" fmla="val 39083"/>
            </a:avLst>
          </a:prstGeom>
          <a:gradFill rotWithShape="0">
            <a:gsLst>
              <a:gs pos="0">
                <a:srgbClr val="5491d4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5491d4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8"/>
          <p:cNvSpPr/>
          <p:nvPr/>
        </p:nvSpPr>
        <p:spPr>
          <a:xfrm>
            <a:off x="3286080" y="3143160"/>
            <a:ext cx="528588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ru-RU" sz="1400" spc="-1" strike="noStrike" cap="all">
                <a:solidFill>
                  <a:schemeClr val="accent4"/>
                </a:solidFill>
                <a:latin typeface="Arial"/>
              </a:rPr>
              <a:t>5. </a:t>
            </a: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Подобрать задания  в соотве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 </a:t>
            </a: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с критер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9"/>
          <p:cNvSpPr/>
          <p:nvPr/>
        </p:nvSpPr>
        <p:spPr>
          <a:xfrm>
            <a:off x="3018960" y="1300320"/>
            <a:ext cx="1144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9b96dc"/>
                </a:solidFill>
                <a:latin typeface="Verdana"/>
              </a:rPr>
              <a:t>4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70"/>
          <p:cNvGrpSpPr/>
          <p:nvPr/>
        </p:nvGrpSpPr>
        <p:grpSpPr>
          <a:xfrm>
            <a:off x="3525840" y="2192400"/>
            <a:ext cx="228240" cy="228240"/>
            <a:chOff x="3525840" y="2192400"/>
            <a:chExt cx="228240" cy="228240"/>
          </a:xfrm>
        </p:grpSpPr>
        <p:sp>
          <p:nvSpPr>
            <p:cNvPr id="425" name="Oval 71"/>
            <p:cNvSpPr/>
            <p:nvPr/>
          </p:nvSpPr>
          <p:spPr>
            <a:xfrm>
              <a:off x="3525840" y="21924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a7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3552120" y="219600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67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27" name="AutoShape 73"/>
          <p:cNvCxnSpPr>
            <a:stCxn id="423" idx="2"/>
            <a:endCxn id="425" idx="0"/>
          </p:cNvCxnSpPr>
          <p:nvPr/>
        </p:nvCxnSpPr>
        <p:spPr>
          <a:xfrm>
            <a:off x="3591000" y="1761480"/>
            <a:ext cx="49320" cy="430920"/>
          </a:xfrm>
          <a:prstGeom prst="straightConnector1">
            <a:avLst/>
          </a:prstGeom>
          <a:ln cap="rnd" w="38100">
            <a:solidFill>
              <a:srgbClr val="b67ff3"/>
            </a:solidFill>
            <a:prstDash val="sysDot"/>
            <a:round/>
          </a:ln>
        </p:spPr>
      </p:cxnSp>
      <p:sp>
        <p:nvSpPr>
          <p:cNvPr id="428" name="AutoShape 74"/>
          <p:cNvSpPr/>
          <p:nvPr/>
        </p:nvSpPr>
        <p:spPr>
          <a:xfrm flipH="1">
            <a:off x="3772080" y="1754280"/>
            <a:ext cx="4728960" cy="1066320"/>
          </a:xfrm>
          <a:prstGeom prst="homePlate">
            <a:avLst>
              <a:gd name="adj" fmla="val 37742"/>
            </a:avLst>
          </a:prstGeom>
          <a:gradFill rotWithShape="0">
            <a:gsLst>
              <a:gs pos="0">
                <a:srgbClr val="9b96dc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9b96dc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2143080" y="5357880"/>
            <a:ext cx="57862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2. Продумать виды проверочных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1"/>
          <p:cNvSpPr/>
          <p:nvPr/>
        </p:nvSpPr>
        <p:spPr>
          <a:xfrm>
            <a:off x="2571840" y="4143240"/>
            <a:ext cx="57862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4. продумать, какие критерии использ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8"/>
          <p:cNvSpPr/>
          <p:nvPr/>
        </p:nvSpPr>
        <p:spPr>
          <a:xfrm>
            <a:off x="4097520" y="2357280"/>
            <a:ext cx="4362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6.  Создать рубрикатор оцени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60" strike="noStrike" cap="all">
                <a:solidFill>
                  <a:srgbClr val="303030"/>
                </a:solidFill>
                <a:latin typeface="Arial Black"/>
              </a:rPr>
              <a:t>Рубрики оцен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23"/>
          <p:cNvGrpSpPr/>
          <p:nvPr/>
        </p:nvGrpSpPr>
        <p:grpSpPr>
          <a:xfrm>
            <a:off x="1371600" y="1600200"/>
            <a:ext cx="6552720" cy="4421520"/>
            <a:chOff x="1371600" y="1600200"/>
            <a:chExt cx="6552720" cy="4421520"/>
          </a:xfrm>
        </p:grpSpPr>
        <p:sp>
          <p:nvSpPr>
            <p:cNvPr id="434" name="AutoShape 3"/>
            <p:cNvSpPr/>
            <p:nvPr/>
          </p:nvSpPr>
          <p:spPr>
            <a:xfrm>
              <a:off x="5638680" y="3324240"/>
              <a:ext cx="2285640" cy="266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700000" dist="107423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Text Box 4"/>
            <p:cNvSpPr/>
            <p:nvPr/>
          </p:nvSpPr>
          <p:spPr>
            <a:xfrm>
              <a:off x="5791320" y="3519360"/>
              <a:ext cx="2057040" cy="2223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Характеристика не ученика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а его раб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6"/>
            <p:cNvSpPr/>
            <p:nvPr/>
          </p:nvSpPr>
          <p:spPr>
            <a:xfrm>
              <a:off x="1371600" y="3324240"/>
              <a:ext cx="2285640" cy="266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700000" dist="107423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Text Box 7"/>
            <p:cNvSpPr/>
            <p:nvPr/>
          </p:nvSpPr>
          <p:spPr>
            <a:xfrm>
              <a:off x="1467000" y="3524400"/>
              <a:ext cx="2037960" cy="2497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За что ставятся баллы по каждому из критерие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10"/>
            <p:cNvSpPr/>
            <p:nvPr/>
          </p:nvSpPr>
          <p:spPr>
            <a:xfrm>
              <a:off x="3451320" y="3224160"/>
              <a:ext cx="909360" cy="1244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3451320" y="3227400"/>
              <a:ext cx="902880" cy="1240920"/>
            </a:xfrm>
            <a:custGeom>
              <a:avLst/>
              <a:gdLst>
                <a:gd name="textAreaLeft" fmla="*/ 0 w 902880"/>
                <a:gd name="textAreaRight" fmla="*/ 903240 w 90288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addee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12"/>
            <p:cNvSpPr/>
            <p:nvPr/>
          </p:nvSpPr>
          <p:spPr>
            <a:xfrm flipH="1">
              <a:off x="4944960" y="3224160"/>
              <a:ext cx="909360" cy="1244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 flipH="1">
              <a:off x="4951440" y="3227400"/>
              <a:ext cx="902880" cy="1240920"/>
            </a:xfrm>
            <a:custGeom>
              <a:avLst/>
              <a:gdLst>
                <a:gd name="textAreaLeft" fmla="*/ 360 w 902880"/>
                <a:gd name="textAreaRight" fmla="*/ 903600 w 90288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ee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14"/>
            <p:cNvGrpSpPr/>
            <p:nvPr/>
          </p:nvGrpSpPr>
          <p:grpSpPr>
            <a:xfrm>
              <a:off x="3170160" y="1600200"/>
              <a:ext cx="2998440" cy="1601640"/>
              <a:chOff x="3170160" y="1600200"/>
              <a:chExt cx="2998440" cy="1601640"/>
            </a:xfrm>
          </p:grpSpPr>
          <p:grpSp>
            <p:nvGrpSpPr>
              <p:cNvPr id="443" name="Group 15"/>
              <p:cNvGrpSpPr/>
              <p:nvPr/>
            </p:nvGrpSpPr>
            <p:grpSpPr>
              <a:xfrm>
                <a:off x="3170160" y="1743120"/>
                <a:ext cx="2998440" cy="1458720"/>
                <a:chOff x="3170160" y="1743120"/>
                <a:chExt cx="2998440" cy="1458720"/>
              </a:xfrm>
            </p:grpSpPr>
            <p:sp>
              <p:nvSpPr>
                <p:cNvPr id="444" name="Oval 16"/>
                <p:cNvSpPr/>
                <p:nvPr/>
              </p:nvSpPr>
              <p:spPr>
                <a:xfrm>
                  <a:off x="3202920" y="1789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081"/>
                    </a:gs>
                    <a:gs pos="100000">
                      <a:srgbClr val="0066cc"/>
                    </a:gs>
                  </a:gsLst>
                  <a:lin ang="2700000"/>
                </a:gradFill>
                <a:ln w="9525">
                  <a:noFill/>
                </a:ln>
                <a:effectLst>
                  <a:outerShdw algn="ctr" dir="2700000" dist="35638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17"/>
                <p:cNvSpPr/>
                <p:nvPr/>
              </p:nvSpPr>
              <p:spPr>
                <a:xfrm>
                  <a:off x="3170160" y="17431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c6f2"/>
                    </a:gs>
                    <a:gs pos="100000">
                      <a:srgbClr val="1d80e3"/>
                    </a:gs>
                  </a:gsLst>
                  <a:lin ang="27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Oval 18"/>
              <p:cNvSpPr/>
              <p:nvPr/>
            </p:nvSpPr>
            <p:spPr>
              <a:xfrm>
                <a:off x="3311640" y="1600200"/>
                <a:ext cx="2684160" cy="134100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9"/>
              <p:cNvSpPr/>
              <p:nvPr/>
            </p:nvSpPr>
            <p:spPr>
              <a:xfrm>
                <a:off x="3346560" y="1608120"/>
                <a:ext cx="2619000" cy="130788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5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20"/>
              <p:cNvSpPr/>
              <p:nvPr/>
            </p:nvSpPr>
            <p:spPr>
              <a:xfrm>
                <a:off x="3373560" y="1620720"/>
                <a:ext cx="2491920" cy="1221840"/>
              </a:xfrm>
              <a:prstGeom prst="ellipse">
                <a:avLst/>
              </a:prstGeom>
              <a:gradFill rotWithShape="0">
                <a:gsLst>
                  <a:gs pos="0">
                    <a:srgbClr val="caa100"/>
                  </a:gs>
                  <a:gs pos="100000">
                    <a:srgbClr val="ffcc00">
                      <a:alpha val="48235"/>
                    </a:srgbClr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21"/>
              <p:cNvSpPr/>
              <p:nvPr/>
            </p:nvSpPr>
            <p:spPr>
              <a:xfrm>
                <a:off x="3505320" y="1647720"/>
                <a:ext cx="219348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22"/>
            <p:cNvSpPr/>
            <p:nvPr/>
          </p:nvSpPr>
          <p:spPr>
            <a:xfrm>
              <a:off x="3231720" y="1857240"/>
              <a:ext cx="2817720" cy="6685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Рубрикат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Arial Black"/>
                </a:rPr>
                <a:t>инструкция по оценивани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572320" cy="56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60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Arial Black"/>
              </a:rPr>
              <a:t>Компетентностно-ориентированные задания по теме «Лексика» 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560" cy="52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Критерий А. Знание и воспроизведение (6 баллов)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1. Соедини линиями: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Слова, имеющие противоположное значение                 синонимы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Слова, близкие по значению, но различные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по звучанию  и написанию                                                   многозначные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Слова, имеющие несколько лексических  значений       однозначные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Слова, имеющие одно лексические  значение                   антонимы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572320" cy="56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60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Arial Black"/>
              </a:rPr>
              <a:t>Компетентностно-ориентированные задания по теме «Лексика» 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548200" cy="52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Критерий А. Знание и воспроизведение (6 баллов)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2. Запиши слово по его толкованию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Посуда, в которой хранят масло - _______________________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Самое тёплое время года -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_____________________________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3. Объясни, что означают слова  лесок, школьник. При объяснении используй их однокоренные слова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7800" cy="158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8000"/>
          </a:bodyPr>
          <a:p>
            <a:pPr indent="0">
              <a:lnSpc>
                <a:spcPts val="2401"/>
              </a:lnSpc>
              <a:buNone/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Таблица 4"/>
          <p:cNvGraphicFramePr/>
          <p:nvPr/>
        </p:nvGraphicFramePr>
        <p:xfrm>
          <a:off x="0" y="0"/>
          <a:ext cx="9143640" cy="6854400"/>
        </p:xfrm>
        <a:graphic>
          <a:graphicData uri="http://schemas.openxmlformats.org/drawingml/2006/table">
            <a:tbl>
              <a:tblPr/>
              <a:tblGrid>
                <a:gridCol w="1571400"/>
                <a:gridCol w="7572240"/>
              </a:tblGrid>
              <a:tr h="84672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Уровень дост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Критерий 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Дескрипт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9940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 algn="just">
                        <a:lnSpc>
                          <a:spcPts val="1199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1" lang="kk-KZ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Не достиг ни одного из уровней предложенных ни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  <a:tr h="70452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чащийся  знает 1 прави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58140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чащийся  знает 2-3 прав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  <a:tr h="74664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чащийся  знает 3-4  правила по данной теме, определяет слово по его  лексическому знач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106668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чащийся  знает все  правила по данной теме, определяет слово по его  лексическому знач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  <a:tr h="81396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чащийся  знает все  правила по данной теме, определяет слово по его  лексическому значению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яет  значение сло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149436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чащийся  знает все  правила по данной теме, определяет слово по его  лексическому значению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яет  значение слова, при объяснении использует однокоренные слова и составляет с ними словосочетания или предло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000720" cy="56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3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60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Arial Black"/>
              </a:rPr>
              <a:t>Компетентностно-ориентированные задания по теме «Лексик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54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Критерий В.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Понимание и применение  (6 баллов)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1. Подбери и запиши подходящие по смыслу слова, которые называют признаки предметов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___________________  погода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____________________груша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____________________книга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2. Подбери подходящие по смыслу слова. Запиши сочетания слов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название (собаки, города, ребёнка) – ______________________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игрушка (еловая, елочная) – ______________________________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выстрел (пушечный, пушистый, пушной) – __________________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3. Выпиши сочетания слов, в которых слова норка и лисичка обозначают зверька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Уютная норка. Шустрая норка. ______________________________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Вкусные лисички. Озорные лисички._________________________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929440" cy="99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60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Arial Black"/>
              </a:rPr>
              <a:t>Компетентностно-ориентированные задания по теме «Лекси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4360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Критерий В.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Понимание и применение  (6 баллов)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4. Подбери и подчеркни синонимы к выделенному слову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маленькая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ашина -  новая, небольшая, красивая, крошечна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5. К словам первого столбика подбери антонимы из второго.  Соедини линиям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ильный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усталый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</a:rPr>
              <a:t>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слабый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</a:rPr>
              <a:t>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слабост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бодрый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усталость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1" name="Picture 2" descr="D:\ФОТО  С ДЕТЬМИ\РИСУНКИ\images.jpeg"/>
          <p:cNvPicPr/>
          <p:nvPr/>
        </p:nvPicPr>
        <p:blipFill>
          <a:blip r:embed="rId1"/>
          <a:stretch/>
        </p:blipFill>
        <p:spPr>
          <a:xfrm>
            <a:off x="7143840" y="4857840"/>
            <a:ext cx="1999800" cy="1999800"/>
          </a:xfrm>
          <a:prstGeom prst="rect">
            <a:avLst/>
          </a:prstGeom>
          <a:ln w="9525">
            <a:noFill/>
          </a:ln>
        </p:spPr>
      </p:pic>
    </p:spTree>
  </p:cSld>
  <p:transition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7800" cy="158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8000"/>
          </a:bodyPr>
          <a:p>
            <a:pPr indent="0">
              <a:lnSpc>
                <a:spcPts val="2401"/>
              </a:lnSpc>
              <a:buNone/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Таблица 4"/>
          <p:cNvGraphicFramePr/>
          <p:nvPr/>
        </p:nvGraphicFramePr>
        <p:xfrm>
          <a:off x="0" y="0"/>
          <a:ext cx="9143640" cy="7095960"/>
        </p:xfrm>
        <a:graphic>
          <a:graphicData uri="http://schemas.openxmlformats.org/drawingml/2006/table">
            <a:tbl>
              <a:tblPr/>
              <a:tblGrid>
                <a:gridCol w="1571400"/>
                <a:gridCol w="7572240"/>
              </a:tblGrid>
              <a:tr h="84672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Уровень дост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Критерий 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Дескрипт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9940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 algn="just">
                        <a:lnSpc>
                          <a:spcPts val="1199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1" lang="kk-KZ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Не достиг ни одного из уровней предложенных ни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  <a:tr h="70452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чащийся умеет правильно подбирать слова по его лексическому значен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58140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йся умеет  подбирать слова по его лексическому значению и правильно употреблять в реч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  <a:tr h="74664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йся умеет подбирать слова по его лексическому значению и правильно употреблять в речи,  различать многозначные и однозначные сло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106668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йся умеет  подбирать слова по его лексическому значению и правильно употреблять в речи,  различать многозначные и однозначные слова,  находить и  использовать  синони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  <a:tr h="81396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йся умеет  подбирать слова по его лексическому значению и правильно употреблять в речи,  различать многозначные и однозначные слова,  находить и  использовать  синонимы и антони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149436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йся умеет  подбирать слова по его лексическому значению и правильно употреблять в речи,  различать многозначные и однозначные слова,  находить и  использовать  синонимы и антонимы, может пользоваться   словар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3640" cy="56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60" strike="noStrike" u="sng" cap="all">
                <a:solidFill>
                  <a:schemeClr val="accent1">
                    <a:lumMod val="75000"/>
                  </a:schemeClr>
                </a:solidFill>
                <a:uFillTx/>
                <a:latin typeface="Arial Black"/>
              </a:rPr>
              <a:t>Компетентностно-ориентированные задания по теме «Лексика» 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4360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Критерий С.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Интеграция знаний,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актическая грамотность (8 баллов)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1. Найдите значение слова, используя различные источники информации (словари, Интернет, учебник). Укажите  источник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Пейзаж, амфитеатр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2. Составь словарь на тему «Животные»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6" name="Picture 2" descr="D:\ФОТО  С ДЕТЬМИ\РИСУНКИ\images.jpeg"/>
          <p:cNvPicPr/>
          <p:nvPr/>
        </p:nvPicPr>
        <p:blipFill>
          <a:blip r:embed="rId1"/>
          <a:stretch/>
        </p:blipFill>
        <p:spPr>
          <a:xfrm>
            <a:off x="7485480" y="5072040"/>
            <a:ext cx="1658160" cy="1785600"/>
          </a:xfrm>
          <a:prstGeom prst="rect">
            <a:avLst/>
          </a:prstGeom>
          <a:ln w="9525">
            <a:noFill/>
          </a:ln>
        </p:spPr>
      </p:pic>
    </p:spTree>
  </p:cSld>
  <p:transition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7800" cy="158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8000"/>
          </a:bodyPr>
          <a:p>
            <a:pPr indent="0">
              <a:lnSpc>
                <a:spcPts val="2401"/>
              </a:lnSpc>
              <a:buNone/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Таблица 4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1571400"/>
                <a:gridCol w="7572240"/>
              </a:tblGrid>
              <a:tr h="127728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Уровень дост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Критерий 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Дескрипт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90396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 algn="just">
                        <a:lnSpc>
                          <a:spcPts val="1199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1" lang="kk-KZ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Не достиг ни одного из уровней предложенных ни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  <a:tr h="1062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чащийся находит заданную информацию, используя 1 источни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8773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чащийся находит заданную информацию, используя разные источни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  <a:tr h="11264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чащийся находит заданную информацию, используя разные источники, с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вляет  словарь на заданную тем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1609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чащийся находит заданную информацию, используя разные источники, составляет  словарь на заданную тему. Творческая часть  отражает высокий уровень фантазии и эмоциональной окрас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</a:tbl>
          </a:graphicData>
        </a:graphic>
      </p:graphicFrame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60" strike="noStrike" cap="all">
                <a:solidFill>
                  <a:srgbClr val="ff0000"/>
                </a:solidFill>
                <a:latin typeface="Constantia"/>
              </a:rPr>
              <a:t>Базовые принципы оценивания на основании ФГ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ценивание является </a:t>
            </a:r>
            <a:r>
              <a:rPr b="1" i="1" lang="ru-RU" sz="2000" spc="-1" strike="noStrike">
                <a:solidFill>
                  <a:srgbClr val="ff0000"/>
                </a:solidFill>
                <a:latin typeface="Franklin Gothic Book"/>
              </a:rPr>
              <a:t>постоянным процессом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, естественным образом интегрированным в образовательную практику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Оценивание может быть только </a:t>
            </a:r>
            <a:r>
              <a:rPr b="1" i="1" lang="ru-RU" sz="2000" spc="-1" strike="noStrike">
                <a:solidFill>
                  <a:srgbClr val="ff0000"/>
                </a:solidFill>
                <a:latin typeface="Franklin Gothic Book"/>
              </a:rPr>
              <a:t>критериальным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сновными критериями оценивания выступают ожидаемые результаты, соответствующие учебным целям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Критерии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оценивания и алгоритм выставления отметки </a:t>
            </a:r>
            <a:r>
              <a:rPr b="1" i="1" lang="ru-RU" sz="2000" spc="-1" strike="noStrike">
                <a:solidFill>
                  <a:srgbClr val="ff0000"/>
                </a:solidFill>
                <a:latin typeface="Franklin Gothic Book"/>
              </a:rPr>
              <a:t>заранее известны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 педагогам, и учащимся. Они могут вырабатываться ими совместно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истема оценивания выстраивается таким образом, чтобы учащиеся включались в контрольно- оценочную деятельность, приобретая навыки и привычку к </a:t>
            </a:r>
            <a:r>
              <a:rPr b="1" i="1" lang="ru-RU" sz="2000" spc="-1" strike="noStrike">
                <a:solidFill>
                  <a:srgbClr val="ff0000"/>
                </a:solidFill>
                <a:latin typeface="Franklin Gothic Book"/>
              </a:rPr>
              <a:t>самооценке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60" strike="noStrike" cap="all">
                <a:solidFill>
                  <a:schemeClr val="accent1">
                    <a:lumMod val="75000"/>
                  </a:schemeClr>
                </a:solidFill>
                <a:latin typeface="Constantia"/>
              </a:rPr>
              <a:t>КАК СОЗДАТЬ КРИТЕРИАЛЬНУЮ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542520" y="4729320"/>
            <a:ext cx="1144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5">
                    <a:lumMod val="75000"/>
                  </a:schemeClr>
                </a:solidFill>
                <a:latin typeface="Verdana"/>
              </a:rPr>
              <a:t>1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31"/>
          <p:cNvGrpSpPr/>
          <p:nvPr/>
        </p:nvGrpSpPr>
        <p:grpSpPr>
          <a:xfrm>
            <a:off x="1049400" y="5738760"/>
            <a:ext cx="228240" cy="228240"/>
            <a:chOff x="1049400" y="5738760"/>
            <a:chExt cx="228240" cy="228240"/>
          </a:xfrm>
        </p:grpSpPr>
        <p:sp>
          <p:nvSpPr>
            <p:cNvPr id="472" name="Oval 32"/>
            <p:cNvSpPr/>
            <p:nvPr/>
          </p:nvSpPr>
          <p:spPr>
            <a:xfrm>
              <a:off x="1049400" y="573876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e101"/>
                </a:gs>
                <a:gs pos="100000">
                  <a:srgbClr val="3e36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3"/>
            <p:cNvSpPr/>
            <p:nvPr/>
          </p:nvSpPr>
          <p:spPr>
            <a:xfrm>
              <a:off x="1075320" y="574272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e1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74" name="AutoShape 35"/>
          <p:cNvCxnSpPr>
            <a:endCxn id="472" idx="0"/>
          </p:cNvCxnSpPr>
          <p:nvPr/>
        </p:nvCxnSpPr>
        <p:spPr>
          <a:xfrm>
            <a:off x="1143000" y="5243400"/>
            <a:ext cx="20880" cy="495720"/>
          </a:xfrm>
          <a:prstGeom prst="straightConnector1">
            <a:avLst/>
          </a:prstGeom>
          <a:ln cap="rnd" w="38100">
            <a:solidFill>
              <a:srgbClr val="ffe101"/>
            </a:solidFill>
            <a:prstDash val="sysDot"/>
            <a:round/>
          </a:ln>
        </p:spPr>
      </p:cxnSp>
      <p:sp>
        <p:nvSpPr>
          <p:cNvPr id="475" name="AutoShape 54"/>
          <p:cNvSpPr/>
          <p:nvPr/>
        </p:nvSpPr>
        <p:spPr>
          <a:xfrm flipH="1">
            <a:off x="1294560" y="5272200"/>
            <a:ext cx="7198920" cy="1066320"/>
          </a:xfrm>
          <a:prstGeom prst="homePlate">
            <a:avLst>
              <a:gd name="adj" fmla="val 42053"/>
            </a:avLst>
          </a:prstGeom>
          <a:gradFill rotWithShape="0">
            <a:gsLst>
              <a:gs pos="0">
                <a:srgbClr val="ddd923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ddd923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2000160" y="5857920"/>
            <a:ext cx="6000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1.  Проанализировать содержание 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5"/>
          <p:cNvSpPr/>
          <p:nvPr/>
        </p:nvSpPr>
        <p:spPr>
          <a:xfrm>
            <a:off x="1303920" y="3619440"/>
            <a:ext cx="1144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92d365"/>
                </a:solidFill>
                <a:latin typeface="Verdana"/>
              </a:rPr>
              <a:t>2</a:t>
            </a:r>
            <a:r>
              <a:rPr b="1" lang="ru-RU" sz="2400" spc="-1" strike="noStrike">
                <a:solidFill>
                  <a:srgbClr val="92d365"/>
                </a:solidFill>
                <a:latin typeface="Verdana"/>
              </a:rPr>
              <a:t>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56"/>
          <p:cNvGrpSpPr/>
          <p:nvPr/>
        </p:nvGrpSpPr>
        <p:grpSpPr>
          <a:xfrm>
            <a:off x="1811160" y="4519440"/>
            <a:ext cx="228240" cy="228240"/>
            <a:chOff x="1811160" y="4519440"/>
            <a:chExt cx="228240" cy="228240"/>
          </a:xfrm>
        </p:grpSpPr>
        <p:sp>
          <p:nvSpPr>
            <p:cNvPr id="479" name="Oval 57"/>
            <p:cNvSpPr/>
            <p:nvPr/>
          </p:nvSpPr>
          <p:spPr>
            <a:xfrm>
              <a:off x="1811160" y="45194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3612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58"/>
            <p:cNvSpPr/>
            <p:nvPr/>
          </p:nvSpPr>
          <p:spPr>
            <a:xfrm>
              <a:off x="1837440" y="452340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d3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81" name="AutoShape 59"/>
          <p:cNvCxnSpPr>
            <a:stCxn id="477" idx="2"/>
            <a:endCxn id="479" idx="0"/>
          </p:cNvCxnSpPr>
          <p:nvPr/>
        </p:nvCxnSpPr>
        <p:spPr>
          <a:xfrm>
            <a:off x="1876320" y="4080960"/>
            <a:ext cx="49320" cy="438840"/>
          </a:xfrm>
          <a:prstGeom prst="straightConnector1">
            <a:avLst/>
          </a:prstGeom>
          <a:ln cap="rnd" w="38100">
            <a:solidFill>
              <a:srgbClr val="92d365"/>
            </a:solidFill>
            <a:prstDash val="sysDot"/>
            <a:round/>
          </a:ln>
        </p:spPr>
      </p:cxnSp>
      <p:sp>
        <p:nvSpPr>
          <p:cNvPr id="482" name="AutoShape 60"/>
          <p:cNvSpPr/>
          <p:nvPr/>
        </p:nvSpPr>
        <p:spPr>
          <a:xfrm flipH="1">
            <a:off x="2057400" y="4100400"/>
            <a:ext cx="6433920" cy="1066320"/>
          </a:xfrm>
          <a:prstGeom prst="homePlate">
            <a:avLst>
              <a:gd name="adj" fmla="val 44955"/>
            </a:avLst>
          </a:prstGeom>
          <a:gradFill rotWithShape="0">
            <a:gsLst>
              <a:gs pos="0">
                <a:srgbClr val="92d365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92d365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1"/>
          <p:cNvSpPr/>
          <p:nvPr/>
        </p:nvSpPr>
        <p:spPr>
          <a:xfrm>
            <a:off x="2571840" y="4643280"/>
            <a:ext cx="5028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3. Выделить итоговые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62"/>
          <p:cNvSpPr/>
          <p:nvPr/>
        </p:nvSpPr>
        <p:spPr>
          <a:xfrm>
            <a:off x="2142720" y="2476440"/>
            <a:ext cx="1144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86cef6"/>
                </a:solidFill>
                <a:latin typeface="Verdana"/>
              </a:rPr>
              <a:t>3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63"/>
          <p:cNvGrpSpPr/>
          <p:nvPr/>
        </p:nvGrpSpPr>
        <p:grpSpPr>
          <a:xfrm>
            <a:off x="2649600" y="3371760"/>
            <a:ext cx="228240" cy="228240"/>
            <a:chOff x="2649600" y="3371760"/>
            <a:chExt cx="228240" cy="228240"/>
          </a:xfrm>
        </p:grpSpPr>
        <p:sp>
          <p:nvSpPr>
            <p:cNvPr id="486" name="Oval 64"/>
            <p:cNvSpPr/>
            <p:nvPr/>
          </p:nvSpPr>
          <p:spPr>
            <a:xfrm>
              <a:off x="2649600" y="337176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86cef6"/>
                </a:gs>
                <a:gs pos="100000">
                  <a:srgbClr val="3e5f71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5"/>
            <p:cNvSpPr/>
            <p:nvPr/>
          </p:nvSpPr>
          <p:spPr>
            <a:xfrm>
              <a:off x="2675520" y="337572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bfdfe"/>
                </a:gs>
                <a:gs pos="100000">
                  <a:srgbClr val="86ce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88" name="AutoShape 66"/>
          <p:cNvCxnSpPr>
            <a:stCxn id="484" idx="2"/>
          </p:cNvCxnSpPr>
          <p:nvPr/>
        </p:nvCxnSpPr>
        <p:spPr>
          <a:xfrm>
            <a:off x="2714400" y="2937960"/>
            <a:ext cx="51120" cy="316440"/>
          </a:xfrm>
          <a:prstGeom prst="straightConnector1">
            <a:avLst/>
          </a:prstGeom>
          <a:ln cap="rnd" w="38100">
            <a:solidFill>
              <a:srgbClr val="86cef6"/>
            </a:solidFill>
            <a:prstDash val="sysDot"/>
            <a:round/>
          </a:ln>
        </p:spPr>
      </p:cxnSp>
      <p:sp>
        <p:nvSpPr>
          <p:cNvPr id="489" name="AutoShape 67"/>
          <p:cNvSpPr/>
          <p:nvPr/>
        </p:nvSpPr>
        <p:spPr>
          <a:xfrm flipH="1">
            <a:off x="2894760" y="2933640"/>
            <a:ext cx="5600520" cy="1066320"/>
          </a:xfrm>
          <a:prstGeom prst="homePlate">
            <a:avLst>
              <a:gd name="adj" fmla="val 39083"/>
            </a:avLst>
          </a:prstGeom>
          <a:gradFill rotWithShape="0">
            <a:gsLst>
              <a:gs pos="0">
                <a:srgbClr val="5491d4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5491d4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8"/>
          <p:cNvSpPr/>
          <p:nvPr/>
        </p:nvSpPr>
        <p:spPr>
          <a:xfrm>
            <a:off x="3286080" y="3143160"/>
            <a:ext cx="528588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ru-RU" sz="1400" spc="-1" strike="noStrike" cap="all">
                <a:solidFill>
                  <a:schemeClr val="accent4"/>
                </a:solidFill>
                <a:latin typeface="Arial"/>
              </a:rPr>
              <a:t>5. </a:t>
            </a: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Подобрать задания  в соотве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 </a:t>
            </a: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с критер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9"/>
          <p:cNvSpPr/>
          <p:nvPr/>
        </p:nvSpPr>
        <p:spPr>
          <a:xfrm>
            <a:off x="3018960" y="1300320"/>
            <a:ext cx="1144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9b96dc"/>
                </a:solidFill>
                <a:latin typeface="Verdana"/>
              </a:rPr>
              <a:t>4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70"/>
          <p:cNvGrpSpPr/>
          <p:nvPr/>
        </p:nvGrpSpPr>
        <p:grpSpPr>
          <a:xfrm>
            <a:off x="3525840" y="2192400"/>
            <a:ext cx="228240" cy="228240"/>
            <a:chOff x="3525840" y="2192400"/>
            <a:chExt cx="228240" cy="228240"/>
          </a:xfrm>
        </p:grpSpPr>
        <p:sp>
          <p:nvSpPr>
            <p:cNvPr id="493" name="Oval 71"/>
            <p:cNvSpPr/>
            <p:nvPr/>
          </p:nvSpPr>
          <p:spPr>
            <a:xfrm>
              <a:off x="3525840" y="21924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a7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72"/>
            <p:cNvSpPr/>
            <p:nvPr/>
          </p:nvSpPr>
          <p:spPr>
            <a:xfrm>
              <a:off x="3552120" y="2196000"/>
              <a:ext cx="176040" cy="860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67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95" name="AutoShape 73"/>
          <p:cNvCxnSpPr>
            <a:stCxn id="491" idx="2"/>
            <a:endCxn id="493" idx="0"/>
          </p:cNvCxnSpPr>
          <p:nvPr/>
        </p:nvCxnSpPr>
        <p:spPr>
          <a:xfrm>
            <a:off x="3591000" y="1761480"/>
            <a:ext cx="49320" cy="430920"/>
          </a:xfrm>
          <a:prstGeom prst="straightConnector1">
            <a:avLst/>
          </a:prstGeom>
          <a:ln cap="rnd" w="38100">
            <a:solidFill>
              <a:srgbClr val="b67ff3"/>
            </a:solidFill>
            <a:prstDash val="sysDot"/>
            <a:round/>
          </a:ln>
        </p:spPr>
      </p:cxnSp>
      <p:sp>
        <p:nvSpPr>
          <p:cNvPr id="496" name="AutoShape 74"/>
          <p:cNvSpPr/>
          <p:nvPr/>
        </p:nvSpPr>
        <p:spPr>
          <a:xfrm flipH="1">
            <a:off x="3772080" y="1754280"/>
            <a:ext cx="4728960" cy="1066320"/>
          </a:xfrm>
          <a:prstGeom prst="homePlate">
            <a:avLst>
              <a:gd name="adj" fmla="val 37742"/>
            </a:avLst>
          </a:prstGeom>
          <a:gradFill rotWithShape="0">
            <a:gsLst>
              <a:gs pos="0">
                <a:srgbClr val="9b96dc"/>
              </a:gs>
              <a:gs pos="100000">
                <a:srgbClr val="ffffff"/>
              </a:gs>
            </a:gsLst>
            <a:lin ang="108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9b96dc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2143080" y="5357880"/>
            <a:ext cx="57862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2. Продумать виды проверочных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1"/>
          <p:cNvSpPr/>
          <p:nvPr/>
        </p:nvSpPr>
        <p:spPr>
          <a:xfrm>
            <a:off x="2571840" y="4143240"/>
            <a:ext cx="57862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4. продумать, какие критерии использ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8"/>
          <p:cNvSpPr/>
          <p:nvPr/>
        </p:nvSpPr>
        <p:spPr>
          <a:xfrm>
            <a:off x="4097520" y="2357280"/>
            <a:ext cx="4362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6.  Создать рубрикатор оцени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8"/>
          <p:cNvSpPr/>
          <p:nvPr/>
        </p:nvSpPr>
        <p:spPr>
          <a:xfrm>
            <a:off x="4143240" y="1857240"/>
            <a:ext cx="42145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Arial"/>
              </a:rPr>
              <a:t>7. СОЗДАТЬ ПРОВЕРОЧНЫЙ 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60" strike="noStrike" cap="all">
                <a:solidFill>
                  <a:schemeClr val="accent1">
                    <a:lumMod val="75000"/>
                  </a:schemeClr>
                </a:solidFill>
                <a:latin typeface="Constantia"/>
              </a:rPr>
              <a:t>ПРОВЕРОЧНЫЙ Л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Таблица 7"/>
          <p:cNvGraphicFramePr/>
          <p:nvPr/>
        </p:nvGraphicFramePr>
        <p:xfrm>
          <a:off x="428760" y="1500120"/>
          <a:ext cx="8286480" cy="5019840"/>
        </p:xfrm>
        <a:graphic>
          <a:graphicData uri="http://schemas.openxmlformats.org/drawingml/2006/table">
            <a:tbl>
              <a:tblPr/>
              <a:tblGrid>
                <a:gridCol w="428400"/>
                <a:gridCol w="2643120"/>
                <a:gridCol w="1000080"/>
                <a:gridCol w="928440"/>
                <a:gridCol w="857160"/>
                <a:gridCol w="1244880"/>
                <a:gridCol w="1183680"/>
              </a:tblGrid>
              <a:tr h="47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Ф.И.О. учащего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Баллы по критерия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Сумма бал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Отмет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78440"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  <a:tr h="47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Учащийся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7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Учащийся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  <a:tr h="47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Учащийся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7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Учащийся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  <a:tr h="47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Учащийся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7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Учащийся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  <a:tr h="47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Учащийся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7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Учащийся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42960" y="1357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60" strike="noStrike" cap="all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Шкала перевода баллов в отме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0040" y="3000240"/>
            <a:ext cx="8229240" cy="31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7-2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баллов- отметка «5»  (100%-89%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4-1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баллов – отметка «4»  (75%-88%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2-1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баллов- отметка «3»  (61%-74%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менее баллов- отметка «2» (60% и менее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Таблица 21"/>
          <p:cNvGraphicFramePr/>
          <p:nvPr/>
        </p:nvGraphicFramePr>
        <p:xfrm>
          <a:off x="214200" y="3909240"/>
          <a:ext cx="3714480" cy="2775600"/>
        </p:xfrm>
        <a:graphic>
          <a:graphicData uri="http://schemas.openxmlformats.org/drawingml/2006/table">
            <a:tbl>
              <a:tblPr/>
              <a:tblGrid>
                <a:gridCol w="3714480"/>
              </a:tblGrid>
              <a:tr h="55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о ходу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b9191"/>
                        </a:gs>
                        <a:gs pos="100000">
                          <a:srgbClr val="e7bdbd"/>
                        </a:gs>
                      </a:gsLst>
                      <a:lin ang="5400000"/>
                    </a:gradFill>
                  </a:tcPr>
                </a:tc>
              </a:tr>
              <a:tr h="478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ает обратную с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b9191"/>
                        </a:gs>
                        <a:gs pos="100000">
                          <a:srgbClr val="e7bdbd"/>
                        </a:gs>
                      </a:gsLst>
                      <a:lin ang="5400000"/>
                    </a:gradFill>
                  </a:tcPr>
                </a:tc>
              </a:tr>
              <a:tr h="86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омогает ученикам скорректировать свою раб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b9191"/>
                        </a:gs>
                        <a:gs pos="100000">
                          <a:srgbClr val="e7bdbd"/>
                        </a:gs>
                      </a:gsLst>
                      <a:lin ang="5400000"/>
                    </a:gradFill>
                  </a:tcPr>
                </a:tc>
              </a:tr>
              <a:tr h="61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омогает учителям планировать свою раб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b9191"/>
                        </a:gs>
                        <a:gs pos="100000">
                          <a:srgbClr val="e7bdb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60" strike="noStrike" cap="all">
                <a:solidFill>
                  <a:srgbClr val="303030"/>
                </a:solidFill>
                <a:latin typeface="Constantia"/>
              </a:rPr>
              <a:t>Оцен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5000760" y="2714760"/>
            <a:ext cx="3857400" cy="92844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285840" y="2714760"/>
            <a:ext cx="3857400" cy="92844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85880" y="2786040"/>
            <a:ext cx="2857320" cy="85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</a:rPr>
              <a:t>ФОРМИРУЮ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70c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Arial Black"/>
              </a:rPr>
              <a:t>(текуще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8"/>
          <p:cNvSpPr/>
          <p:nvPr/>
        </p:nvSpPr>
        <p:spPr>
          <a:xfrm>
            <a:off x="2071800" y="1928880"/>
            <a:ext cx="1545840" cy="856800"/>
          </a:xfrm>
          <a:custGeom>
            <a:avLst/>
            <a:gdLst>
              <a:gd name="textAreaLeft" fmla="*/ 0 w 1545840"/>
              <a:gd name="textAreaRight" fmla="*/ 1546200 w 1545840"/>
              <a:gd name="textAreaTop" fmla="*/ 0 h 856800"/>
              <a:gd name="textAreaBottom" fmla="*/ 857160 h 8568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26056"/>
              </a:gs>
              <a:gs pos="100000">
                <a:srgbClr val="d2cc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 flipH="1">
            <a:off x="5643720" y="4071960"/>
            <a:ext cx="909360" cy="124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 flipH="1">
            <a:off x="5500080" y="1928880"/>
            <a:ext cx="1571400" cy="856800"/>
          </a:xfrm>
          <a:custGeom>
            <a:avLst/>
            <a:gdLst>
              <a:gd name="textAreaLeft" fmla="*/ -360 w 1571400"/>
              <a:gd name="textAreaRight" fmla="*/ 1571400 w 1571400"/>
              <a:gd name="textAreaTop" fmla="*/ 0 h 856800"/>
              <a:gd name="textAreaBottom" fmla="*/ 857160 h 8568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0101"/>
              </a:gs>
              <a:gs pos="100000">
                <a:srgbClr val="e4ad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8"/>
          <p:cNvSpPr/>
          <p:nvPr/>
        </p:nvSpPr>
        <p:spPr>
          <a:xfrm>
            <a:off x="5429160" y="2857320"/>
            <a:ext cx="32144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</a:rPr>
              <a:t>КОНСТАТИРУЮЩЕЕ </a:t>
            </a:r>
            <a:r>
              <a:rPr b="0" lang="en-US" sz="1800" spc="-1" strike="noStrike">
                <a:solidFill>
                  <a:srgbClr val="0070c0"/>
                </a:solidFill>
                <a:latin typeface="Arial Black"/>
              </a:rPr>
              <a:t>(</a:t>
            </a:r>
            <a:r>
              <a:rPr b="0" lang="ru-RU" sz="1800" spc="-1" strike="noStrike">
                <a:solidFill>
                  <a:srgbClr val="0070c0"/>
                </a:solidFill>
                <a:latin typeface="Arial Black"/>
              </a:rPr>
              <a:t>итогов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4200" y="3714840"/>
            <a:ext cx="3785760" cy="292860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5072040" y="3786120"/>
            <a:ext cx="3857400" cy="292860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Таблица 22"/>
          <p:cNvGraphicFramePr/>
          <p:nvPr/>
        </p:nvGraphicFramePr>
        <p:xfrm>
          <a:off x="5143680" y="3929040"/>
          <a:ext cx="3642840" cy="264276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81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ычно в конце темы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азд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b9191"/>
                        </a:gs>
                        <a:gs pos="100000">
                          <a:srgbClr val="e7bdbd"/>
                        </a:gs>
                      </a:gsLst>
                      <a:lin ang="5400000"/>
                    </a:gradFill>
                  </a:tcPr>
                </a:tc>
              </a:tr>
              <a:tr h="752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ает заключительное су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b9191"/>
                        </a:gs>
                        <a:gs pos="100000">
                          <a:srgbClr val="e7bdbd"/>
                        </a:gs>
                      </a:gsLst>
                      <a:lin ang="5400000"/>
                    </a:gradFill>
                  </a:tcPr>
                </a:tc>
              </a:tr>
              <a:tr h="107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ает возможность ученикам показать, чему они смогли научить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b9191"/>
                        </a:gs>
                        <a:gs pos="100000">
                          <a:srgbClr val="e7bdb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429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60" strike="noStrike" cap="all">
                <a:solidFill>
                  <a:srgbClr val="303030"/>
                </a:solidFill>
                <a:latin typeface="Arial Black"/>
              </a:rPr>
              <a:t>Проблемы традиционной системы оцени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142920" y="1428840"/>
            <a:ext cx="8857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 algn="just">
              <a:lnSpc>
                <a:spcPct val="100000"/>
              </a:lnSpc>
              <a:buClr>
                <a:srgbClr val="242424"/>
              </a:buClr>
              <a:buFont typeface="Wingdings" charset="2"/>
              <a:buChar char=""/>
            </a:pPr>
            <a:r>
              <a:rPr b="1" lang="ru-RU" sz="2000" spc="-1" strike="noStrike" cap="small">
                <a:solidFill>
                  <a:srgbClr val="000000"/>
                </a:solidFill>
                <a:latin typeface="Times New Roman"/>
              </a:rPr>
              <a:t>Отсутствуют четкие критерии оценки достижения планируемых результатов обучения, понятные учащимся, родителям и  педагог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buClr>
                <a:srgbClr val="242424"/>
              </a:buClr>
              <a:buFont typeface="Wingdings" charset="2"/>
              <a:buChar char=""/>
            </a:pPr>
            <a:r>
              <a:rPr b="1" lang="ru-RU" sz="2000" spc="-1" strike="noStrike" cap="small">
                <a:solidFill>
                  <a:srgbClr val="000000"/>
                </a:solidFill>
                <a:latin typeface="Times New Roman"/>
              </a:rPr>
              <a:t>Педагог  выставляет отметку, ориентируясь на средний уровень знаний класса в целом, а не на достижения каждым учеником единых критерие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buClr>
                <a:srgbClr val="242424"/>
              </a:buClr>
              <a:buFont typeface="Wingdings" charset="2"/>
              <a:buChar char=""/>
            </a:pPr>
            <a:r>
              <a:rPr b="1" lang="ru-RU" sz="2000" spc="-1" strike="noStrike" cap="small">
                <a:solidFill>
                  <a:srgbClr val="000000"/>
                </a:solidFill>
                <a:latin typeface="Times New Roman"/>
                <a:ea typeface="Arial Unicode MS"/>
              </a:rPr>
              <a:t>Отметки, выставляемые учащимся, не дают представления об усвоении конкретных элементов знаний, умений, навыков по отдельным разделам учебной программы,  что не позволяет  определить индивидуальную траекторию обучения каждого уче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buClr>
                <a:srgbClr val="242424"/>
              </a:buClr>
              <a:buFont typeface="Wingdings" charset="2"/>
              <a:buChar char=""/>
            </a:pPr>
            <a:r>
              <a:rPr b="1" lang="ru-RU" sz="2000" spc="-1" strike="noStrike" cap="small">
                <a:solidFill>
                  <a:srgbClr val="000000"/>
                </a:solidFill>
                <a:latin typeface="Times New Roman"/>
                <a:ea typeface="Arial Unicode MS"/>
              </a:rPr>
              <a:t>Отсутствует оперативная связь между учеником и учителем в процессе обучения, что  не способствует высокой мотивации учащихся к обуч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buClr>
                <a:srgbClr val="242424"/>
              </a:buClr>
              <a:buFont typeface="Wingdings" charset="2"/>
              <a:buChar char=""/>
            </a:pPr>
            <a:r>
              <a:rPr b="1" lang="ru-RU" sz="2000" spc="-1" strike="noStrike" cap="small">
                <a:solidFill>
                  <a:srgbClr val="000000"/>
                </a:solidFill>
                <a:latin typeface="Times New Roman"/>
                <a:ea typeface="Arial Unicode MS"/>
              </a:rPr>
              <a:t>Субъективизм в  оценивании учебных дост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60" strike="noStrike" cap="all">
                <a:solidFill>
                  <a:srgbClr val="303030"/>
                </a:solidFill>
                <a:latin typeface="Constantia"/>
              </a:rPr>
              <a:t>Особенности формирующего оценив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Центрировано на ученике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правляется учителем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Разносторонне результативно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Формирует учебный процесс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пределено контекстом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епрерывно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60" strike="noStrike" cap="all">
                <a:solidFill>
                  <a:srgbClr val="303030"/>
                </a:solidFill>
                <a:latin typeface="Constantia"/>
              </a:rPr>
              <a:t>«Дорожная карт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1556640"/>
            <a:ext cx="830556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. Оформить цели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. Перевести цели в измеряемые учебные результаты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3. Определить необходимый для них уровень достижений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4. Отобрать  содержание и техники оценивания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5. Выбрать и реализовать соответствующие методы обучения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6. Провести оценивание и установить, достигнуты ли измеряемые учебные результаты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1115640" y="1412640"/>
            <a:ext cx="763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200" spc="-60" strike="noStrike" cap="all">
                <a:solidFill>
                  <a:srgbClr val="ff0000"/>
                </a:solidFill>
                <a:latin typeface="Constantia"/>
              </a:rPr>
              <a:t>Опросник для самодиагностики</a:t>
            </a:r>
            <a:br>
              <a:rPr sz="2200"/>
            </a:br>
            <a:r>
              <a:rPr b="0" lang="ru-RU" sz="2200" spc="-60" strike="noStrike" cap="all">
                <a:solidFill>
                  <a:srgbClr val="ff0000"/>
                </a:solidFill>
                <a:latin typeface="Constantia"/>
              </a:rPr>
              <a:t>  знаний и умений по физической культу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59480" y="2061000"/>
            <a:ext cx="8516520" cy="35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лавная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лавная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лавная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ssential</Template>
  <TotalTime>3187</TotalTime>
  <Application>LibreOffice/7.4.7.2$Linux_X86_64 LibreOffice_project/40$Build-2</Application>
  <AppVersion>15.0000</AppVersion>
  <Words>2385</Words>
  <Paragraphs>459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9:15:13Z</dcterms:created>
  <dc:creator>admin</dc:creator>
  <dc:description/>
  <dc:language>en-US</dc:language>
  <cp:lastModifiedBy>Metodist №11</cp:lastModifiedBy>
  <dcterms:modified xsi:type="dcterms:W3CDTF">2020-10-26T03:57:53Z</dcterms:modified>
  <cp:revision>200</cp:revision>
  <dc:subject/>
  <dc:title>ФОРМИРУЮЩЕЕ ОЦЕНИВАНИЕ ПРИ ИЗУЧЕНИИ ТЕМЫ «ЛЕКСИКА»  В 3 КЛАС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Экран (4:3)</vt:lpwstr>
  </property>
  <property fmtid="{D5CDD505-2E9C-101B-9397-08002B2CF9AE}" pid="4" name="Slides">
    <vt:r8>42</vt:r8>
  </property>
</Properties>
</file>