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1AD537-3C45-4D37-AB1F-1ECF89FA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6FDE93-20B1-4845-BA6F-3C7A4185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854F92-3661-46F1-BF64-2B251D30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73A435-8B26-468F-8A8C-F26E1151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7EC68A-DDAE-4E66-BBE4-A60C2485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D70F20-E28B-4220-AC24-B4FA97F3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67544A-E546-4A7D-B149-C922F5CF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B60F07-9A8B-4CB4-87DB-4AD3F548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01C5E9-B1F1-4327-9FE0-43068CF6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82F3A7-AC50-49E9-B51E-EFDE1B75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A8D439-59B0-4EB3-BB42-5817F10A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C6BBDD-DE59-41F4-9DAC-091626D7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758CF3-53BB-4D74-9A09-A7D60FCA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09950C-F4D6-40C3-A62A-CB473F8C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6AFC1F-90E5-435B-82C1-CA184554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E59848-9FF2-4670-AB9C-8DC72B0E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C9C5E4-66F3-4F07-848D-BCF6C984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199AD1-B8C1-4762-A3B2-0799898F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4ABDDC-1303-416A-AC06-C2E962C4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FC74E4-7241-49EC-AE90-44525019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474C51-8638-4353-B3D0-FE7B9EEF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C40157-DA28-4BD5-8020-C9186A6D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FA9D7-23E0-41C7-8FFA-F72E0D26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8CA53-EE8A-440F-AEB9-18CD775F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1B360-AE48-4838-9436-1140DAB4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54764-02AD-4F8F-8E98-11B7860E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8DDBC-F0F0-4629-9423-6E1E00F3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8B01E-CB9D-40CD-B341-F5721BD8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3CBEC-A1B7-4492-91FD-F9BB74F6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8F9EE-9EE6-4621-A37D-A17D5899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E2016-11CF-4904-98A1-E40DF932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640F1-D3A8-4CC1-B466-D4B4ACCB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8B8F2-D7D9-4978-85A1-9ADA7B08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987C5-A840-4445-8E85-50D5FD77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2D0B2-2C51-42C2-AE50-24C74E26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9AC28-23BE-43E0-BFC2-6D96B6B9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0AD6B-0661-4434-B3E0-6EED0F25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69CA36-E604-4182-B082-040E200F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4EFA0-C0FC-4A30-A599-3EF850EB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87FED-5C2A-4FC1-A053-BCAE71D5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53E09-C866-424A-9DA1-AF65060B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FB89F-87DB-478B-928E-76EC30CA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FB225-9E34-4A82-B92E-71B53555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6B4C9-7D65-432D-A97B-910EFE87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F3398-3F8E-43DC-BB6B-45BB1629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387D38-7140-46B0-9FAF-B69FC5D9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94229F-C2BC-453D-84B2-D1A3E42D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BB5F1F-4086-43C1-A71B-7495F31F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25BA20-AA8B-4AB1-B4F0-79C99D4B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2F8E77-F77B-4896-91BD-484B6F3A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25D264-CBF2-4F4B-B7F6-44B12772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D96549-E728-45F5-B4CB-5CFFBDF5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FFFB7D-1A87-4DC4-8ED2-3FDF261A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CED47B-9035-446A-9291-309DD64D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9EEA00-8AD3-40B9-A0A3-69861121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E4E3A6-C567-4FC7-A53D-EF68E075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9DBC79-2A1A-4DBB-B33D-EEBABD86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3874C-19E2-4069-86A2-79BD4EF0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8B0BA-1AE1-4581-AB4B-5F71A835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7628A-2A52-47B6-B092-D92895B1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7A59B-7DF1-40F0-894C-43175958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62A9A-2411-4468-84B0-31A586C0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C069C-F522-4F9C-B773-EF14A52A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560A0-C079-413C-9831-09C12DB5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CB0EF-9958-44FB-9F26-61E44C4E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B278C-F1A7-4D57-BD23-DBD6BFB9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BF597-C13B-431B-9450-BD12A6B0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1C1B9-2710-4BD5-B38E-9E018A92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49AA1-74D0-43DC-B301-CEF1A28E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FD1447-239F-4933-AAEC-513415D1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E5E2DB-366F-477D-B98F-8660D1D9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5476C7-C8F1-4173-B248-BAC01B32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28DE29-783F-4C28-B832-B1BDD16A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589BE1-D2BA-4F5B-9658-779F5E71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06A5B0-1238-44F2-8512-B2CC0944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D50FD9-F57E-4F8D-B809-42DA4E46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5D3F72-645D-477B-B228-DCD956F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83AB9F-7BCA-410D-AFDA-3164B0FF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0BECF7-26E3-4338-8FAD-6409A6E4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0CC90D-D9B8-45A0-BFF5-3C167B75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545375-9174-48D3-9282-61716D97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2214E5B-4C90-4CC0-AE06-C6117814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D1E32C-53B2-4843-8454-E6C8854E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19E7A5-855D-488E-96E0-6966206D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2CD8B0F-E1A2-4397-AB16-3D083273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E227CC9-CA9B-42B8-973B-A11B393D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FA18FA-6E5A-4FDB-96C7-6981EBF5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AEB3176-BC5B-4636-95D9-AEB8E4EB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B273DF-FF56-455D-82F4-D4B023A0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167F58-08FE-4A3F-9316-2DED31F6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A08392-D77A-4468-9E85-937D7EEA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A39416-78F6-4FCE-9D7E-E1F67538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D1F0B9-BCA9-4811-9499-F172E24E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92ABA-5AD3-4A28-A293-B14403AA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24E79-C532-4109-A708-312E37B5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BA479-D481-48D6-AE88-F32C84D6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1E617-5063-493C-A39E-7874F4D8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AD0FC-2AC8-442F-A4E3-C0F8F73D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93F1D-FFEB-499D-97BA-149B0633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CFC96-B84D-427A-A4E6-C25DA4C9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6BF9D-0AFA-4953-9914-7A7543C8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A0626-0D16-4F0D-8EFD-E38DAEA2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51B26-11DA-49CD-BAFC-B872D4AA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411A2-E337-48C2-AAC9-3FDAF717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8CC2C-3C9C-4674-9C6C-EA43D5F9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263BD6-B427-4FD4-996E-E16F1134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819DCC-BC82-4D42-A228-96903FDC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E0F9F7-04E2-4436-88D0-3843EA0C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4B805-011B-4ED4-935D-C96DCD7C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D5C83-B71D-44FA-A5D4-A046BD4B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541C4-0399-44A6-A7F4-4EA9A728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0E1BEA-C858-452F-ADBF-41F28106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CDE10-A81B-4E9A-B16E-293739F1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5BEAC-25D9-41D6-B8D0-DB6D702C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8C115F-AE62-4F95-A1F1-601E800A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B05F15-C484-4D02-A389-5D7BC69A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5691AB-FE1E-47A5-A3BC-1F4A6324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A3054-D595-4692-B1FF-642A827C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5ABF46-9EC9-47E2-985B-259F4482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B4A626-1285-487F-88DA-28F08E47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AAD1C-7459-4CC7-9601-4E6FF261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D268AF-FB13-47A7-AFEF-4D832DA9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5CCAC8-853B-4CB8-895A-D800C640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833AC7-7C05-4202-B81C-C1176C20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2203A5-2769-487C-B656-5FB0087C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5815FF-CE5C-4225-90CE-4102E34D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A2370-9EA2-40FC-BA54-06CC6F02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9EC48-1A2A-480F-9821-69771C16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63C23A-C8E2-4A07-8305-1EEC4CE4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C00507-3F38-4B73-A1A6-99BCE777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00731F-5DDA-4A44-9C56-386E36F3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DA6DEF-47F2-49EB-B434-B430C6D5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F365BC-15F4-4C6C-BF3C-EA19749D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8D3428-25D4-456D-B6A7-4FEA2E05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F2181A-E4F5-4AC4-9285-03903709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271546-48AD-46B7-A1F9-AF538FA4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5EC9FB-C9DE-4834-8DDE-D1C4F21A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463925-2BEC-49A7-B0E0-70EBB67E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4B8521-393B-4FB5-858C-5022AF7F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04B1DE-1442-4043-912F-AC0BA58E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416284-B002-46F3-B713-F8139708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000506-7FD4-412C-B681-37985434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D29FF3-B69D-4DA4-AC70-F4BB2029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BF9BD2-6FC5-407E-BF89-E1A04B4C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1A5716-3D82-428D-BF91-C07D414C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4CE249-8CAE-4748-908B-4BA9D133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752480" y="97920"/>
            <a:ext cx="6858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F857DC-2F6F-4656-9FFB-60A09877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E833E0-A027-48BC-90EC-658CB93E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7A24EE-E134-4EDE-8233-6F297ABB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0C2EDA-61E0-4E04-BCF0-A50F81F4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F7D37-0E01-49B1-814E-95DB1436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78303A-4CC0-43EF-B449-B4F4574D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64E1D4-5B5E-43CE-B12F-A125C574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32F958-03C9-4B79-9C1B-28DCE769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3F8628-F6DF-488F-B4C0-914F4919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3C57B0-7F8E-45D5-BBBF-3A9B891E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5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10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11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0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1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2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816671-7C57-46CD-B277-D76B2A02B5D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50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3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4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25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3F96B2-4EA1-41FD-A07E-E8C2497BA00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56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6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7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28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EC5D9B-B918-4298-B8F5-2B6486EFE2C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60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9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0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1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21DCBC-CC8E-47F9-960E-E121BDAE11E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65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66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32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33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34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A489C7-2274-4A37-8C13-6CC175651E4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71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35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36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37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432C18-0A29-4D64-A898-11114643DF0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75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76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38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39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40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381148-5E46-4BFE-9D74-7B4AA8D7A75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85"/>
          <p:cNvSpPr/>
          <p:nvPr/>
        </p:nvSpPr>
        <p:spPr>
          <a:xfrm>
            <a:off x="8096400" y="2590920"/>
            <a:ext cx="1047600" cy="2209680"/>
          </a:xfrm>
          <a:custGeom>
            <a:avLst/>
            <a:gdLst>
              <a:gd name="textAreaLeft" fmla="*/ 0 w 1047600"/>
              <a:gd name="textAreaRight" fmla="*/ 1047960 w 10476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770" h="1392">
                <a:moveTo>
                  <a:pt x="0" y="190"/>
                </a:moveTo>
                <a:lnTo>
                  <a:pt x="770" y="0"/>
                </a:lnTo>
                <a:lnTo>
                  <a:pt x="770" y="1392"/>
                </a:lnTo>
                <a:lnTo>
                  <a:pt x="0" y="1116"/>
                </a:lnTo>
                <a:lnTo>
                  <a:pt x="0" y="190"/>
                </a:lnTo>
                <a:close/>
              </a:path>
            </a:pathLst>
          </a:custGeom>
          <a:gradFill rotWithShape="0">
            <a:gsLst>
              <a:gs pos="0">
                <a:srgbClr val="b1deff"/>
              </a:gs>
              <a:gs pos="100000">
                <a:srgbClr val="1d9eff">
                  <a:alpha val="7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86" descr="Picture11"/>
          <p:cNvPicPr/>
          <p:nvPr/>
        </p:nvPicPr>
        <p:blipFill>
          <a:blip r:embed="rId2"/>
          <a:srcRect l="4635" t="0" r="0" b="6420"/>
          <a:stretch/>
        </p:blipFill>
        <p:spPr>
          <a:xfrm>
            <a:off x="8229600" y="3419640"/>
            <a:ext cx="681120" cy="1199880"/>
          </a:xfrm>
          <a:prstGeom prst="rect">
            <a:avLst/>
          </a:prstGeom>
          <a:ln w="0">
            <a:noFill/>
          </a:ln>
        </p:spPr>
      </p:pic>
      <p:sp>
        <p:nvSpPr>
          <p:cNvPr id="50" name="Freeform 78"/>
          <p:cNvSpPr/>
          <p:nvPr/>
        </p:nvSpPr>
        <p:spPr>
          <a:xfrm>
            <a:off x="3575160" y="1878120"/>
            <a:ext cx="4538520" cy="4190760"/>
          </a:xfrm>
          <a:custGeom>
            <a:avLst/>
            <a:gdLst>
              <a:gd name="textAreaLeft" fmla="*/ 0 w 4538520"/>
              <a:gd name="textAreaRight" fmla="*/ 4538880 w 4538520"/>
              <a:gd name="textAreaTop" fmla="*/ 0 h 4190760"/>
              <a:gd name="textAreaBottom" fmla="*/ 4191120 h 4190760"/>
            </a:gdLst>
            <a:ahLst/>
            <a:rect l="textAreaLeft" t="textAreaTop" r="textAreaRight" b="textAreaBottom"/>
            <a:pathLst>
              <a:path w="2740" h="2636">
                <a:moveTo>
                  <a:pt x="4" y="0"/>
                </a:moveTo>
                <a:lnTo>
                  <a:pt x="2740" y="634"/>
                </a:lnTo>
                <a:lnTo>
                  <a:pt x="2740" y="1577"/>
                </a:lnTo>
                <a:lnTo>
                  <a:pt x="0" y="2636"/>
                </a:lnTo>
                <a:lnTo>
                  <a:pt x="4" y="0"/>
                </a:lnTo>
                <a:close/>
              </a:path>
            </a:pathLst>
          </a:custGeom>
          <a:gradFill rotWithShape="0">
            <a:gsLst>
              <a:gs pos="0">
                <a:srgbClr val="f0a22e"/>
              </a:gs>
              <a:gs pos="100000">
                <a:srgbClr val="f9dcb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43"/>
          <p:cNvSpPr/>
          <p:nvPr/>
        </p:nvSpPr>
        <p:spPr>
          <a:xfrm rot="1529400">
            <a:off x="5143320" y="4243320"/>
            <a:ext cx="368280" cy="1752840"/>
          </a:xfrm>
          <a:prstGeom prst="upArrow">
            <a:avLst>
              <a:gd name="adj1" fmla="val 47852"/>
              <a:gd name="adj2" fmla="val 8930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5"/>
          <p:cNvSpPr/>
          <p:nvPr/>
        </p:nvSpPr>
        <p:spPr>
          <a:xfrm rot="1529400">
            <a:off x="4592160" y="3126960"/>
            <a:ext cx="533520" cy="3048120"/>
          </a:xfrm>
          <a:prstGeom prst="upArrow">
            <a:avLst>
              <a:gd name="adj1" fmla="val 47852"/>
              <a:gd name="adj2" fmla="val 107202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44"/>
          <p:cNvSpPr/>
          <p:nvPr/>
        </p:nvSpPr>
        <p:spPr>
          <a:xfrm rot="1529400">
            <a:off x="4950000" y="3795840"/>
            <a:ext cx="398160" cy="2016000"/>
          </a:xfrm>
          <a:prstGeom prst="upArrow">
            <a:avLst>
              <a:gd name="adj1" fmla="val 47852"/>
              <a:gd name="adj2" fmla="val 95007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47"/>
          <p:cNvSpPr/>
          <p:nvPr/>
        </p:nvSpPr>
        <p:spPr>
          <a:xfrm rot="1529400">
            <a:off x="5600880" y="4371840"/>
            <a:ext cx="257040" cy="1067040"/>
          </a:xfrm>
          <a:prstGeom prst="upArrow">
            <a:avLst>
              <a:gd name="adj1" fmla="val 47852"/>
              <a:gd name="adj2" fmla="val 77894"/>
            </a:avLst>
          </a:prstGeom>
          <a:solidFill>
            <a:srgbClr val="f0a22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8"/>
          <p:cNvSpPr/>
          <p:nvPr/>
        </p:nvSpPr>
        <p:spPr>
          <a:xfrm rot="1529400">
            <a:off x="6111360" y="4209840"/>
            <a:ext cx="381240" cy="1087200"/>
          </a:xfrm>
          <a:prstGeom prst="upArrow">
            <a:avLst>
              <a:gd name="adj1" fmla="val 47852"/>
              <a:gd name="adj2" fmla="val 53510"/>
            </a:avLst>
          </a:prstGeom>
          <a:solidFill>
            <a:srgbClr val="ffc42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49"/>
          <p:cNvSpPr/>
          <p:nvPr/>
        </p:nvSpPr>
        <p:spPr>
          <a:xfrm rot="1529400">
            <a:off x="5761080" y="4819320"/>
            <a:ext cx="252360" cy="466560"/>
          </a:xfrm>
          <a:prstGeom prst="upArrow">
            <a:avLst>
              <a:gd name="adj1" fmla="val 43972"/>
              <a:gd name="adj2" fmla="val 9219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Group 66"/>
          <p:cNvGrpSpPr/>
          <p:nvPr/>
        </p:nvGrpSpPr>
        <p:grpSpPr>
          <a:xfrm>
            <a:off x="6200640" y="2413080"/>
            <a:ext cx="1465920" cy="1452960"/>
            <a:chOff x="6200640" y="2413080"/>
            <a:chExt cx="1465920" cy="1452960"/>
          </a:xfrm>
        </p:grpSpPr>
        <p:sp>
          <p:nvSpPr>
            <p:cNvPr id="58" name="AutoShape 51"/>
            <p:cNvSpPr/>
            <p:nvPr/>
          </p:nvSpPr>
          <p:spPr>
            <a:xfrm flipH="1" flipV="1" rot="1529400">
              <a:off x="6484680" y="2432160"/>
              <a:ext cx="409320" cy="1414440"/>
            </a:xfrm>
            <a:prstGeom prst="upArrow">
              <a:avLst>
                <a:gd name="adj1" fmla="val 47852"/>
                <a:gd name="adj2" fmla="val 64840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AutoShape 52"/>
            <p:cNvSpPr/>
            <p:nvPr/>
          </p:nvSpPr>
          <p:spPr>
            <a:xfrm flipH="1" flipV="1" rot="1529400">
              <a:off x="6939360" y="2504520"/>
              <a:ext cx="308520" cy="990000"/>
            </a:xfrm>
            <a:prstGeom prst="upArrow">
              <a:avLst>
                <a:gd name="adj1" fmla="val 47852"/>
                <a:gd name="adj2" fmla="val 60552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AutoShape 53"/>
            <p:cNvSpPr/>
            <p:nvPr/>
          </p:nvSpPr>
          <p:spPr>
            <a:xfrm flipH="1" flipV="1" rot="1529400">
              <a:off x="7283160" y="2643480"/>
              <a:ext cx="303120" cy="442080"/>
            </a:xfrm>
            <a:prstGeom prst="upArrow">
              <a:avLst>
                <a:gd name="adj1" fmla="val 38870"/>
                <a:gd name="adj2" fmla="val 5223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54"/>
            <p:cNvSpPr/>
            <p:nvPr/>
          </p:nvSpPr>
          <p:spPr>
            <a:xfrm flipH="1" flipV="1" rot="1529400">
              <a:off x="6400800" y="2501640"/>
              <a:ext cx="303120" cy="442080"/>
            </a:xfrm>
            <a:prstGeom prst="upArrow">
              <a:avLst>
                <a:gd name="adj1" fmla="val 38870"/>
                <a:gd name="adj2" fmla="val 5223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Rectangle 31"/>
          <p:cNvSpPr/>
          <p:nvPr/>
        </p:nvSpPr>
        <p:spPr>
          <a:xfrm>
            <a:off x="0" y="1878120"/>
            <a:ext cx="3594240" cy="4195800"/>
          </a:xfrm>
          <a:prstGeom prst="rect">
            <a:avLst/>
          </a:prstGeom>
          <a:gradFill rotWithShape="0">
            <a:gsLst>
              <a:gs pos="0">
                <a:srgbClr val="ffc42f"/>
              </a:gs>
              <a:gs pos="100000">
                <a:srgbClr val="ffe7a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74" descr="Picture11"/>
          <p:cNvPicPr/>
          <p:nvPr/>
        </p:nvPicPr>
        <p:blipFill>
          <a:blip r:embed="rId3"/>
          <a:srcRect l="4633" t="0" r="0" b="6304"/>
          <a:stretch/>
        </p:blipFill>
        <p:spPr>
          <a:xfrm>
            <a:off x="0" y="252396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71"/>
          <p:cNvSpPr/>
          <p:nvPr/>
        </p:nvSpPr>
        <p:spPr>
          <a:xfrm rot="1529400">
            <a:off x="1787040" y="3822840"/>
            <a:ext cx="636840" cy="2442960"/>
          </a:xfrm>
          <a:prstGeom prst="upArrow">
            <a:avLst>
              <a:gd name="adj1" fmla="val 47852"/>
              <a:gd name="adj2" fmla="val 71979"/>
            </a:avLst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114800" y="6095880"/>
            <a:ext cx="1098720" cy="4291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fbe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LO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88"/>
          <p:cNvSpPr/>
          <p:nvPr/>
        </p:nvSpPr>
        <p:spPr>
          <a:xfrm rot="1529400">
            <a:off x="3687480" y="5288040"/>
            <a:ext cx="263520" cy="876240"/>
          </a:xfrm>
          <a:prstGeom prst="upArrow">
            <a:avLst>
              <a:gd name="adj1" fmla="val 47852"/>
              <a:gd name="adj2" fmla="val 62392"/>
            </a:avLst>
          </a:prstGeom>
          <a:solidFill>
            <a:srgbClr val="ffc42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42"/>
          <p:cNvSpPr/>
          <p:nvPr/>
        </p:nvSpPr>
        <p:spPr>
          <a:xfrm rot="1529400">
            <a:off x="4025520" y="4506480"/>
            <a:ext cx="441360" cy="1600200"/>
          </a:xfrm>
          <a:prstGeom prst="upArrow">
            <a:avLst>
              <a:gd name="adj1" fmla="val 47852"/>
              <a:gd name="adj2" fmla="val 680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Freeform 82"/>
          <p:cNvSpPr/>
          <p:nvPr/>
        </p:nvSpPr>
        <p:spPr>
          <a:xfrm>
            <a:off x="-11160" y="4368960"/>
            <a:ext cx="9155160" cy="248436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5767" h="1565">
                <a:moveTo>
                  <a:pt x="2263" y="1065"/>
                </a:moveTo>
                <a:lnTo>
                  <a:pt x="5118" y="0"/>
                </a:lnTo>
                <a:lnTo>
                  <a:pt x="5760" y="269"/>
                </a:lnTo>
                <a:lnTo>
                  <a:pt x="5767" y="1565"/>
                </a:lnTo>
                <a:lnTo>
                  <a:pt x="0" y="1565"/>
                </a:lnTo>
                <a:lnTo>
                  <a:pt x="7" y="1065"/>
                </a:lnTo>
                <a:lnTo>
                  <a:pt x="2263" y="10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http://eduraion.irk.ru/media/upload/mon_C6r07bf.jpg"/>
          <p:cNvPicPr/>
          <p:nvPr/>
        </p:nvPicPr>
        <p:blipFill>
          <a:blip r:embed="rId4"/>
          <a:stretch/>
        </p:blipFill>
        <p:spPr>
          <a:xfrm>
            <a:off x="5364000" y="4076640"/>
            <a:ext cx="326232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2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3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4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4AE6C2-369E-48E6-8662-9050D6EFADD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5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6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7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F1942A-6236-482B-8155-2CC7D252844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8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9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0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850107-F447-4D1C-B227-9E727E64778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1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2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3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67EECA-9E24-43C7-9BEF-0337FC5846E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4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5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16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C4D0E1-4539-4FEB-A3DF-2A5C45A057E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reeform 26"/>
          <p:cNvSpPr/>
          <p:nvPr/>
        </p:nvSpPr>
        <p:spPr>
          <a:xfrm>
            <a:off x="8685360" y="763560"/>
            <a:ext cx="511200" cy="5697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697720"/>
              <a:gd name="textAreaBottom" fmla="*/ 5698080 h 5697720"/>
            </a:gdLst>
            <a:ahLst/>
            <a:rect l="textAreaLeft" t="textAreaTop" r="textAreaRight" b="textAreaBottom"/>
            <a:pathLst>
              <a:path w="417" h="3438">
                <a:moveTo>
                  <a:pt x="1" y="231"/>
                </a:moveTo>
                <a:lnTo>
                  <a:pt x="417" y="0"/>
                </a:lnTo>
                <a:lnTo>
                  <a:pt x="397" y="3208"/>
                </a:lnTo>
                <a:lnTo>
                  <a:pt x="0" y="3438"/>
                </a:lnTo>
                <a:lnTo>
                  <a:pt x="1" y="231"/>
                </a:lnTo>
                <a:close/>
              </a:path>
            </a:pathLst>
          </a:custGeom>
          <a:solidFill>
            <a:srgbClr val="1d9e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7"/>
          <p:cNvSpPr/>
          <p:nvPr/>
        </p:nvSpPr>
        <p:spPr>
          <a:xfrm>
            <a:off x="0" y="1000080"/>
            <a:ext cx="8683560" cy="5464080"/>
          </a:xfrm>
          <a:prstGeom prst="rect">
            <a:avLst/>
          </a:prstGeom>
          <a:solidFill>
            <a:srgbClr val="ffc42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16" descr="Picture11"/>
          <p:cNvPicPr/>
          <p:nvPr/>
        </p:nvPicPr>
        <p:blipFill>
          <a:blip r:embed="rId2"/>
          <a:srcRect l="4633" t="0" r="0" b="6304"/>
          <a:stretch/>
        </p:blipFill>
        <p:spPr>
          <a:xfrm>
            <a:off x="609480" y="3294000"/>
            <a:ext cx="2022480" cy="356400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20"/>
          <p:cNvSpPr/>
          <p:nvPr/>
        </p:nvSpPr>
        <p:spPr>
          <a:xfrm rot="5400000">
            <a:off x="577440" y="-291960"/>
            <a:ext cx="520560" cy="1676520"/>
          </a:xfrm>
          <a:prstGeom prst="upArrow">
            <a:avLst>
              <a:gd name="adj1" fmla="val 47852"/>
              <a:gd name="adj2" fmla="val 60431"/>
            </a:avLst>
          </a:prstGeom>
          <a:solidFill>
            <a:srgbClr val="1d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21"/>
          <p:cNvSpPr/>
          <p:nvPr/>
        </p:nvSpPr>
        <p:spPr>
          <a:xfrm rot="5400000">
            <a:off x="267840" y="-268200"/>
            <a:ext cx="682560" cy="1219320"/>
          </a:xfrm>
          <a:prstGeom prst="upArrow">
            <a:avLst>
              <a:gd name="adj1" fmla="val 44657"/>
              <a:gd name="adj2" fmla="val 52335"/>
            </a:avLst>
          </a:prstGeom>
          <a:solidFill>
            <a:srgbClr val="f683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22"/>
          <p:cNvSpPr/>
          <p:nvPr/>
        </p:nvSpPr>
        <p:spPr>
          <a:xfrm rot="5400000">
            <a:off x="414720" y="156240"/>
            <a:ext cx="380880" cy="1211400"/>
          </a:xfrm>
          <a:prstGeom prst="upArrow">
            <a:avLst>
              <a:gd name="adj1" fmla="val 47852"/>
              <a:gd name="adj2" fmla="val 59679"/>
            </a:avLst>
          </a:prstGeom>
          <a:solidFill>
            <a:srgbClr val="ff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23"/>
          <p:cNvSpPr/>
          <p:nvPr/>
        </p:nvSpPr>
        <p:spPr>
          <a:xfrm rot="5400000">
            <a:off x="101160" y="398520"/>
            <a:ext cx="273240" cy="476280"/>
          </a:xfrm>
          <a:prstGeom prst="upArrow">
            <a:avLst>
              <a:gd name="adj1" fmla="val 38870"/>
              <a:gd name="adj2" fmla="val 62428"/>
            </a:avLst>
          </a:prstGeom>
          <a:solidFill>
            <a:srgbClr val="f6831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25" descr="Picture11"/>
          <p:cNvPicPr/>
          <p:nvPr/>
        </p:nvPicPr>
        <p:blipFill>
          <a:blip r:embed="rId3"/>
          <a:srcRect l="25356" t="0" r="0" b="6304"/>
          <a:stretch/>
        </p:blipFill>
        <p:spPr>
          <a:xfrm>
            <a:off x="0" y="4114800"/>
            <a:ext cx="1219320" cy="274320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18"/>
          <p:cNvSpPr/>
          <p:nvPr/>
        </p:nvSpPr>
        <p:spPr>
          <a:xfrm>
            <a:off x="142920" y="6550200"/>
            <a:ext cx="88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научно-методический центр экспертной оценки педагогической деятельност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7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8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19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3B39F6-B0FE-419D-89DB-EF893D42DEB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orld.fedpress.ru/sites/fedpress/files/oksjumoron/news/fb635e445528edd0f17c0f81807f6b54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Aharoni"/>
              </a:rPr>
              <a:t>Оценочная деятельность педагога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Aharoni"/>
              </a:rPr>
              <a:t>как механизм управления качеством образования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7" name="Подзаголовок 2"/>
          <p:cNvSpPr/>
          <p:nvPr/>
        </p:nvSpPr>
        <p:spPr>
          <a:xfrm>
            <a:off x="250920" y="5300640"/>
            <a:ext cx="47527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12e"/>
                </a:solidFill>
                <a:latin typeface="Times New Roman"/>
              </a:rPr>
              <a:t>Манькова О.С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12e"/>
                </a:solidFill>
                <a:latin typeface="Times New Roman"/>
              </a:rPr>
              <a:t>заместитель директ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12e"/>
                </a:solidFill>
                <a:latin typeface="Times New Roman"/>
              </a:rPr>
              <a:t>МОУ «Пионер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редметные результаты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518e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18e"/>
                </a:solidFill>
                <a:latin typeface="Times New Roman"/>
              </a:rPr>
              <a:t>Объект оцен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сформированность учебных действий с предметным содержани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518e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18e"/>
                </a:solidFill>
                <a:latin typeface="Times New Roman"/>
              </a:rPr>
              <a:t>Предмет оцен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способность к решению учебно-познавательных и учебно-практических задач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518e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18e"/>
                </a:solidFill>
                <a:latin typeface="Times New Roman"/>
              </a:rPr>
              <a:t>Объект контроля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лок «Выпускник научитс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Метапредметные результаты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518e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18e"/>
                </a:solidFill>
                <a:latin typeface="Times New Roman"/>
              </a:rPr>
              <a:t>Объект оцен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сформированность универсальных учебных дейст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518e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18e"/>
                </a:solidFill>
                <a:latin typeface="Times New Roman"/>
              </a:rPr>
              <a:t>Предмет оцен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способы действия, позволяющие учащимся принимать решения не только в рамках заданного учебного процесса, но и в различных жизненных ситуац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Личностные результаты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518e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18e"/>
                </a:solidFill>
                <a:latin typeface="Times New Roman"/>
              </a:rPr>
              <a:t>Объект оцен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сформированность личностных универсальных учебных действ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518e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18e"/>
                </a:solidFill>
                <a:latin typeface="Times New Roman"/>
              </a:rPr>
              <a:t>Предмет оцен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эффективность деятельности системы образования, образовательного учр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использование результатов оценочных процедур </a:t>
            </a:r>
            <a:endParaRPr b="1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1979280" y="1197000"/>
            <a:ext cx="716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ать и внедрить программы повышения эффективности преподавания и об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узкие места деятельности педколлектива и разработать соответствующие рекомендации для каждого педагог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ить наименее подготовленных учащихся в целях предоставления им необходимой помощ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азать соответствующую ресурсную, организационную и методическую поддержки неэффективно работающим учителя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ть независимую оценку деятельности отдельного педагога, группы педагогов  для организации работы с педкадр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3" name="Picture 8" descr="https://3.bp.blogspot.com/-GEBqRExgoDE/V9d3qpab32I/AAAAAAAAKDM/w-g9EEPyaqQC6ruZ-MJRKrkbPDURYTengCEw/s1600/Ocenka-bizneca.png"/>
          <p:cNvPicPr/>
          <p:nvPr/>
        </p:nvPicPr>
        <p:blipFill>
          <a:blip r:embed="rId1"/>
          <a:stretch/>
        </p:blipFill>
        <p:spPr>
          <a:xfrm>
            <a:off x="-396720" y="191628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785960" y="97920"/>
            <a:ext cx="678672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fae"/>
                </a:solidFill>
                <a:latin typeface="Times New Roman"/>
              </a:rPr>
              <a:t>Качество образования 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9" name="Прямоугольник 7"/>
          <p:cNvSpPr/>
          <p:nvPr/>
        </p:nvSpPr>
        <p:spPr>
          <a:xfrm>
            <a:off x="2916360" y="2060640"/>
            <a:ext cx="568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Цель государственной политики </a:t>
            </a:r>
            <a:r>
              <a:rPr b="0" lang="ru-RU" sz="2800" spc="-1" strike="noStrike">
                <a:solidFill>
                  <a:srgbClr val="00212e"/>
                </a:solidFill>
                <a:latin typeface="Times New Roman"/>
              </a:rPr>
              <a:t>в области образования – повышение </a:t>
            </a:r>
            <a:r>
              <a:rPr b="0" lang="ru-RU" sz="2800" spc="-1" strike="noStrike">
                <a:solidFill>
                  <a:srgbClr val="007fae"/>
                </a:solidFill>
                <a:latin typeface="Times New Roman"/>
              </a:rPr>
              <a:t>доступности качественного </a:t>
            </a:r>
            <a:r>
              <a:rPr b="0" lang="ru-RU" sz="2800" spc="-1" strike="noStrike">
                <a:solidFill>
                  <a:srgbClr val="00212e"/>
                </a:solidFill>
                <a:latin typeface="Times New Roman"/>
              </a:rPr>
              <a:t>образования, соответствующего современным потребностям общества и каждого граждан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0" name="Picture 2" descr="Картинка 14 из 156190">
            <a:hlinkClick r:id="rId1"/>
          </p:cNvPr>
          <p:cNvPicPr/>
          <p:nvPr/>
        </p:nvPicPr>
        <p:blipFill>
          <a:blip r:embed="rId2"/>
          <a:srcRect l="20160" t="0" r="13312" b="0"/>
          <a:stretch/>
        </p:blipFill>
        <p:spPr>
          <a:xfrm>
            <a:off x="324000" y="2133720"/>
            <a:ext cx="2376360" cy="25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ачество образования: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ктуальность и противоречие</a:t>
            </a:r>
            <a:endParaRPr b="1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95280" y="1557000"/>
            <a:ext cx="4038480" cy="46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школьного образования была признана одной из лучш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ускники школ обладают достаточно большим объемом зн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овая практика оценивает прежде всего личностные достижения обучающихся, креативность мыш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Объект 3"/>
          <p:cNvSpPr/>
          <p:nvPr/>
        </p:nvSpPr>
        <p:spPr>
          <a:xfrm>
            <a:off x="4572000" y="1557360"/>
            <a:ext cx="4038480" cy="46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1 в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удовлетворенность социума результатами подготовки выпуск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сутствие опыта самостоятельного принятия ре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е стандарты нового поколения: новые подходы и инструменты оценивания результативности освоения образовательных программ ( предметные, метапредметные и личностные достиже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Правая фигурная скобка 5"/>
          <p:cNvSpPr/>
          <p:nvPr/>
        </p:nvSpPr>
        <p:spPr>
          <a:xfrm rot="5400000">
            <a:off x="4356360" y="4148640"/>
            <a:ext cx="411120" cy="4588200"/>
          </a:xfrm>
          <a:custGeom>
            <a:avLst/>
            <a:gdLst>
              <a:gd name="textAreaLeft" fmla="*/ 0 w 411120"/>
              <a:gd name="textAreaRight" fmla="*/ 148320 w 411120"/>
              <a:gd name="textAreaTop" fmla="*/ 10440 h 4588200"/>
              <a:gd name="textAreaBottom" fmla="*/ 4577760 h 458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"/>
                  <a:pt x="10800" y="161"/>
                </a:cubicBezTo>
                <a:lnTo>
                  <a:pt x="10800" y="10639"/>
                </a:lnTo>
                <a:cubicBezTo>
                  <a:pt x="10800" y="10720"/>
                  <a:pt x="16200" y="10800"/>
                  <a:pt x="21600" y="10800"/>
                </a:cubicBezTo>
                <a:cubicBezTo>
                  <a:pt x="16200" y="10800"/>
                  <a:pt x="10800" y="10881"/>
                  <a:pt x="10800" y="10961"/>
                </a:cubicBezTo>
                <a:lnTo>
                  <a:pt x="10800" y="21439"/>
                </a:lnTo>
                <a:cubicBezTo>
                  <a:pt x="10800" y="2152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f0a22e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Развитие качества образования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16" name="Группа 2"/>
          <p:cNvGrpSpPr/>
          <p:nvPr/>
        </p:nvGrpSpPr>
        <p:grpSpPr>
          <a:xfrm>
            <a:off x="2268360" y="1484280"/>
            <a:ext cx="4511880" cy="1057320"/>
            <a:chOff x="2268360" y="1484280"/>
            <a:chExt cx="4511880" cy="1057320"/>
          </a:xfrm>
        </p:grpSpPr>
        <p:sp>
          <p:nvSpPr>
            <p:cNvPr id="817" name="Скругленный прямоугольник 3"/>
            <p:cNvSpPr/>
            <p:nvPr/>
          </p:nvSpPr>
          <p:spPr>
            <a:xfrm>
              <a:off x="2268360" y="1484280"/>
              <a:ext cx="4511880" cy="105732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97c5d7"/>
                </a:gs>
                <a:gs pos="100000">
                  <a:srgbClr val="e1ecf1"/>
                </a:gs>
              </a:gsLst>
              <a:lin ang="2700000"/>
            </a:gra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Скругленный прямоугольник 4"/>
            <p:cNvSpPr/>
            <p:nvPr/>
          </p:nvSpPr>
          <p:spPr>
            <a:xfrm>
              <a:off x="2304360" y="1515240"/>
              <a:ext cx="443988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</a:rPr>
                <a:t>совершенствование образовательных результат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Группа 5"/>
          <p:cNvGrpSpPr/>
          <p:nvPr/>
        </p:nvGrpSpPr>
        <p:grpSpPr>
          <a:xfrm>
            <a:off x="606600" y="3573360"/>
            <a:ext cx="2863800" cy="2141640"/>
            <a:chOff x="606600" y="3573360"/>
            <a:chExt cx="2863800" cy="2141640"/>
          </a:xfrm>
        </p:grpSpPr>
        <p:sp>
          <p:nvSpPr>
            <p:cNvPr id="820" name="Скругленный прямоугольник 6"/>
            <p:cNvSpPr/>
            <p:nvPr/>
          </p:nvSpPr>
          <p:spPr>
            <a:xfrm>
              <a:off x="606600" y="3573360"/>
              <a:ext cx="2863800" cy="21416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97c5d7"/>
                </a:gs>
                <a:gs pos="100000">
                  <a:srgbClr val="e1ecf1"/>
                </a:gs>
              </a:gsLst>
              <a:lin ang="13500000"/>
            </a:gra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Скругленный прямоугольник 4"/>
            <p:cNvSpPr/>
            <p:nvPr/>
          </p:nvSpPr>
          <p:spPr>
            <a:xfrm>
              <a:off x="669240" y="3636000"/>
              <a:ext cx="273852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</a:rPr>
                <a:t>совершенствование организации образовательной деятельност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Times New Roman"/>
                </a:rPr>
                <a:t>по предмет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2" name="Группа 8"/>
          <p:cNvGrpSpPr/>
          <p:nvPr/>
        </p:nvGrpSpPr>
        <p:grpSpPr>
          <a:xfrm>
            <a:off x="5292720" y="3635280"/>
            <a:ext cx="3116160" cy="2133720"/>
            <a:chOff x="5292720" y="3635280"/>
            <a:chExt cx="3116160" cy="2133720"/>
          </a:xfrm>
        </p:grpSpPr>
        <p:sp>
          <p:nvSpPr>
            <p:cNvPr id="823" name="Скругленный прямоугольник 9"/>
            <p:cNvSpPr/>
            <p:nvPr/>
          </p:nvSpPr>
          <p:spPr>
            <a:xfrm>
              <a:off x="5292720" y="3635280"/>
              <a:ext cx="3116160" cy="213372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97c5d7"/>
                </a:gs>
                <a:gs pos="100000">
                  <a:srgbClr val="e1ecf1"/>
                </a:gs>
              </a:gsLst>
              <a:lin ang="10800000"/>
            </a:gra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Скругленный прямоугольник 4"/>
            <p:cNvSpPr/>
            <p:nvPr/>
          </p:nvSpPr>
          <p:spPr>
            <a:xfrm>
              <a:off x="5355000" y="3697560"/>
              <a:ext cx="2991600" cy="20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</a:rPr>
                <a:t>повышение квалификации и профессионализма педагог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5" name="Группа 11"/>
          <p:cNvGrpSpPr/>
          <p:nvPr/>
        </p:nvGrpSpPr>
        <p:grpSpPr>
          <a:xfrm>
            <a:off x="2725560" y="2541960"/>
            <a:ext cx="919440" cy="1136520"/>
            <a:chOff x="2725560" y="2541960"/>
            <a:chExt cx="919440" cy="1136520"/>
          </a:xfrm>
        </p:grpSpPr>
        <p:sp>
          <p:nvSpPr>
            <p:cNvPr id="826" name="Двойная стрелка влево/вправо 12"/>
            <p:cNvSpPr/>
            <p:nvPr/>
          </p:nvSpPr>
          <p:spPr>
            <a:xfrm rot="18000000">
              <a:off x="2660400" y="2882160"/>
              <a:ext cx="1049400" cy="455760"/>
            </a:xfrm>
            <a:prstGeom prst="leftRightArrow">
              <a:avLst>
                <a:gd name="adj1" fmla="val 60000"/>
                <a:gd name="adj2" fmla="val 50037"/>
              </a:avLst>
            </a:prstGeom>
            <a:solidFill>
              <a:srgbClr val="002060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Двойная стрелка влево/вправо 4"/>
            <p:cNvSpPr/>
            <p:nvPr/>
          </p:nvSpPr>
          <p:spPr>
            <a:xfrm rot="18000000">
              <a:off x="2797200" y="2973240"/>
              <a:ext cx="7758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8" name="Группа 14"/>
          <p:cNvGrpSpPr/>
          <p:nvPr/>
        </p:nvGrpSpPr>
        <p:grpSpPr>
          <a:xfrm>
            <a:off x="5635080" y="2521440"/>
            <a:ext cx="921600" cy="1138680"/>
            <a:chOff x="5635080" y="2521440"/>
            <a:chExt cx="921600" cy="1138680"/>
          </a:xfrm>
        </p:grpSpPr>
        <p:sp>
          <p:nvSpPr>
            <p:cNvPr id="829" name="Двойная стрелка влево/вправо 15"/>
            <p:cNvSpPr/>
            <p:nvPr/>
          </p:nvSpPr>
          <p:spPr>
            <a:xfrm rot="3600000">
              <a:off x="5570280" y="2862000"/>
              <a:ext cx="1050840" cy="457200"/>
            </a:xfrm>
            <a:prstGeom prst="leftRightArrow">
              <a:avLst>
                <a:gd name="adj1" fmla="val 60000"/>
                <a:gd name="adj2" fmla="val 49948"/>
              </a:avLst>
            </a:prstGeom>
            <a:solidFill>
              <a:srgbClr val="002060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Двойная стрелка влево/вправо 4"/>
            <p:cNvSpPr/>
            <p:nvPr/>
          </p:nvSpPr>
          <p:spPr>
            <a:xfrm rot="3600000">
              <a:off x="5707080" y="2953080"/>
              <a:ext cx="7768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1" name="Группа 17"/>
          <p:cNvGrpSpPr/>
          <p:nvPr/>
        </p:nvGrpSpPr>
        <p:grpSpPr>
          <a:xfrm>
            <a:off x="3903840" y="4565520"/>
            <a:ext cx="1049040" cy="457200"/>
            <a:chOff x="3903840" y="4565520"/>
            <a:chExt cx="1049040" cy="457200"/>
          </a:xfrm>
        </p:grpSpPr>
        <p:sp>
          <p:nvSpPr>
            <p:cNvPr id="832" name="Двойная стрелка влево/вправо 18"/>
            <p:cNvSpPr/>
            <p:nvPr/>
          </p:nvSpPr>
          <p:spPr>
            <a:xfrm rot="10800000">
              <a:off x="3903840" y="4565520"/>
              <a:ext cx="1049040" cy="457200"/>
            </a:xfrm>
            <a:prstGeom prst="leftRightArrow">
              <a:avLst>
                <a:gd name="adj1" fmla="val 60000"/>
                <a:gd name="adj2" fmla="val 49862"/>
              </a:avLst>
            </a:prstGeom>
            <a:solidFill>
              <a:srgbClr val="002060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Двойная стрелка влево/вправо 4"/>
            <p:cNvSpPr/>
            <p:nvPr/>
          </p:nvSpPr>
          <p:spPr>
            <a:xfrm>
              <a:off x="4040640" y="4656960"/>
              <a:ext cx="775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4" name="Прямоугольник 20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2627280" y="1125360"/>
            <a:ext cx="6059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Оце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мнение о ценности, уровне или качестве чего-либо или кого-либ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Отметк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- это установленное (государством) обозначение степени знаний учен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Самооце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оценка личностью самой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Picture 4" descr="https://us.123rf.com/450wm/dny3d/dny3d1212/dny3d121200012/16807297-3d-searching-books-with-magnifying-glass-on-white-background.jpg?ver=6"/>
          <p:cNvPicPr/>
          <p:nvPr/>
        </p:nvPicPr>
        <p:blipFill>
          <a:blip r:embed="rId1"/>
          <a:stretch/>
        </p:blipFill>
        <p:spPr>
          <a:xfrm>
            <a:off x="0" y="836640"/>
            <a:ext cx="309564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Нормативная база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250560" y="1599840"/>
            <a:ext cx="8435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й закон от 29.12.2012 N 273-ФЗ статьи 10, 11, 12, 28, 29, 30, 47, 55, 66 «Об образовании в Российской Федерации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е государственные образовательные стандарт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iberation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жениями ОО об оценоч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99624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инципы  оценочной деятельность педагога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840" name="Схема 3" descr=""/>
          <p:cNvPicPr/>
          <p:nvPr/>
        </p:nvPicPr>
        <p:blipFill>
          <a:blip r:embed="rId1"/>
          <a:stretch/>
        </p:blipFill>
        <p:spPr>
          <a:xfrm>
            <a:off x="401760" y="933480"/>
            <a:ext cx="8145360" cy="601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Что же такое оценивание? </a:t>
            </a:r>
            <a:endParaRPr b="1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842" name="Схема 3" descr=""/>
          <p:cNvPicPr/>
          <p:nvPr/>
        </p:nvPicPr>
        <p:blipFill>
          <a:blip r:embed="rId1"/>
          <a:stretch/>
        </p:blipFill>
        <p:spPr>
          <a:xfrm>
            <a:off x="676440" y="1047600"/>
            <a:ext cx="7572240" cy="5565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752480" y="97920"/>
            <a:ext cx="68580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омпоненты процесса оценки или оценочной деятельности</a:t>
            </a:r>
            <a:endParaRPr b="1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844" name="Схема 3" descr=""/>
          <p:cNvPicPr/>
          <p:nvPr/>
        </p:nvPicPr>
        <p:blipFill>
          <a:blip r:embed="rId1"/>
          <a:stretch/>
        </p:blipFill>
        <p:spPr>
          <a:xfrm>
            <a:off x="463680" y="974880"/>
            <a:ext cx="8362800" cy="5889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8:31:41Z</dcterms:created>
  <dc:creator>Admin</dc:creator>
  <dc:description/>
  <dc:language>en-US</dc:language>
  <cp:lastModifiedBy>home</cp:lastModifiedBy>
  <dcterms:modified xsi:type="dcterms:W3CDTF">2019-10-31T02:29:52Z</dcterms:modified>
  <cp:revision>48</cp:revision>
  <dc:subject/>
  <dc:title>Для родителей будущих первоклассников</dc:title>
</cp:coreProperties>
</file>