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9A3-3091-4AEB-BED0-EEFD84D8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F60-604F-4BE5-AAA2-36C5C47B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B73-7D34-49ED-AA31-87608523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1B2-A91A-41BE-9C7E-2805B0F6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8C6-B3E0-4FF3-99B5-9C26864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C9A-1DC1-43F2-8D93-879FB715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13D-34E3-4ED5-B220-EE39347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F47-2B69-4BFB-B5C0-405E2F13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0EC-CB6D-4B11-9F2E-C1F26590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172-C287-4856-86F3-3F8F542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FA2-8C8E-4273-86EE-6F533FBB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0EE-D266-48AC-9C22-E41A73D5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9D3A-3ED4-4AE0-B5EA-2D4F55400EC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yschool.edu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yschool.edu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95280" y="62064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Соответствие содержания ФГИС «Моя школа» и тематического планирования по предмету хим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5735880" y="5516640"/>
            <a:ext cx="26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тор Д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У «Киргинская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rcRect l="16795" t="19488" r="22882" b="13578"/>
          <a:stretch/>
        </p:blipFill>
        <p:spPr>
          <a:xfrm>
            <a:off x="179280" y="692280"/>
            <a:ext cx="85424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rcRect l="12921" t="10625" r="7938" b="5704"/>
          <a:stretch/>
        </p:blipFill>
        <p:spPr>
          <a:xfrm>
            <a:off x="179280" y="620640"/>
            <a:ext cx="86043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17453" r="0" b="7472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79280" y="333360"/>
            <a:ext cx="89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траница раздела «Библиот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2"/>
          <a:srcRect l="4800" t="9064" r="2814" b="7711"/>
          <a:stretch/>
        </p:blipFill>
        <p:spPr>
          <a:xfrm>
            <a:off x="546120" y="1251000"/>
            <a:ext cx="82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rcRect l="0" t="17453" r="0" b="8338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79280" y="333360"/>
            <a:ext cx="89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траница раздела «Библиот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2"/>
          <a:srcRect l="5019" t="8701" r="4610" b="6467"/>
          <a:stretch/>
        </p:blipFill>
        <p:spPr>
          <a:xfrm>
            <a:off x="0" y="1195560"/>
            <a:ext cx="9140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rcRect l="0" t="17453" r="0" b="7495"/>
          <a:stretch/>
        </p:blipFill>
        <p:spPr>
          <a:xfrm>
            <a:off x="-25560" y="-2700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0" y="55440"/>
            <a:ext cx="9123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Заключ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именяемые современные цифровые технологи в ФГИС «Моя школа» - помогут учителям  школы на деле использовать новые педагогические практики (новые модели организации и проведения учебной работ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0" descr=""/>
          <p:cNvPicPr/>
          <p:nvPr/>
        </p:nvPicPr>
        <p:blipFill>
          <a:blip r:embed="rId2"/>
          <a:stretch/>
        </p:blipFill>
        <p:spPr>
          <a:xfrm>
            <a:off x="1547640" y="3259080"/>
            <a:ext cx="56692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rcRect l="0" t="17453" r="0" b="7472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2"/>
          <a:stretch/>
        </p:blipFill>
        <p:spPr>
          <a:xfrm>
            <a:off x="-1440" y="2266920"/>
            <a:ext cx="6521400" cy="23241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6" descr=""/>
          <p:cNvPicPr/>
          <p:nvPr/>
        </p:nvPicPr>
        <p:blipFill>
          <a:blip r:embed="rId3"/>
          <a:srcRect l="47785" t="0" r="0" b="0"/>
          <a:stretch/>
        </p:blipFill>
        <p:spPr>
          <a:xfrm>
            <a:off x="5076720" y="0"/>
            <a:ext cx="4200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31680" y="2292480"/>
            <a:ext cx="626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ФГИС «Моя школа»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Arial"/>
              </a:rPr>
              <a:t>представляет равны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  <a:ea typeface="Arial"/>
              </a:rPr>
              <a:t>доступ к качественному образовательному контенту и цифровым образовательным сервисам на всей территории РФ для всех категорий обучающих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rcRect l="0" t="17453" r="0" b="74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250920" y="189000"/>
            <a:ext cx="866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сновные подсистемы ФГИС «Моя школа»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086680" cy="35398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14280"/>
            <a:ext cx="8380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Библиотека цифрового образовательного конте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бота с файлами, создание собственных папок с документам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Электронный журнал/днев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ерсональные и групповые каналы связи на базе «Сферу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Тестирующая система для оценки знаний уча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«Видеоуроки РЭШ» и «Подбор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0" descr=""/>
          <p:cNvPicPr/>
          <p:nvPr/>
        </p:nvPicPr>
        <p:blipFill>
          <a:blip r:embed="rId3"/>
          <a:stretch/>
        </p:blipFill>
        <p:spPr>
          <a:xfrm>
            <a:off x="5653080" y="4437000"/>
            <a:ext cx="32670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>
            <a:hlinkClick r:id="rId1"/>
          </p:cNvPr>
          <p:cNvPicPr/>
          <p:nvPr/>
        </p:nvPicPr>
        <p:blipFill>
          <a:blip r:embed="rId2"/>
          <a:srcRect l="0" t="17453" r="0" b="0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18572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Возможности подсистемы «Мои файлы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3"/>
          <a:stretch/>
        </p:blipFill>
        <p:spPr>
          <a:xfrm>
            <a:off x="1544760" y="3519360"/>
            <a:ext cx="4673520" cy="3168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331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rcRect l="0" t="17453" r="0" b="8338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332000" y="333360"/>
            <a:ext cx="89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30320" y="139680"/>
            <a:ext cx="90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ервис «Мои файлы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33480" y="876240"/>
            <a:ext cx="885960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-33480" y="92088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Предоставляет возможность создавать, хранить, редактировать и совместно работать в режиме онлайн над документами в различных форматах (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DF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XSL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PT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т.д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6634080" cy="3384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3213000" y="5940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Раздел «Мои фай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0" t="17453" r="0" b="8338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81080" y="100080"/>
            <a:ext cx="89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сновные функциональные возможности раздела «Мои фай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2" descr=""/>
          <p:cNvPicPr/>
          <p:nvPr/>
        </p:nvPicPr>
        <p:blipFill>
          <a:blip r:embed="rId2"/>
          <a:stretch/>
        </p:blipFill>
        <p:spPr>
          <a:xfrm>
            <a:off x="5002200" y="1244520"/>
            <a:ext cx="3154320" cy="4719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"/>
          <p:cNvPicPr/>
          <p:nvPr/>
        </p:nvPicPr>
        <p:blipFill>
          <a:blip r:embed="rId3"/>
          <a:srcRect l="3538" t="23388" r="76775" b="27591"/>
          <a:stretch/>
        </p:blipFill>
        <p:spPr>
          <a:xfrm>
            <a:off x="831960" y="1236600"/>
            <a:ext cx="3168720" cy="4745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4"/>
          <p:cNvSpPr/>
          <p:nvPr/>
        </p:nvSpPr>
        <p:spPr>
          <a:xfrm>
            <a:off x="1116000" y="59292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одержание разд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5292720" y="59641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 Narrow"/>
              </a:rPr>
              <a:t>Создание документа/пап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>
            <a:hlinkClick r:id="rId1"/>
          </p:cNvPr>
          <p:cNvPicPr/>
          <p:nvPr/>
        </p:nvPicPr>
        <p:blipFill>
          <a:blip r:embed="rId2"/>
          <a:srcRect l="0" t="17453" r="0" b="0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8440" y="16747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Библиотека цифрового образовательного контента ФГИС «Моя школа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6" descr=""/>
          <p:cNvPicPr/>
          <p:nvPr/>
        </p:nvPicPr>
        <p:blipFill>
          <a:blip r:embed="rId3"/>
          <a:stretch/>
        </p:blipFill>
        <p:spPr>
          <a:xfrm>
            <a:off x="6568920" y="260280"/>
            <a:ext cx="2560680" cy="605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4"/>
          <a:stretch/>
        </p:blipFill>
        <p:spPr>
          <a:xfrm>
            <a:off x="1544760" y="3519360"/>
            <a:ext cx="467352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5"/>
          <a:stretch/>
        </p:blipFill>
        <p:spPr>
          <a:xfrm>
            <a:off x="2195640" y="3716280"/>
            <a:ext cx="331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rcRect l="0" t="17453" r="0" b="0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179280" y="333360"/>
            <a:ext cx="89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траница раздела «Библиот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96920" y="1222200"/>
            <a:ext cx="86961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rcRect l="0" t="17453" r="0" b="7472"/>
          <a:stretch/>
        </p:blipFill>
        <p:spPr>
          <a:xfrm>
            <a:off x="14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179280" y="333360"/>
            <a:ext cx="89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траница раздела «Библиот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rcRect l="6593" t="9803" r="5180" b="8597"/>
          <a:stretch/>
        </p:blipFill>
        <p:spPr>
          <a:xfrm>
            <a:off x="611280" y="1052640"/>
            <a:ext cx="8032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4:46:16Z</dcterms:created>
  <dc:creator>Александр</dc:creator>
  <dc:description/>
  <dc:language>en-US</dc:language>
  <cp:lastModifiedBy>User</cp:lastModifiedBy>
  <dcterms:modified xsi:type="dcterms:W3CDTF">2023-08-27T15:12:09Z</dcterms:modified>
  <cp:revision>101</cp:revision>
  <dc:subject/>
  <dc:title>Обучающее сочинение по серии сюжетных картинок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