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6.gif" ContentType="image/gif"/>
  <Override PartName="/ppt/media/image27.png" ContentType="image/png"/>
  <Override PartName="/ppt/media/image24.gif" ContentType="image/gif"/>
  <Override PartName="/ppt/media/image2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31.png" ContentType="image/png"/>
  <Override PartName="/ppt/media/image35.png" ContentType="image/png"/>
  <Override PartName="/ppt/media/image5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1.gif" ContentType="image/gif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1C8-0DDF-437B-A986-CE526DAC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D65-7B6E-46E7-BB82-8DC61A28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0B2-F389-4BB5-BB71-3A7CCB5A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33F-C0AF-4543-B816-F023692E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3FF-265A-4DDA-80A4-3DFE6243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075-A29D-4088-A513-1375340B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8D1-1FF5-4658-8CB6-8E7488A9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27F-62B2-43E3-BE3E-CFC9558D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10B-04DC-461F-B49C-3ECEBC08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9A3-A36E-4073-8CBC-DB25833C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4BD-B83D-438D-A3C5-72E64F5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FD7-EA57-468B-84F9-4552754C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D8F5-93D4-4FCE-8340-E975C82D1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days.pravoslavie.ru/Images/ii1233&amp;1867.htm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character.webzone.ru/isp_goblet103.htm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hyperlink" Target="http://character.webzone.ru/victor.htm" TargetMode="External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days.pravoslavie.ru/Images/im884.htm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2800" y="128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нь славянской культуры и письм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У"/>
          <p:cNvPicPr/>
          <p:nvPr/>
        </p:nvPicPr>
        <p:blipFill>
          <a:blip r:embed="rId1"/>
          <a:stretch/>
        </p:blipFill>
        <p:spPr>
          <a:xfrm>
            <a:off x="0" y="147600"/>
            <a:ext cx="1163520" cy="2666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img055"/>
          <p:cNvPicPr/>
          <p:nvPr/>
        </p:nvPicPr>
        <p:blipFill>
          <a:blip r:embed="rId2"/>
          <a:stretch/>
        </p:blipFill>
        <p:spPr>
          <a:xfrm>
            <a:off x="2674800" y="1677960"/>
            <a:ext cx="342432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quill"/>
          <p:cNvPicPr/>
          <p:nvPr/>
        </p:nvPicPr>
        <p:blipFill>
          <a:blip r:embed="rId1"/>
          <a:stretch/>
        </p:blipFill>
        <p:spPr>
          <a:xfrm>
            <a:off x="6381720" y="485640"/>
            <a:ext cx="255276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Кирилл, учитель Словенски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73320" y="492120"/>
            <a:ext cx="4491000" cy="5902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5675400" y="2268360"/>
            <a:ext cx="3230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Monotype Corsiva"/>
              </a:rPr>
              <a:t>Кирил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Monotype Corsiva"/>
              </a:rPr>
              <a:t>(Константи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827360" y="874800"/>
            <a:ext cx="5538600" cy="5796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764800" y="0"/>
            <a:ext cx="35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Monotype Corsiva"/>
              </a:rPr>
              <a:t>Кирил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g4"/>
          <p:cNvPicPr/>
          <p:nvPr/>
        </p:nvPicPr>
        <p:blipFill>
          <a:blip r:embed="rId1"/>
          <a:stretch/>
        </p:blipFill>
        <p:spPr>
          <a:xfrm>
            <a:off x="299880" y="1101600"/>
            <a:ext cx="5318280" cy="55580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73" name="Text Box 5"/>
          <p:cNvSpPr/>
          <p:nvPr/>
        </p:nvSpPr>
        <p:spPr>
          <a:xfrm>
            <a:off x="43200" y="200160"/>
            <a:ext cx="556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Monotype Corsiva"/>
              </a:rPr>
              <a:t>Давайте срав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29-2004-138-06"/>
          <p:cNvPicPr/>
          <p:nvPr/>
        </p:nvPicPr>
        <p:blipFill>
          <a:blip r:embed="rId2"/>
          <a:stretch/>
        </p:blipFill>
        <p:spPr>
          <a:xfrm>
            <a:off x="6878520" y="1170000"/>
            <a:ext cx="2019240" cy="550692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75" name="Picture 6" descr="отккрытая книга"/>
          <p:cNvPicPr/>
          <p:nvPr/>
        </p:nvPicPr>
        <p:blipFill>
          <a:blip r:embed="rId3"/>
          <a:stretch/>
        </p:blipFill>
        <p:spPr>
          <a:xfrm>
            <a:off x="5170320" y="236520"/>
            <a:ext cx="23623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Ж"/>
          <p:cNvPicPr/>
          <p:nvPr/>
        </p:nvPicPr>
        <p:blipFill>
          <a:blip r:embed="rId1"/>
          <a:srcRect l="5669" t="0" r="0" b="0"/>
          <a:stretch/>
        </p:blipFill>
        <p:spPr>
          <a:xfrm>
            <a:off x="1400040" y="3543480"/>
            <a:ext cx="2084400" cy="200808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29"/>
          <p:cNvGrpSpPr/>
          <p:nvPr/>
        </p:nvGrpSpPr>
        <p:grpSpPr>
          <a:xfrm>
            <a:off x="297000" y="673200"/>
            <a:ext cx="6933960" cy="2076480"/>
            <a:chOff x="297000" y="673200"/>
            <a:chExt cx="6933960" cy="2076480"/>
          </a:xfrm>
        </p:grpSpPr>
        <p:pic>
          <p:nvPicPr>
            <p:cNvPr id="78" name="Picture 5" descr="А">
              <a:hlinkClick r:id="rId2"/>
            </p:cNvPr>
            <p:cNvPicPr/>
            <p:nvPr/>
          </p:nvPicPr>
          <p:blipFill>
            <a:blip r:embed="rId3"/>
            <a:srcRect l="6090" t="0" r="0" b="0"/>
            <a:stretch/>
          </p:blipFill>
          <p:spPr>
            <a:xfrm>
              <a:off x="297000" y="711360"/>
              <a:ext cx="1174680" cy="20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Б"/>
            <p:cNvPicPr/>
            <p:nvPr/>
          </p:nvPicPr>
          <p:blipFill>
            <a:blip r:embed="rId4"/>
            <a:stretch/>
          </p:blipFill>
          <p:spPr>
            <a:xfrm>
              <a:off x="1962000" y="673200"/>
              <a:ext cx="122256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7" descr="В"/>
            <p:cNvPicPr/>
            <p:nvPr/>
          </p:nvPicPr>
          <p:blipFill>
            <a:blip r:embed="rId5"/>
            <a:stretch/>
          </p:blipFill>
          <p:spPr>
            <a:xfrm>
              <a:off x="3605040" y="698400"/>
              <a:ext cx="1354320" cy="20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Г"/>
            <p:cNvPicPr/>
            <p:nvPr/>
          </p:nvPicPr>
          <p:blipFill>
            <a:blip r:embed="rId6"/>
            <a:srcRect l="5471" t="0" r="0" b="0"/>
            <a:stretch/>
          </p:blipFill>
          <p:spPr>
            <a:xfrm>
              <a:off x="5373720" y="723960"/>
              <a:ext cx="1857240" cy="20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Picture 9" descr="Д"/>
          <p:cNvPicPr/>
          <p:nvPr/>
        </p:nvPicPr>
        <p:blipFill>
          <a:blip r:embed="rId7"/>
          <a:stretch/>
        </p:blipFill>
        <p:spPr>
          <a:xfrm>
            <a:off x="7548480" y="712800"/>
            <a:ext cx="132264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Е"/>
          <p:cNvPicPr/>
          <p:nvPr/>
        </p:nvPicPr>
        <p:blipFill>
          <a:blip r:embed="rId8"/>
          <a:stretch/>
        </p:blipFill>
        <p:spPr>
          <a:xfrm>
            <a:off x="158760" y="3379680"/>
            <a:ext cx="110160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0" y="2717640"/>
            <a:ext cx="167652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009999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з 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743120" y="2706840"/>
            <a:ext cx="167652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009999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 у к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511440" y="2706840"/>
            <a:ext cx="167652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009999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е д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5421240" y="2719440"/>
            <a:ext cx="167652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009999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7278840" y="2728800"/>
            <a:ext cx="167616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009999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 о б р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0" y="5548320"/>
            <a:ext cx="167652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009999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 с т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1527120" y="6095880"/>
            <a:ext cx="167652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009999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 и в е т 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0"/>
          <p:cNvSpPr/>
          <p:nvPr/>
        </p:nvSpPr>
        <p:spPr>
          <a:xfrm>
            <a:off x="3616200" y="0"/>
            <a:ext cx="201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Monotype Corsiva"/>
              </a:rPr>
              <a:t>Букв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1" descr="З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40240" y="3382920"/>
            <a:ext cx="1320840" cy="198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И"/>
          <p:cNvPicPr/>
          <p:nvPr/>
        </p:nvPicPr>
        <p:blipFill>
          <a:blip r:embed="rId11"/>
          <a:stretch/>
        </p:blipFill>
        <p:spPr>
          <a:xfrm>
            <a:off x="4967280" y="3571920"/>
            <a:ext cx="863640" cy="1981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3355920" y="5549760"/>
            <a:ext cx="167652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009999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 е л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4673520" y="6164280"/>
            <a:ext cx="167652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009999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ж 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5" descr="Л"/>
          <p:cNvPicPr/>
          <p:nvPr/>
        </p:nvPicPr>
        <p:blipFill>
          <a:blip r:embed="rId12"/>
          <a:srcRect l="4824" t="0" r="0" b="0"/>
          <a:stretch/>
        </p:blipFill>
        <p:spPr>
          <a:xfrm>
            <a:off x="5916600" y="3365640"/>
            <a:ext cx="150336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М"/>
          <p:cNvPicPr/>
          <p:nvPr/>
        </p:nvPicPr>
        <p:blipFill>
          <a:blip r:embed="rId13"/>
          <a:srcRect l="9504" t="0" r="7988" b="0"/>
          <a:stretch/>
        </p:blipFill>
        <p:spPr>
          <a:xfrm>
            <a:off x="7518240" y="3565440"/>
            <a:ext cx="1625760" cy="1981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7"/>
          <p:cNvSpPr/>
          <p:nvPr/>
        </p:nvSpPr>
        <p:spPr>
          <a:xfrm>
            <a:off x="5827680" y="5610240"/>
            <a:ext cx="167652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009999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 ю д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7467480" y="6134040"/>
            <a:ext cx="167652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009999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сл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7"/>
          <p:cNvSpPr txBox="1"/>
          <p:nvPr/>
        </p:nvSpPr>
        <p:spPr>
          <a:xfrm>
            <a:off x="457200" y="2976480"/>
            <a:ext cx="8535960" cy="18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Пословица    недаром     молвится…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01" name="Picture 6" descr="03"/>
          <p:cNvPicPr/>
          <p:nvPr/>
        </p:nvPicPr>
        <p:blipFill>
          <a:blip r:embed="rId1"/>
          <a:stretch/>
        </p:blipFill>
        <p:spPr>
          <a:xfrm>
            <a:off x="3463920" y="0"/>
            <a:ext cx="2376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отккрытая книга"/>
          <p:cNvPicPr/>
          <p:nvPr/>
        </p:nvPicPr>
        <p:blipFill>
          <a:blip r:embed="rId1"/>
          <a:stretch/>
        </p:blipFill>
        <p:spPr>
          <a:xfrm>
            <a:off x="3608280" y="314280"/>
            <a:ext cx="2008440" cy="11923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Ум без книг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е красна птица перо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Золото добывают из земл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красна ум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как птица без крыль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 знания из книг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отккрытая книга"/>
          <p:cNvPicPr/>
          <p:nvPr/>
        </p:nvPicPr>
        <p:blipFill>
          <a:blip r:embed="rId1"/>
          <a:stretch/>
        </p:blipFill>
        <p:spPr>
          <a:xfrm>
            <a:off x="3608280" y="314280"/>
            <a:ext cx="2008440" cy="11923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нига для ум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е на пользу книги чита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написано пером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51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не вырубишь топор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коли только вершки в них хвата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что теплый дождь для всхо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отккрытая книга"/>
          <p:cNvPicPr/>
          <p:nvPr/>
        </p:nvPicPr>
        <p:blipFill>
          <a:blip r:embed="rId1"/>
          <a:stretch/>
        </p:blipFill>
        <p:spPr>
          <a:xfrm>
            <a:off x="3608280" y="314280"/>
            <a:ext cx="2008440" cy="1192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05920" y="1599840"/>
            <a:ext cx="4289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казанное слово было да н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нига в счастье украш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Хлеб питает тел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 книга питает разу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 написанное живет 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 в несчастье утеш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Святители Кирилл и Мефоди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11960" y="2516040"/>
            <a:ext cx="2732040" cy="4179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0" y="2492280"/>
            <a:ext cx="2917800" cy="419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4"/>
          <a:stretch/>
        </p:blipFill>
        <p:spPr>
          <a:xfrm>
            <a:off x="3157560" y="1851120"/>
            <a:ext cx="3043080" cy="41432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0" y="0"/>
            <a:ext cx="91440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Ежегодно </a:t>
            </a:r>
            <a:r>
              <a:rPr b="1" lang="ru-RU" sz="4400" spc="-1" strike="noStrike">
                <a:solidFill>
                  <a:srgbClr val="000099"/>
                </a:solidFill>
                <a:latin typeface="Monotype Corsiva"/>
              </a:rPr>
              <a:t>24 мая</a:t>
            </a: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 у славянских нар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отмечается особый праздник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Monotype Corsiva"/>
              </a:rPr>
              <a:t>День славянской культуры и письменности</a:t>
            </a: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422440" y="0"/>
            <a:ext cx="48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IMGA04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R3640i"/>
          <p:cNvPicPr/>
          <p:nvPr/>
        </p:nvPicPr>
        <p:blipFill>
          <a:blip r:embed="rId1"/>
          <a:stretch/>
        </p:blipFill>
        <p:spPr>
          <a:xfrm>
            <a:off x="3286080" y="3689280"/>
            <a:ext cx="2698920" cy="30034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934920" y="3314880"/>
            <a:ext cx="19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Белору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332760" y="3355920"/>
            <a:ext cx="26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Украин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625200" y="2884320"/>
            <a:ext cx="20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Рус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http://skarbnica.by/wp-content/gallery/folk-cloth/folk_clothe.jpg"/>
          <p:cNvPicPr/>
          <p:nvPr/>
        </p:nvPicPr>
        <p:blipFill>
          <a:blip r:embed="rId2"/>
          <a:stretch/>
        </p:blipFill>
        <p:spPr>
          <a:xfrm>
            <a:off x="746280" y="712800"/>
            <a:ext cx="2570040" cy="2548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https://etnoxata.com.ua/image/catalog/stat/p1/p4/13.jpg"/>
          <p:cNvPicPr/>
          <p:nvPr/>
        </p:nvPicPr>
        <p:blipFill>
          <a:blip r:embed="rId3"/>
          <a:stretch/>
        </p:blipFill>
        <p:spPr>
          <a:xfrm>
            <a:off x="6661080" y="581040"/>
            <a:ext cx="21528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Берестяная грамота"/>
          <p:cNvPicPr/>
          <p:nvPr/>
        </p:nvPicPr>
        <p:blipFill>
          <a:blip r:embed="rId1"/>
          <a:stretch/>
        </p:blipFill>
        <p:spPr>
          <a:xfrm>
            <a:off x="1065240" y="200160"/>
            <a:ext cx="7178760" cy="28875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787480" y="3833640"/>
            <a:ext cx="3581640" cy="2673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53" name="Text Box 6"/>
          <p:cNvSpPr/>
          <p:nvPr/>
        </p:nvSpPr>
        <p:spPr>
          <a:xfrm>
            <a:off x="470520" y="3127320"/>
            <a:ext cx="87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Новгородские берестяные грам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Нестор в бронзе"/>
          <p:cNvPicPr/>
          <p:nvPr/>
        </p:nvPicPr>
        <p:blipFill>
          <a:blip r:embed="rId1"/>
          <a:stretch/>
        </p:blipFill>
        <p:spPr>
          <a:xfrm>
            <a:off x="749160" y="800280"/>
            <a:ext cx="3122640" cy="496872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55" name="Text Box 5"/>
          <p:cNvSpPr/>
          <p:nvPr/>
        </p:nvSpPr>
        <p:spPr>
          <a:xfrm>
            <a:off x="5103720" y="3111480"/>
            <a:ext cx="31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Нестор – летописец, автор «Повести временных л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01"/>
          <p:cNvPicPr/>
          <p:nvPr/>
        </p:nvPicPr>
        <p:blipFill>
          <a:blip r:embed="rId2"/>
          <a:stretch/>
        </p:blipFill>
        <p:spPr>
          <a:xfrm>
            <a:off x="5330880" y="817560"/>
            <a:ext cx="2666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Кирилл и Мефодий"/>
          <p:cNvPicPr/>
          <p:nvPr/>
        </p:nvPicPr>
        <p:blipFill>
          <a:blip r:embed="rId1"/>
          <a:stretch/>
        </p:blipFill>
        <p:spPr>
          <a:xfrm>
            <a:off x="2819520" y="169920"/>
            <a:ext cx="3682800" cy="522612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58" name="Text Box 6"/>
          <p:cNvSpPr/>
          <p:nvPr/>
        </p:nvSpPr>
        <p:spPr>
          <a:xfrm>
            <a:off x="1120680" y="5602320"/>
            <a:ext cx="73119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Создатели славянской письменности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Кирилл и Мефод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610000" y="282600"/>
            <a:ext cx="3714480" cy="38322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60" name="Rectangle 6"/>
          <p:cNvSpPr/>
          <p:nvPr/>
        </p:nvSpPr>
        <p:spPr>
          <a:xfrm>
            <a:off x="228240" y="4384800"/>
            <a:ext cx="853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Город Солу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(сейчас он называется Салоники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Гр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Рисунок9"/>
          <p:cNvPicPr/>
          <p:nvPr/>
        </p:nvPicPr>
        <p:blipFill>
          <a:blip r:embed="rId1"/>
          <a:stretch/>
        </p:blipFill>
        <p:spPr>
          <a:xfrm>
            <a:off x="6783480" y="195120"/>
            <a:ext cx="2209680" cy="2071800"/>
          </a:xfrm>
          <a:prstGeom prst="rect">
            <a:avLst/>
          </a:prstGeom>
          <a:ln w="0">
            <a:noFill/>
          </a:ln>
        </p:spPr>
      </p:pic>
      <p:pic>
        <p:nvPicPr>
          <p:cNvPr id="62" name="Object 10" descr=""/>
          <p:cNvPicPr/>
          <p:nvPr/>
        </p:nvPicPr>
        <p:blipFill>
          <a:blip r:embed="rId2"/>
          <a:stretch/>
        </p:blipFill>
        <p:spPr>
          <a:xfrm>
            <a:off x="169920" y="1698480"/>
            <a:ext cx="6477120" cy="4881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401760" y="246240"/>
            <a:ext cx="3746520" cy="31431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64" name="Rectangle 5"/>
          <p:cNvSpPr/>
          <p:nvPr/>
        </p:nvSpPr>
        <p:spPr>
          <a:xfrm>
            <a:off x="-225360" y="3308400"/>
            <a:ext cx="9720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Столица Византии</a:t>
            </a:r>
            <a:r>
              <a:rPr b="1" lang="en-US" sz="32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-</a:t>
            </a:r>
            <a:r>
              <a:rPr b="1" lang="en-US" sz="32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город </a:t>
            </a:r>
            <a:r>
              <a:rPr b="1" lang="ru-RU" sz="4400" spc="-1" strike="noStrike">
                <a:solidFill>
                  <a:srgbClr val="000099"/>
                </a:solidFill>
                <a:latin typeface="Monotype Corsiva"/>
              </a:rPr>
              <a:t>Константин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250px-Ayasofya_2006-1"/>
          <p:cNvPicPr/>
          <p:nvPr/>
        </p:nvPicPr>
        <p:blipFill>
          <a:blip r:embed="rId2"/>
          <a:stretch/>
        </p:blipFill>
        <p:spPr>
          <a:xfrm>
            <a:off x="4989600" y="255600"/>
            <a:ext cx="3787560" cy="31449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66" name="Picture 7" descr="bulgaria-1"/>
          <p:cNvPicPr/>
          <p:nvPr/>
        </p:nvPicPr>
        <p:blipFill>
          <a:blip r:embed="rId3"/>
          <a:stretch/>
        </p:blipFill>
        <p:spPr>
          <a:xfrm>
            <a:off x="3206880" y="4016520"/>
            <a:ext cx="3036600" cy="26398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5:25:28Z</dcterms:created>
  <dc:creator>Anatoly Machekhin</dc:creator>
  <dc:description/>
  <dc:language>en-US</dc:language>
  <cp:lastModifiedBy>Галина Геннадбевна</cp:lastModifiedBy>
  <dcterms:modified xsi:type="dcterms:W3CDTF">2022-05-24T03:34:17Z</dcterms:modified>
  <cp:revision>33</cp:revision>
  <dc:subject/>
  <dc:title>День славянской культуры и письменности</dc:title>
</cp:coreProperties>
</file>