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3370-8B8A-47F9-85A4-1657D73C5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C162-A80A-48D6-9845-AFFE5358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B6514-0A73-4174-A59C-99B7646F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800E5-1EEF-4C6A-9C4D-54ABE049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13996-2302-492E-B3F9-F722121E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556F4-9145-47E4-B159-E58A4BD2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3E2BA-9DF3-48EC-ABEA-97841A2D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A3E83-CCEA-4E65-9925-74B682F4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65A36-337F-449B-8629-D1ADBDC9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E1C5F-FE3B-406A-9F2D-F5A7172F4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E196E-ED70-4B74-9926-2260E5839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94C06F-2F62-432A-9B0A-40598306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468E-8FE1-40EE-81FD-53233A63D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8C870-9F31-4B2D-BB96-CACDBB1C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D3A21-504A-4009-B105-4E37C466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D1A92-FA96-4712-8DEE-724CEED9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87A86E-56D8-41FC-840B-8E7A8669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D3DA1-C96C-4FC1-B964-1C559F58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F8E606-ECB4-4C94-BF4B-D163F0EE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E6EDAA-0865-4F83-A4DF-C0ABD997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E11345-1490-4F9D-B4B0-A84CF178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97A4F8-8C9C-4627-AD3B-2B309689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EA8467-8167-4562-B3DA-23E4AC1C6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9DC0-1A79-40A5-8399-B4E4A0E97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F8911C-2C21-498D-A6AA-FE5EF055F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699EC-6C89-4E33-84E6-A71E2E2E3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F4CBE-DB97-4E9A-8D6F-58184A91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D7AF1-56BA-4C6E-B5C6-95F57184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7B6FC-A549-459B-9AA7-CECC6D0D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B2CC1-1FE1-41EB-B7E9-6CED060B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A1766-EAE7-4F3B-8897-511E64A2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19328-338E-46D7-9B96-3B5C8461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46EB8-424C-4D08-ACFD-8EB6FD93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2311E-F689-4946-9520-E43BAE61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D66E-8CDF-4606-8D2A-59FF0CA79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BE74C-6445-4A47-A4FB-41AC9A9D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02E12-13DD-47E6-B466-E6546D813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6C743-1262-4633-8AF1-F8A1E0DE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F9F8D5-2BDD-468F-BC6E-125D2919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B22E7F-EA92-4B3F-9E41-220DDC27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9F218-5734-45DC-9E90-5878BBDA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047D69-F238-45DC-B8B0-9C43C5FA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4FC75E-7EE9-4342-AD21-94384E8B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BA9D38-5E0E-4FE4-A81F-A209B266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8A55EC-0872-45A2-B04A-CDF05C1F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E57F-F688-48C8-8FD1-25A8D0EB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40D6A-17C3-4427-A4F4-AB4A9F74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C71A9B-488C-40AF-BAEC-C0368452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F78137-DAD5-46DC-AABD-3F988B85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9B59E-66CA-4ED2-BBB6-ED52B3CDB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8C757-C5BB-471F-82DE-56E866870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F8DC3B-AC09-4DE3-BE87-856BC1113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2174B9-F34F-43B5-9152-7552D82E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FBC334-93DA-4F9C-8467-AAC1EBE5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FCCFCA-7554-464D-9992-915D4B7D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0DC6AC-86E5-4BEF-9A6C-765E7BB7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4C43-2F9E-4962-8572-235B1E56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6C4F44-6B2C-463D-BCA7-C2EC058B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7941B8-19B1-4177-B417-16CB50E9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06DA35-793C-4ADB-B53A-74164264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F72353-0F86-4AD8-9EC5-72F9A1B9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8A30A8-19ED-41C6-8E9E-45702642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F449BB-115C-4083-9898-08583ED89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2358E3-C4DE-4569-A2E1-2D3103202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ABDC-4EC4-4981-BA16-B6ABE0E2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7EF2-52C1-41C9-B3AA-11F91083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2F5E-506B-4FCE-BC0C-9CBF2ACA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456F-F1DE-4A87-BA67-2D95CC7E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6550-9354-4BB9-9C11-6BFFAC8E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C690-AB28-455E-8A7D-E4B0D17E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4C30-D47D-4E14-859E-36541F13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47FD-A52C-4759-A4EE-9686DB55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A2BA-551B-41D3-A381-EB717F560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07CF-F731-40F1-AF8E-0EFA384BC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23E1A-1C8C-4CDD-A5A7-5A581C10F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BF38A-5EEF-4E30-8458-1143FEAF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B7628-E93E-4235-9AD4-833BFDF8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8B454-7972-4059-A0CE-4B197051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DB32D-0256-45F1-BA25-8EFCF08A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BC93-8CBE-414B-80C9-95B4B4F5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2D969-F664-4C3F-A5CF-C1443B74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91F4B-9CC3-44BC-A7E4-77C38AD8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67D86-B360-4183-BDD6-53E18722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5CB81-1AAE-4E24-8D8F-1D66463B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313B1-CF73-47E2-91AA-F0952DB2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D423E-37FB-4196-9DB8-F96042ED9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89046-4E1D-428B-AAAB-B4CC9C360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7EE9E-0E15-4727-8DF9-80FEA56C9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927FE-99A8-4C4E-861A-6031DBA0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7C09D-3E9E-4A07-865C-7CACC5A2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FD60-86D0-4364-955C-A164ACCB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43E67-8B24-4EEB-9ADD-8D0AC63E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2A52D-AD03-48D7-9140-6777C5D1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EE737-DF85-43C5-9497-20D0BAD6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96B18-7AB2-475E-838D-F0DBBCD6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31E06-5765-404B-9EAF-E8301DDC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6FB6E-59B0-46E0-ACA4-185B2132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73C32-8D80-4548-BDD0-2A805942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BF665-B4B5-4967-81F3-18871DE2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7B863-C484-4806-8FD5-5D82EC33F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32E05-3CD6-4C55-A87C-1AB940E3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7DE2-9503-4624-A441-78B28D90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396AF-B0F8-4F53-9EAF-959173FD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3004A-F0DD-483D-A39F-262052A2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76233-FF91-4F83-BBE2-207054F1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9B0C1-7805-47E3-8E87-D58959C2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555BA-7BA9-481B-8747-AC4B7752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B5886-3B1C-41C9-BAD0-54F321ED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CCE01-9400-420D-B3C5-1A45F648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4017D-5D1D-47AE-82AE-4B61EC1A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E0F98-339D-47C9-A50B-8E5280C8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993B4-F2A1-4E66-A266-19B264044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79B0-5AFC-4F1B-BE90-8582FB7C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F9152-7F74-49A7-9F46-2B2660494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60975-E197-42E0-A668-CC2054D2C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A2F4C-266F-4D51-A970-18B9169D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C1A4C-200C-4A48-B8FD-4EEA2D82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5D0DD-9375-463A-9E96-92851BCC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91EAB-1CF2-4054-BD5E-36C871AA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5C1A5-7214-46ED-966D-28B72475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66633-B6DD-4F92-865C-4119483B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1C39A-B592-4AD5-85FF-C00E45B4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B97D1-9261-4BAE-9EE6-E2F56381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F757-32A0-4F1C-AB6B-BA4A3D4F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739F0-EE97-49FA-B86D-62151E23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D3442-AE08-40A7-B8ED-C6C24FC12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80C4C-752C-4845-845E-66DF25898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BC0DE-13D6-4A0E-9C9D-D5D7E6872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46235-C52E-4819-8D8A-DFB3CFF1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0A28C-37EA-4999-B0CF-7642BB52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DC951-7C9A-48C4-8C0B-BA55A4FB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107EC-D392-4C21-AD7B-C21F3688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90EB8-D753-42B9-A34B-5F65193D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19C83-2CDB-49D2-9C65-1A6B5408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05F5-24BE-4ABA-8958-05D69516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59F33-E29C-40A8-8EF5-9BA4CEF8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CB285-9994-4447-B57C-2C6EC3A7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7AB70-D0BB-46D0-ACF2-468529E5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DB681-3702-4EFC-BA83-0169DDAE0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5D97E-7578-4951-93B0-004200349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B7C1B-F102-4A40-B73F-138446B6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50FB5-68B4-461D-B3B4-859DED5B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C0FDB-6B96-486F-A0A6-EBD9A46C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FFE55-AF9F-4089-AEA9-BCECDB32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BB4B6-523F-4859-AFF4-3D5288A8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4EF0-7856-4D77-8302-F4186D3C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71691-13B6-46C7-9AB9-46E009F0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5D948-0DDC-4C95-99D8-7730EBBC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C1398-E15A-47A1-B8DA-02E9707B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4829B-A070-4772-A5FF-5736E608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F3CFC-1EB8-4C4F-9453-48DD958B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5BF4A-0E65-4B33-98EF-A1043257B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A99C0-4A77-4D6D-B306-7A548E2C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8B24CC-9818-4D54-998A-0DB37BD3C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42A9B-348D-4DF3-9157-835AE8DC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C1308-8C4B-43DC-BF92-9CEE951C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B8B1-3604-476B-9808-B5318FBBFB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FBEE-6CA0-49C6-84FE-D2251CA6172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A0E8-EC59-41F0-AABE-1635EE56F5C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F7F0-3710-4A20-887D-ADFFF1DA6D3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CB7D-D736-4551-87C1-1D2C2B2A4F8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1E5E-E9F4-436B-80C7-00F5B23164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D692-F1D4-4095-B5FF-1225AEE9500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0DD5-C345-449A-93FC-ED562D7A1F0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B3E1-06A6-4A6C-9AEB-44014CC2667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C5D9-D5E1-494F-A271-A9747542C6D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E450-73C9-4474-AAAF-ACD6BD65560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A41C-76A8-406A-AB0F-20A6F2600E3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E5ED-94B3-4CF3-9A44-FC752298BAB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402920" y="1052640"/>
            <a:ext cx="648180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зультаты региональной диагностики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фессиональных дефицитов  учителей начальных классов в 2023 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Прямоугольник 4"/>
          <p:cNvSpPr/>
          <p:nvPr/>
        </p:nvSpPr>
        <p:spPr>
          <a:xfrm>
            <a:off x="1332000" y="260280"/>
            <a:ext cx="748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езультаты дефицитов региональной диагностики учителей начальных классов владения психолого-педагогическими компетенциями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108000" y="2076480"/>
          <a:ext cx="8928000" cy="4755960"/>
        </p:xfrm>
        <a:graphic>
          <a:graphicData uri="http://schemas.openxmlformats.org/drawingml/2006/table">
            <a:tbl>
              <a:tblPr/>
              <a:tblGrid>
                <a:gridCol w="7128000"/>
                <a:gridCol w="1800000"/>
              </a:tblGrid>
              <a:tr h="456120">
                <a:tc>
                  <a:txBody>
                    <a:bodyPr lIns="45720" rIns="4572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етенции, знания, ум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ее значение (%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07040">
                <a:tc>
                  <a:txBody>
                    <a:bodyPr lIns="45720" rIns="4572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обен определять и создавать условия для индивидуализации образовательного процесса на основе учета психофизических и индивидуально-типологических особенностей обучающихся, в том числе одаренных обучающихся и обучающихся с ОВЗ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е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ологию и характеристики групп одаренных обучающихся и обучающихся с ОВЗ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еет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ять коррекционные условия в отношении конкретных групп одаренных обучающихся и обучающихся с ОВЗ с учетом психофизических и индивидуально-типологических особенностей обучаю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792800">
                <a:tc>
                  <a:txBody>
                    <a:bodyPr lIns="45720" rIns="4572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обен осуществлять контроль и оценку формирования результатов образования обучающихся, выявлять и корректировать трудности в обучении в рамках общеобразовательных програ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ет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зацию контроля и оценки в рамках общеобразовательных програ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 понятия коррекция и способы ее осуществления на учебных занятиях с обучающимися по общеобразовательным програ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Схема 2" descr=""/>
          <p:cNvPicPr/>
          <p:nvPr/>
        </p:nvPicPr>
        <p:blipFill>
          <a:blip r:embed="rId1"/>
          <a:stretch/>
        </p:blipFill>
        <p:spPr>
          <a:xfrm>
            <a:off x="1523880" y="115920"/>
            <a:ext cx="7467840" cy="2663640"/>
          </a:xfrm>
          <a:prstGeom prst="rect">
            <a:avLst/>
          </a:prstGeom>
          <a:ln w="0">
            <a:noFill/>
          </a:ln>
        </p:spPr>
      </p:pic>
      <p:pic>
        <p:nvPicPr>
          <p:cNvPr id="555" name="Схема 3" descr=""/>
          <p:cNvPicPr/>
          <p:nvPr/>
        </p:nvPicPr>
        <p:blipFill>
          <a:blip r:embed="rId2"/>
          <a:stretch/>
        </p:blipFill>
        <p:spPr>
          <a:xfrm>
            <a:off x="1573200" y="3840120"/>
            <a:ext cx="7461360" cy="2889360"/>
          </a:xfrm>
          <a:prstGeom prst="rect">
            <a:avLst/>
          </a:prstGeom>
          <a:ln w="0">
            <a:noFill/>
          </a:ln>
        </p:spPr>
      </p:pic>
      <p:pic>
        <p:nvPicPr>
          <p:cNvPr id="556" name="Схема 5" descr=""/>
          <p:cNvPicPr/>
          <p:nvPr/>
        </p:nvPicPr>
        <p:blipFill>
          <a:blip r:embed="rId3"/>
          <a:stretch/>
        </p:blipFill>
        <p:spPr>
          <a:xfrm>
            <a:off x="1579680" y="1865160"/>
            <a:ext cx="7467480" cy="2889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Схема 3" descr=""/>
          <p:cNvPicPr/>
          <p:nvPr/>
        </p:nvPicPr>
        <p:blipFill>
          <a:blip r:embed="rId1"/>
          <a:stretch/>
        </p:blipFill>
        <p:spPr>
          <a:xfrm>
            <a:off x="1523880" y="1395360"/>
            <a:ext cx="7296120" cy="4194360"/>
          </a:xfrm>
          <a:prstGeom prst="rect">
            <a:avLst/>
          </a:prstGeom>
          <a:ln w="0">
            <a:noFill/>
          </a:ln>
        </p:spPr>
      </p:pic>
      <p:sp>
        <p:nvSpPr>
          <p:cNvPr id="558" name="Прямоугольник 4"/>
          <p:cNvSpPr/>
          <p:nvPr/>
        </p:nvSpPr>
        <p:spPr>
          <a:xfrm>
            <a:off x="2286000" y="260280"/>
            <a:ext cx="653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езультаты региональной диагностики учителей начальных классов по по коммуникативным компетенциям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Схема 2" descr=""/>
          <p:cNvPicPr/>
          <p:nvPr/>
        </p:nvPicPr>
        <p:blipFill>
          <a:blip r:embed="rId1"/>
          <a:stretch/>
        </p:blipFill>
        <p:spPr>
          <a:xfrm>
            <a:off x="1523880" y="115920"/>
            <a:ext cx="7467840" cy="2663640"/>
          </a:xfrm>
          <a:prstGeom prst="rect">
            <a:avLst/>
          </a:prstGeom>
          <a:ln w="0">
            <a:noFill/>
          </a:ln>
        </p:spPr>
      </p:pic>
      <p:pic>
        <p:nvPicPr>
          <p:cNvPr id="560" name="Схема 3" descr=""/>
          <p:cNvPicPr/>
          <p:nvPr/>
        </p:nvPicPr>
        <p:blipFill>
          <a:blip r:embed="rId2"/>
          <a:stretch/>
        </p:blipFill>
        <p:spPr>
          <a:xfrm>
            <a:off x="1573200" y="3840120"/>
            <a:ext cx="7461360" cy="2889360"/>
          </a:xfrm>
          <a:prstGeom prst="rect">
            <a:avLst/>
          </a:prstGeom>
          <a:ln w="0">
            <a:noFill/>
          </a:ln>
        </p:spPr>
      </p:pic>
      <p:pic>
        <p:nvPicPr>
          <p:cNvPr id="561" name="Схема 5" descr=""/>
          <p:cNvPicPr/>
          <p:nvPr/>
        </p:nvPicPr>
        <p:blipFill>
          <a:blip r:embed="rId3"/>
          <a:stretch/>
        </p:blipFill>
        <p:spPr>
          <a:xfrm>
            <a:off x="1579680" y="1865160"/>
            <a:ext cx="7467480" cy="2889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Прямоугольник 4"/>
          <p:cNvSpPr/>
          <p:nvPr/>
        </p:nvSpPr>
        <p:spPr>
          <a:xfrm>
            <a:off x="2286000" y="260280"/>
            <a:ext cx="653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редний общий балл выполнения диагностической работы  - 54. 4 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Схема 1" descr=""/>
          <p:cNvPicPr/>
          <p:nvPr/>
        </p:nvPicPr>
        <p:blipFill>
          <a:blip r:embed="rId1"/>
          <a:stretch/>
        </p:blipFill>
        <p:spPr>
          <a:xfrm>
            <a:off x="176040" y="1395360"/>
            <a:ext cx="8643960" cy="4067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Прямоугольник 4"/>
          <p:cNvSpPr/>
          <p:nvPr/>
        </p:nvSpPr>
        <p:spPr>
          <a:xfrm>
            <a:off x="2286000" y="260280"/>
            <a:ext cx="653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ладение компетенциями учителями начальных клас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Диаграмма 4" descr=""/>
          <p:cNvPicPr/>
          <p:nvPr/>
        </p:nvPicPr>
        <p:blipFill>
          <a:blip r:embed="rId1"/>
          <a:stretch/>
        </p:blipFill>
        <p:spPr>
          <a:xfrm>
            <a:off x="1603440" y="1212840"/>
            <a:ext cx="7216560" cy="5091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Прямоугольник 3"/>
          <p:cNvSpPr/>
          <p:nvPr/>
        </p:nvSpPr>
        <p:spPr>
          <a:xfrm>
            <a:off x="2104920" y="33336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ладение компетенциями учителями начальных клас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1332000" y="1557360"/>
          <a:ext cx="7272360" cy="3311640"/>
        </p:xfrm>
        <a:graphic>
          <a:graphicData uri="http://schemas.openxmlformats.org/drawingml/2006/table">
            <a:tbl>
              <a:tblPr/>
              <a:tblGrid>
                <a:gridCol w="2262240"/>
                <a:gridCol w="1382400"/>
                <a:gridCol w="1384560"/>
                <a:gridCol w="2243160"/>
              </a:tblGrid>
              <a:tr h="828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ее значение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большее значение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ьшее значение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143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ме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125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2872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сихолого-педагог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143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уникатив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1292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е среднее зна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Заголовок 1" descr=""/>
          <p:cNvPicPr/>
          <p:nvPr/>
        </p:nvPicPr>
        <p:blipFill>
          <a:blip r:embed="rId2"/>
          <a:stretch/>
        </p:blipFill>
        <p:spPr>
          <a:xfrm>
            <a:off x="590400" y="1841400"/>
            <a:ext cx="8371080" cy="3834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Схема 3" descr=""/>
          <p:cNvPicPr/>
          <p:nvPr/>
        </p:nvPicPr>
        <p:blipFill>
          <a:blip r:embed="rId1"/>
          <a:stretch/>
        </p:blipFill>
        <p:spPr>
          <a:xfrm>
            <a:off x="1523880" y="1395360"/>
            <a:ext cx="7296120" cy="4194360"/>
          </a:xfrm>
          <a:prstGeom prst="rect">
            <a:avLst/>
          </a:prstGeom>
          <a:ln w="0">
            <a:noFill/>
          </a:ln>
        </p:spPr>
      </p:pic>
      <p:sp>
        <p:nvSpPr>
          <p:cNvPr id="535" name="Прямоугольник 4"/>
          <p:cNvSpPr/>
          <p:nvPr/>
        </p:nvSpPr>
        <p:spPr>
          <a:xfrm>
            <a:off x="2286000" y="260280"/>
            <a:ext cx="653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езультаты региональной диагностики учителей начальных классов по предметным компетенциям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547280" y="2130120"/>
            <a:ext cx="75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Результаты дефицитов                       региональной диагностики учителей начальных классов по предметным компетенциям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1258920" y="4724280"/>
            <a:ext cx="64087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8" name=""/>
          <p:cNvGraphicFramePr/>
          <p:nvPr/>
        </p:nvGraphicFramePr>
        <p:xfrm>
          <a:off x="108000" y="46080"/>
          <a:ext cx="8928000" cy="5348160"/>
        </p:xfrm>
        <a:graphic>
          <a:graphicData uri="http://schemas.openxmlformats.org/drawingml/2006/table">
            <a:tbl>
              <a:tblPr/>
              <a:tblGrid>
                <a:gridCol w="7272360"/>
                <a:gridCol w="1655640"/>
              </a:tblGrid>
              <a:tr h="456120"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етенции, знания, умения предметной области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математи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ее значение (%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1880"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обность осуществлять педагогическую деятельность в области преподавания математики на уровне начального общего образования на основе специальных научных знани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Знание типизации задач школьного курса математики и методов их решени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28240"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етенции, знания, умения  предметной области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русский язы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39760"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обность осуществлять педагогическую деятельность в области преподавания русского языка на уровне начального общего образования на основе специальных научных знани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ния о системе русского языка, ее реализации в речи; умение классифицировать языковые и речевые я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39760"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обность осуществлять педагогическую деятельность в области преподавания русского языка на уровне начального общего образования на основе специальных научных знани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ние норм русского литературного языка; умение оценивать соблюдение орфоэпических, грамматических, лексических норм русского языка в реч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28240"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етенции, знания, умения предметной области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математи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94840"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обность осуществлять педагогическую деятельность в области преподавания математики на уровне начального общего образования на основе специальных научных знаний: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ение применять математические знания к решению проблем, возникающих в реальной жиз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1240" marR="21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9" name=""/>
          <p:cNvGraphicFramePr/>
          <p:nvPr/>
        </p:nvGraphicFramePr>
        <p:xfrm>
          <a:off x="19080" y="5394240"/>
          <a:ext cx="9016920" cy="1378080"/>
        </p:xfrm>
        <a:graphic>
          <a:graphicData uri="http://schemas.openxmlformats.org/drawingml/2006/table">
            <a:tbl>
              <a:tblPr/>
              <a:tblGrid>
                <a:gridCol w="7419960"/>
                <a:gridCol w="1596960"/>
              </a:tblGrid>
              <a:tr h="238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етенции, знания, умения предметной области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русский язы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97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ладение предметными знаниями, умениями выявлены в части следующих компетенции осуществлять педагогическую деятельность в области преподавания русского языка на уровне начального общего образования на основе специальных научных знаний в части знаний о системе русского языка и ее подсистемах; умений характеризовать языковые единицы разных уровней языковой систем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Схема 2" descr=""/>
          <p:cNvPicPr/>
          <p:nvPr/>
        </p:nvPicPr>
        <p:blipFill>
          <a:blip r:embed="rId1"/>
          <a:stretch/>
        </p:blipFill>
        <p:spPr>
          <a:xfrm>
            <a:off x="1523880" y="115920"/>
            <a:ext cx="7467840" cy="2663640"/>
          </a:xfrm>
          <a:prstGeom prst="rect">
            <a:avLst/>
          </a:prstGeom>
          <a:ln w="0">
            <a:noFill/>
          </a:ln>
        </p:spPr>
      </p:pic>
      <p:pic>
        <p:nvPicPr>
          <p:cNvPr id="541" name="Схема 3" descr=""/>
          <p:cNvPicPr/>
          <p:nvPr/>
        </p:nvPicPr>
        <p:blipFill>
          <a:blip r:embed="rId2"/>
          <a:stretch/>
        </p:blipFill>
        <p:spPr>
          <a:xfrm>
            <a:off x="1573200" y="3840120"/>
            <a:ext cx="7461360" cy="2889360"/>
          </a:xfrm>
          <a:prstGeom prst="rect">
            <a:avLst/>
          </a:prstGeom>
          <a:ln w="0">
            <a:noFill/>
          </a:ln>
        </p:spPr>
      </p:pic>
      <p:pic>
        <p:nvPicPr>
          <p:cNvPr id="542" name="Схема 5" descr=""/>
          <p:cNvPicPr/>
          <p:nvPr/>
        </p:nvPicPr>
        <p:blipFill>
          <a:blip r:embed="rId3"/>
          <a:stretch/>
        </p:blipFill>
        <p:spPr>
          <a:xfrm>
            <a:off x="1579680" y="1865160"/>
            <a:ext cx="7467480" cy="2889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Схема 3" descr=""/>
          <p:cNvPicPr/>
          <p:nvPr/>
        </p:nvPicPr>
        <p:blipFill>
          <a:blip r:embed="rId1"/>
          <a:stretch/>
        </p:blipFill>
        <p:spPr>
          <a:xfrm>
            <a:off x="1523880" y="1395360"/>
            <a:ext cx="7296120" cy="4194360"/>
          </a:xfrm>
          <a:prstGeom prst="rect">
            <a:avLst/>
          </a:prstGeom>
          <a:ln w="0">
            <a:noFill/>
          </a:ln>
        </p:spPr>
      </p:pic>
      <p:sp>
        <p:nvSpPr>
          <p:cNvPr id="544" name="Прямоугольник 4"/>
          <p:cNvSpPr/>
          <p:nvPr/>
        </p:nvSpPr>
        <p:spPr>
          <a:xfrm>
            <a:off x="2286000" y="260280"/>
            <a:ext cx="653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езультаты региональной диагностики учителей начальных классов по методическим  компетенциям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"/>
          <p:cNvGraphicFramePr/>
          <p:nvPr/>
        </p:nvGraphicFramePr>
        <p:xfrm>
          <a:off x="214200" y="2276640"/>
          <a:ext cx="8929800" cy="1963440"/>
        </p:xfrm>
        <a:graphic>
          <a:graphicData uri="http://schemas.openxmlformats.org/drawingml/2006/table">
            <a:tbl>
              <a:tblPr/>
              <a:tblGrid>
                <a:gridCol w="7274160"/>
                <a:gridCol w="1655640"/>
              </a:tblGrid>
              <a:tr h="45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етенции, знания, умения предметной области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литературное чтени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ее значение (%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84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ение анализировать литературное произведение, определять уровень литературного развития младшего школьника и непосредственного восприятия самостоятельно прочитанного им художественного произведе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2,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етенции, знания, умения предметной области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математи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ладение необходимой методической подготовкой для организации образовательной деятельности учащихся в предметной области «математика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8,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46" name="Прямоугольник 4"/>
          <p:cNvSpPr/>
          <p:nvPr/>
        </p:nvSpPr>
        <p:spPr>
          <a:xfrm>
            <a:off x="2286000" y="260280"/>
            <a:ext cx="653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езультаты дефицитов региональной диагностики учителей начальных классов по методическим  компетенциям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Схема 2" descr=""/>
          <p:cNvPicPr/>
          <p:nvPr/>
        </p:nvPicPr>
        <p:blipFill>
          <a:blip r:embed="rId1"/>
          <a:stretch/>
        </p:blipFill>
        <p:spPr>
          <a:xfrm>
            <a:off x="1536840" y="115920"/>
            <a:ext cx="7441920" cy="2663640"/>
          </a:xfrm>
          <a:prstGeom prst="rect">
            <a:avLst/>
          </a:prstGeom>
          <a:ln w="0">
            <a:noFill/>
          </a:ln>
        </p:spPr>
      </p:pic>
      <p:pic>
        <p:nvPicPr>
          <p:cNvPr id="548" name="Схема 3" descr=""/>
          <p:cNvPicPr/>
          <p:nvPr/>
        </p:nvPicPr>
        <p:blipFill>
          <a:blip r:embed="rId2"/>
          <a:stretch/>
        </p:blipFill>
        <p:spPr>
          <a:xfrm>
            <a:off x="1584360" y="3840120"/>
            <a:ext cx="7437240" cy="2889360"/>
          </a:xfrm>
          <a:prstGeom prst="rect">
            <a:avLst/>
          </a:prstGeom>
          <a:ln w="0">
            <a:noFill/>
          </a:ln>
        </p:spPr>
      </p:pic>
      <p:pic>
        <p:nvPicPr>
          <p:cNvPr id="549" name="Схема 5" descr=""/>
          <p:cNvPicPr/>
          <p:nvPr/>
        </p:nvPicPr>
        <p:blipFill>
          <a:blip r:embed="rId3"/>
          <a:stretch/>
        </p:blipFill>
        <p:spPr>
          <a:xfrm>
            <a:off x="1590840" y="1865160"/>
            <a:ext cx="7443720" cy="2889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Схема 3" descr=""/>
          <p:cNvPicPr/>
          <p:nvPr/>
        </p:nvPicPr>
        <p:blipFill>
          <a:blip r:embed="rId1"/>
          <a:stretch/>
        </p:blipFill>
        <p:spPr>
          <a:xfrm>
            <a:off x="1523880" y="1395360"/>
            <a:ext cx="7296120" cy="4194360"/>
          </a:xfrm>
          <a:prstGeom prst="rect">
            <a:avLst/>
          </a:prstGeom>
          <a:ln w="0">
            <a:noFill/>
          </a:ln>
        </p:spPr>
      </p:pic>
      <p:sp>
        <p:nvSpPr>
          <p:cNvPr id="551" name="Прямоугольник 4"/>
          <p:cNvSpPr/>
          <p:nvPr/>
        </p:nvSpPr>
        <p:spPr>
          <a:xfrm>
            <a:off x="1355760" y="18900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езультаты региональной диагностики учителей начальных классов по психолого-педагогическим компетенциям  компетенциям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bomder@dnevnik.ru</cp:lastModifiedBy>
  <dcterms:modified xsi:type="dcterms:W3CDTF">2023-08-27T11:55:50Z</dcterms:modified>
  <cp:revision>140</cp:revision>
  <dc:subject/>
  <dc:title>Слайд 1</dc:title>
</cp:coreProperties>
</file>