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46" descr="konf_web20_znak1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3"/>
          <p:cNvSpPr/>
          <p:nvPr/>
        </p:nvSpPr>
        <p:spPr>
          <a:xfrm flipV="1">
            <a:off x="0" y="2780280"/>
            <a:ext cx="914400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4038480" y="5691240"/>
            <a:ext cx="1079640" cy="633240"/>
            <a:chOff x="4038480" y="5691240"/>
            <a:chExt cx="1079640" cy="633240"/>
          </a:xfrm>
        </p:grpSpPr>
        <p:sp>
          <p:nvSpPr>
            <p:cNvPr id="43" name="Text Box 14"/>
            <p:cNvSpPr/>
            <p:nvPr/>
          </p:nvSpPr>
          <p:spPr>
            <a:xfrm>
              <a:off x="4038480" y="58672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54" descr="konf_web20_znak1"/>
          <p:cNvPicPr/>
          <p:nvPr/>
        </p:nvPicPr>
        <p:blipFill>
          <a:blip r:embed="rId3"/>
          <a:stretch/>
        </p:blipFill>
        <p:spPr>
          <a:xfrm>
            <a:off x="4140360" y="5877000"/>
            <a:ext cx="846000" cy="84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Cambria"/>
              </a:rPr>
              <a:t>«Использование результатов ЕГЭ и ОГЭ в повышении качества образования по информатике и ИКТ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867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20 сентября 2016 го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МО учителей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Результаты ЕГЭ-2016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557360"/>
          <a:ext cx="7632720" cy="4772160"/>
        </p:xfrm>
        <a:graphic>
          <a:graphicData uri="http://schemas.openxmlformats.org/drawingml/2006/table">
            <a:tbl>
              <a:tblPr/>
              <a:tblGrid>
                <a:gridCol w="3224160"/>
                <a:gridCol w="1415880"/>
                <a:gridCol w="1735200"/>
                <a:gridCol w="1257480"/>
              </a:tblGrid>
              <a:tr h="1061640">
                <a:tc>
                  <a:txBody>
                    <a:bodyPr lIns="68760" rIns="68760" tIns="936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ебный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рбитское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ердлов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71100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профильн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базов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7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50004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нформа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нглий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щество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  <a:tr h="360360">
                <a:tc>
                  <a:txBody>
                    <a:bodyPr lIns="68760" rIns="68760" tIns="936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нализ результатов государственной итоговой аттест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пускников 9-х классов по информатик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.1. Характеристика контрольных измеритель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асть 1 экзаменационной работы содержит 11 заданий базового уровня сложности и 7 заданий повышенного уровня сл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асть 2 содержит 2 задания высокого уровня сл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дполагаемый результат выполнения заданий базового уровня сложности – 60–90%; заданий повышенного уровня – 40–60%; заданий высокого уровня – менее 4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спределение заданий экзаменационной работы по уровням сложно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1557360"/>
          <a:ext cx="8353440" cy="3862440"/>
        </p:xfrm>
        <a:graphic>
          <a:graphicData uri="http://schemas.openxmlformats.org/drawingml/2006/table">
            <a:tbl>
              <a:tblPr/>
              <a:tblGrid>
                <a:gridCol w="1873080"/>
                <a:gridCol w="1511640"/>
                <a:gridCol w="1800000"/>
                <a:gridCol w="3168720"/>
              </a:tblGrid>
              <a:tr h="196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ровень сл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ксим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вичны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цент максимального первичного балла за выполнение заданий данного уровня сложности от максимального первичного балла за всю работу, равного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а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218960"/>
            <a:ext cx="82296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.2. Общая характеристика участников ГИА по информатике и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нализ результатов государственной итоговой аттест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пускников 9-х классов по информатик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7040" y="3068640"/>
          <a:ext cx="8064360" cy="2016000"/>
        </p:xfrm>
        <a:graphic>
          <a:graphicData uri="http://schemas.openxmlformats.org/drawingml/2006/table">
            <a:tbl>
              <a:tblPr/>
              <a:tblGrid>
                <a:gridCol w="2017800"/>
                <a:gridCol w="1544400"/>
                <a:gridCol w="1845000"/>
                <a:gridCol w="2657160"/>
              </a:tblGrid>
              <a:tr h="146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регистриров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 экзамен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явилось на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вило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приступ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 выполнению части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8a4"/>
                    </a:solidFill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52560" y="2392920"/>
            <a:ext cx="85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Сведения об участниках ГИА по информатике и ИКТ 201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2133720"/>
          <a:ext cx="7993080" cy="64764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8-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e4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d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d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d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dd0"/>
                    </a:solidFill>
                  </a:tcPr>
                </a:tc>
              </a:tr>
            </a:tbl>
          </a:graphicData>
        </a:graphic>
      </p:graphicFrame>
      <p:sp>
        <p:nvSpPr>
          <p:cNvPr id="122" name="Rectangle 1"/>
          <p:cNvSpPr/>
          <p:nvPr/>
        </p:nvSpPr>
        <p:spPr>
          <a:xfrm>
            <a:off x="539640" y="114408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Шкала пересчета первичного балла за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экзаменационной работы в отметку по пятибалльной ш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35280" y="4076640"/>
          <a:ext cx="5562360" cy="1893960"/>
        </p:xfrm>
        <a:graphic>
          <a:graphicData uri="http://schemas.openxmlformats.org/drawingml/2006/table">
            <a:tbl>
              <a:tblPr/>
              <a:tblGrid>
                <a:gridCol w="1757160"/>
                <a:gridCol w="1811520"/>
                <a:gridCol w="199368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ичество выпуск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цент выпуск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324000" y="3140640"/>
            <a:ext cx="86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libri"/>
              </a:rPr>
              <a:t>Результаты государственной итоговой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libri"/>
              </a:rPr>
              <a:t>по информатике и ИКТ 201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ерсональные результаты государственной итоговой аттестации по информатике и ИКТ 2016 год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Таблица 3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723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77788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держание заданий части 1 экзаменационной работы и результаты их выполнения в 2016 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341360"/>
          <a:ext cx="8569080" cy="5361120"/>
        </p:xfrm>
        <a:graphic>
          <a:graphicData uri="http://schemas.openxmlformats.org/drawingml/2006/table">
            <a:tbl>
              <a:tblPr/>
              <a:tblGrid>
                <a:gridCol w="460080"/>
                <a:gridCol w="4934160"/>
                <a:gridCol w="1744560"/>
                <a:gridCol w="1430280"/>
              </a:tblGrid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ровень сложности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% правильных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оценивать количественные параметры информационных о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определять значение логического вы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анализировать формальные описания реальных объектов и проце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30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нание о файловой системе организации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представлять формульную зависимость в графическом ви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исполнить алгоритм для конкретного исполнителя с фиксированным набором кома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30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кодировать и декодировать информ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исполнить линейный алгоритм, записанный на алгоритмическом язы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59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исполнить простейший циклический алгоритм, записанный на алгоритмическом язы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держание заданий части 1 экзаменационной работы и результаты их выполнения в 2016 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341360"/>
          <a:ext cx="8569080" cy="5062680"/>
        </p:xfrm>
        <a:graphic>
          <a:graphicData uri="http://schemas.openxmlformats.org/drawingml/2006/table">
            <a:tbl>
              <a:tblPr/>
              <a:tblGrid>
                <a:gridCol w="460080"/>
                <a:gridCol w="4934160"/>
                <a:gridCol w="1744560"/>
                <a:gridCol w="1430280"/>
              </a:tblGrid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ровень сложности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% правильных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исполнить циклический алгоритм обработки массива чисел, записанный на алгоритмическом язы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анализировать информацию, представленную в виде сх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осуществлять поиск в готовой базе данных по сформулированному услов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Знание о дискретной форме представления числовой, текстовой, графической и звуков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записать простой линейный алгоритм для формального исполн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определять скорость передачи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исполнить алгоритм, записанный на естественном языке, обрабатывающий цепочки символов или спи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использовать информационно-коммуникационны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мение осуществлять поиск информации в Интерн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469800" y="328680"/>
            <a:ext cx="80647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468360" y="1268280"/>
            <a:ext cx="84963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Cambria"/>
              </a:rPr>
              <a:t>Образование – величайшее из земных благ, если оно наивысшего ка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Cambria"/>
              </a:rPr>
              <a:t>В противном случае оно совершенно бесполез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Редьярд Кипл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User 7\Documents\My Bluetooth\sm_full.png"/>
          <p:cNvPicPr/>
          <p:nvPr/>
        </p:nvPicPr>
        <p:blipFill>
          <a:blip r:embed="rId1"/>
          <a:stretch/>
        </p:blipFill>
        <p:spPr>
          <a:xfrm>
            <a:off x="2268360" y="2684520"/>
            <a:ext cx="38880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одержание заданий части 2 экзаменационной рабо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и результаты их выполнения в 2016 год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84280"/>
          <a:ext cx="8209080" cy="4506840"/>
        </p:xfrm>
        <a:graphic>
          <a:graphicData uri="http://schemas.openxmlformats.org/drawingml/2006/table">
            <a:tbl>
              <a:tblPr/>
              <a:tblGrid>
                <a:gridCol w="1476360"/>
                <a:gridCol w="4011480"/>
                <a:gridCol w="1476360"/>
                <a:gridCol w="1244880"/>
              </a:tblGrid>
              <a:tr h="11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адания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одержа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луч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а кри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ави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</a:tr>
              <a:tr h="3510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проводить обработку большого массива данных с использованием средств электронной таблицы или базы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76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3510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написать короткий алгоритм в среде формального исполнителя (вариант задания 20.1) или на языке программирования (вариант задания 20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7cf"/>
                    </a:solidFill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3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  <a:ea typeface="Calibri"/>
              </a:rPr>
              <a:t>Указания по оцениванию задания 19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4680" y="1844640"/>
          <a:ext cx="8474040" cy="3313080"/>
        </p:xfrm>
        <a:graphic>
          <a:graphicData uri="http://schemas.openxmlformats.org/drawingml/2006/table">
            <a:tbl>
              <a:tblPr/>
              <a:tblGrid>
                <a:gridCol w="7369200"/>
                <a:gridCol w="1104840"/>
              </a:tblGrid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казания по оцени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169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учены правильные ответы на оба вопроса. Допустима запись ответа в другие ячейки (отличные от тех, которые указаны в задании) при условии правильности полученных ответов. Допустима запись ответов с большей точ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учен правильный ответ только на один из двух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ильные ответы не получены ни на один из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ксималь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Calibri"/>
              </a:rPr>
              <a:t>Указания по оцениванию задания 20.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4680" y="1844640"/>
          <a:ext cx="8474040" cy="3159000"/>
        </p:xfrm>
        <a:graphic>
          <a:graphicData uri="http://schemas.openxmlformats.org/drawingml/2006/table">
            <a:tbl>
              <a:tblPr/>
              <a:tblGrid>
                <a:gridCol w="7369200"/>
                <a:gridCol w="110484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казания по оцени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Алгоритм правильно работает при всех допустимых исходных да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ри всех допустимых исходных данных верно следующе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) выполнение алгоритма завершается, и при этом Робот не разбиваетс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) закрашено не более 10 лишних клет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3) остались незакрашенными не более 10 клеток из числа тех, которые должны были быть закраш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Задание выполнено неверно, то есть не выполнены условия, позволяющие поставить 1 или 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ксималь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Calibri"/>
              </a:rPr>
              <a:t>Указания по оцениванию задания 20.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4680" y="1844640"/>
          <a:ext cx="8474040" cy="3962520"/>
        </p:xfrm>
        <a:graphic>
          <a:graphicData uri="http://schemas.openxmlformats.org/drawingml/2006/table">
            <a:tbl>
              <a:tblPr/>
              <a:tblGrid>
                <a:gridCol w="7369200"/>
                <a:gridCol w="1104840"/>
              </a:tblGrid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казания по оцени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редложено верное решение. Программа правильно работает на всех приведённых выше тес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рограмма может быть записана на любом языке программ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рограмма выдаёт неверный ответ на одном из тестов, приведённых выше. Например, решение, в котором не задано условие отбора чисе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TimesNewRomanPSMT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TimesNewRomanPSMT"/>
                        </a:rPr>
                        <a:t>a mo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TimesNewRomanPSMT"/>
                        </a:rPr>
                        <a:t> 3 = 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ыдаст неправильный ответ на тесте №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рограмма выдаёт на тестах неверные ответы, отличные от описанных в критерии на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ксималь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6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983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Рисунок 3" descr=""/>
          <p:cNvPicPr/>
          <p:nvPr/>
        </p:nvPicPr>
        <p:blipFill>
          <a:blip r:embed="rId1"/>
          <a:stretch/>
        </p:blipFill>
        <p:spPr>
          <a:xfrm>
            <a:off x="255600" y="1413000"/>
            <a:ext cx="8637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82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69800" y="1457280"/>
            <a:ext cx="788220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Схема 1" descr=""/>
          <p:cNvPicPr/>
          <p:nvPr/>
        </p:nvPicPr>
        <p:blipFill>
          <a:blip r:embed="rId2"/>
          <a:stretch/>
        </p:blipFill>
        <p:spPr>
          <a:xfrm>
            <a:off x="1474920" y="2189160"/>
            <a:ext cx="60958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1"/>
          <p:cNvSpPr/>
          <p:nvPr/>
        </p:nvSpPr>
        <p:spPr>
          <a:xfrm>
            <a:off x="3840120" y="1700280"/>
            <a:ext cx="5124600" cy="4897440"/>
          </a:xfrm>
          <a:prstGeom prst="roundRect">
            <a:avLst>
              <a:gd name="adj" fmla="val 84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39760" y="1775880"/>
            <a:ext cx="5124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Ольга Васильева имеет три высших образования, проработала более 10 лет в центре истории религии и церкви Института российской истории РАН, преподаватель Сретенской духовной семинарии с 2003 года, входит в научный совет по теологии, аттестующий кандидатов и докторов богословия, несколько лет проработала в администрации президен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Ольга Васильева была в числе тех, кто занимался подготовкой Концепции патриотического воспитания молодежи России, вышедшей в свет в конце 2015 года, о которой ЦНПМИ уже писал (о новой Стратегии патриотического воспитания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22504" t="0" r="27851" b="34964"/>
          <a:stretch/>
        </p:blipFill>
        <p:spPr>
          <a:xfrm>
            <a:off x="114480" y="76320"/>
            <a:ext cx="1649160" cy="14810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603360" y="1463760"/>
            <a:ext cx="8364600" cy="12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User 7\Documents\My Bluetooth\160826041316_original_ Vasileva.jpg"/>
          <p:cNvPicPr/>
          <p:nvPr/>
        </p:nvPicPr>
        <p:blipFill>
          <a:blip r:embed="rId3"/>
          <a:stretch/>
        </p:blipFill>
        <p:spPr>
          <a:xfrm>
            <a:off x="250920" y="1776240"/>
            <a:ext cx="3457440" cy="249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User 7\Documents\My Bluetooth\Screenshot_2016-08-29-21-49-05.png"/>
          <p:cNvPicPr/>
          <p:nvPr/>
        </p:nvPicPr>
        <p:blipFill>
          <a:blip r:embed="rId4"/>
          <a:srcRect l="0" t="15056" r="45113" b="77304"/>
          <a:stretch/>
        </p:blipFill>
        <p:spPr>
          <a:xfrm>
            <a:off x="2028960" y="363600"/>
            <a:ext cx="4870440" cy="9046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160200" y="4289400"/>
            <a:ext cx="36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Cambria"/>
              </a:rPr>
              <a:t>Ольга Василь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11"/>
          <p:cNvSpPr/>
          <p:nvPr/>
        </p:nvSpPr>
        <p:spPr>
          <a:xfrm>
            <a:off x="250920" y="1700280"/>
            <a:ext cx="8569080" cy="4537080"/>
          </a:xfrm>
          <a:prstGeom prst="roundRect">
            <a:avLst>
              <a:gd name="adj" fmla="val 8866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871560" y="1182600"/>
            <a:ext cx="8272440" cy="120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280" y="2421000"/>
            <a:ext cx="8209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зависимая оценка качества образования направлена на получение сведений об образовательной деятельности, о качестве подготовки обучающихся и реализации образовате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2. Независимая оценка качества образования включает в себ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зависимую оценку качества подготовки обучаю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зависимую оценку качества образовательной деятельности организаций, осуществляющих образовательную деятель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rcRect l="22504" t="0" r="27851" b="34964"/>
          <a:stretch/>
        </p:blipFill>
        <p:spPr>
          <a:xfrm>
            <a:off x="0" y="1041480"/>
            <a:ext cx="1409760" cy="12650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ая соединительная линия 5" descr=""/>
          <p:cNvPicPr/>
          <p:nvPr/>
        </p:nvPicPr>
        <p:blipFill>
          <a:blip r:embed="rId3"/>
          <a:stretch/>
        </p:blipFill>
        <p:spPr>
          <a:xfrm>
            <a:off x="463680" y="2328840"/>
            <a:ext cx="836280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 7\Documents\My Bluetooth\c721928e35cfee3d8627f254136eb588.jpg"/>
          <p:cNvPicPr/>
          <p:nvPr/>
        </p:nvPicPr>
        <p:blipFill>
          <a:blip r:embed="rId1"/>
          <a:stretch/>
        </p:blipFill>
        <p:spPr>
          <a:xfrm>
            <a:off x="468360" y="1224000"/>
            <a:ext cx="3875040" cy="548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User 7\Documents\My Bluetooth\c721928e35cfee3d8627f254136eb588.jpg"/>
          <p:cNvPicPr/>
          <p:nvPr/>
        </p:nvPicPr>
        <p:blipFill>
          <a:blip r:embed="rId2"/>
          <a:srcRect l="70247" t="90317" r="3405" b="1733"/>
          <a:stretch/>
        </p:blipFill>
        <p:spPr>
          <a:xfrm>
            <a:off x="4788000" y="2060640"/>
            <a:ext cx="4011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езультаты ЕГЭ по информатике и ИКТ в Ирбитском МО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413000"/>
          <a:ext cx="8569080" cy="4457520"/>
        </p:xfrm>
        <a:graphic>
          <a:graphicData uri="http://schemas.openxmlformats.org/drawingml/2006/table">
            <a:tbl>
              <a:tblPr/>
              <a:tblGrid>
                <a:gridCol w="1427040"/>
                <a:gridCol w="1252440"/>
                <a:gridCol w="639720"/>
                <a:gridCol w="639720"/>
                <a:gridCol w="514440"/>
                <a:gridCol w="514440"/>
                <a:gridCol w="766800"/>
                <a:gridCol w="1150920"/>
                <a:gridCol w="895320"/>
                <a:gridCol w="768240"/>
              </a:tblGrid>
              <a:tr h="144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рбитское М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выпускников, участвовавших в ЕГ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сдавших                                   чел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не сдавших                                   чел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ax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редний балл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min 4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ысокобалльники          (81 б.)  чел.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0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 grid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принимали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2,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,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6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8,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,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Общая характеристика КИМ по информатике в 2016 году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кзаменационная работа содержала 27 задания и состояла из двух частей. В каждой из частей были сгруппированы задания одного ти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щее время, отводимое на выполнение работы составляло 3 часа 5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менения в ЕГЭ по информатике в 20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кратилось общее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личество заданий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с 32  д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7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;  соответственно,  уменьшилось с 40  д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5  максимальное количество первичных баллов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менилась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ледова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квозная нумерация от 1 до 27 (исчезли обозначения групп А, В и 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езультаты ЕГЭ по информатике и ИКТ в Ирбитском МО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413000"/>
          <a:ext cx="8569080" cy="4457520"/>
        </p:xfrm>
        <a:graphic>
          <a:graphicData uri="http://schemas.openxmlformats.org/drawingml/2006/table">
            <a:tbl>
              <a:tblPr/>
              <a:tblGrid>
                <a:gridCol w="1427040"/>
                <a:gridCol w="1252440"/>
                <a:gridCol w="639720"/>
                <a:gridCol w="639720"/>
                <a:gridCol w="514440"/>
                <a:gridCol w="514440"/>
                <a:gridCol w="766800"/>
                <a:gridCol w="1150920"/>
                <a:gridCol w="895320"/>
                <a:gridCol w="768240"/>
              </a:tblGrid>
              <a:tr h="144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рбитское М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выпускников, участвовавших в ЕГ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сдавших                                   чел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-во не сдавших                                   чел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ax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редний балл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min 4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ысокобалльники          (81 б.)  чел. /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99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0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 grid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принимали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2,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,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6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8,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1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ba4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,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43:35Z</dcterms:created>
  <dc:creator>TP</dc:creator>
  <dc:description/>
  <dc:language>en-US</dc:language>
  <cp:lastModifiedBy>User 7</cp:lastModifiedBy>
  <dcterms:modified xsi:type="dcterms:W3CDTF">2016-09-19T20:58:47Z</dcterms:modified>
  <cp:revision>37</cp:revision>
  <dc:subject/>
  <dc:title>Что такое Web 2.0 ?</dc:title>
</cp:coreProperties>
</file>