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197B-2DFF-4BF5-AE46-9BD66C4C5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A2F3-32D3-4D17-90E4-6A34AE8F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AD0D-4298-4DE0-B395-EB57327CD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E7BF-E568-4F56-8546-C23E35C6C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54D7-7529-4DEC-8A00-21003D94B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E49E-4C82-4230-BAA3-56000393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EDFC-235B-46E3-8610-0F14A378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471A-0F7F-4E40-82A5-16307CD3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98B7-AAD5-4317-B396-3C920B59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4B9E-38E0-4163-968C-6D48DE0E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6685-3676-487D-BAF7-ACB8BF01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23E0-8FA8-479F-BF12-59CAF2E1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065D-B07F-4344-96CE-60F8BD13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C21B9-1E7F-4D78-A7B5-8B438A54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00924-1B48-4333-98FD-E59855F4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5B18-9735-402F-8020-D375B3E90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B124-83F9-49BD-A850-928398B25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EA83C-32BF-467F-A626-7D45D8796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C1980-54B3-4339-AFA3-80E13693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AAC32-2765-4B95-B601-D57D8D2F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A2CC6-AB22-4FBC-ABE3-8CEB1E45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9AF11-99C9-427C-8714-11DEE1FC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44D8-6E86-4D29-91BC-AFA4B3E5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8B3A2-0823-4F98-B209-517857A7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A3DF5-C2F8-4FAA-A9BA-7188938A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EF8C0-C07A-4E7F-BA13-9E87DABF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54FBB-CED6-499B-AE57-4487A6C9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CFBC7-51E3-4759-9E3E-DFBB6634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FEAC1-AF8E-4D3C-9958-25C891E90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7C2FE-4AF6-4B55-A861-287BC7C1F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B6CC-2876-43A1-88CB-63403DE0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91AB-A5BE-4B9C-8BE6-43CA49C4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60F3-0FB6-4A36-9317-95374E71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A8B2-C9F6-4186-9A3E-16A69C5A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5C0D-EE8F-44E2-9B28-32800D88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5964-9AD8-44EA-ACF0-6B496A54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6079-6666-49FD-B913-26113A25A0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A3E5-238C-44E5-A8A1-279143801B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4B5B-BAB9-444E-83B9-AB0ADEFDF3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полнитель Роб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И, обстан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пользовать Роб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л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· впра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· вн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· вле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· ввер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· закрас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манды циклических алгорит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ц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число повторений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· тело цикла (последовательность коман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ц п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сло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· тело цикла (последовательность коман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ц для i от i1 до i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· тело цикла (последовательность коман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2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дача 1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оле Робота нет стен и закрашенных клеток. Сколько клеток будет закрашено после выполнения следующих коман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Задача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94376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тя составил алгоритм, а Коля стер в нем одну команд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лг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рогул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н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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поле Робота стен 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ад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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Робот погулял и вернулся в исходное пол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ер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пра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???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вн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вле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ле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ую команду стер Кол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Задача 5 -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тя составил алгоритм, при выполнении которого Робот вернулся в исходное положение. Коля стер одну из команд. При выполнении Колиного алгоритма Робот также вернулся в исходное положение. Какую команду стер Кол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5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тя составил алгоритм, переводящий Робота из клетки А в клетку Б с закрашиванием каких-то клеток. Что должен сделать Коля с этим алгоритмом, чтобы получить алгоритм, переводящий Робота из Б в А и закрашивающий те же кл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47600" y="42840"/>
            <a:ext cx="7772400" cy="19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икл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042920" y="1989000"/>
            <a:ext cx="72295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ется, когда некоторую последовательность команд нужно выполнить несколько раз подря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ц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исло повторен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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исло повторен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цело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мер использования ци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844280"/>
            <a:ext cx="820728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лг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диагон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ан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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поле Робота стен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д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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обот закрасил 4 клетки по диагон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ц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3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закрасить; вправо; вниз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ц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рас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780000" y="4581360"/>
          <a:ext cx="4964040" cy="1789200"/>
        </p:xfrm>
        <a:graphic>
          <a:graphicData uri="http://schemas.openxmlformats.org/drawingml/2006/table">
            <a:tbl>
              <a:tblPr/>
              <a:tblGrid>
                <a:gridCol w="442800"/>
                <a:gridCol w="460440"/>
                <a:gridCol w="450720"/>
                <a:gridCol w="450720"/>
                <a:gridCol w="451080"/>
                <a:gridCol w="450720"/>
                <a:gridCol w="450720"/>
                <a:gridCol w="451080"/>
                <a:gridCol w="450720"/>
                <a:gridCol w="452520"/>
                <a:gridCol w="452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980720"/>
            <a:ext cx="766116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лг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лабири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ан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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бот в клетке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д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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бот в клетке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1" lang="ru-RU" sz="2400" spc="-1" strike="noStrike" u="sng">
                <a:solidFill>
                  <a:srgbClr val="008000"/>
                </a:solidFill>
                <a:uFillTx/>
                <a:latin typeface="Arial"/>
              </a:rPr>
              <a:t>нц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 5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|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ерх; вверх; ввер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|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пра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|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вниз; вниз; в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|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впра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1" lang="ru-RU" sz="2400" spc="-1" strike="noStrike" u="sng">
                <a:solidFill>
                  <a:srgbClr val="008000"/>
                </a:solidFill>
                <a:uFillTx/>
                <a:latin typeface="Arial"/>
              </a:rPr>
              <a:t>кц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780000" y="4581360"/>
          <a:ext cx="4964040" cy="1789200"/>
        </p:xfrm>
        <a:graphic>
          <a:graphicData uri="http://schemas.openxmlformats.org/drawingml/2006/table">
            <a:tbl>
              <a:tblPr/>
              <a:tblGrid>
                <a:gridCol w="442800"/>
                <a:gridCol w="460440"/>
                <a:gridCol w="450720"/>
                <a:gridCol w="450720"/>
                <a:gridCol w="451080"/>
                <a:gridCol w="450720"/>
                <a:gridCol w="450720"/>
                <a:gridCol w="451080"/>
                <a:gridCol w="450720"/>
                <a:gridCol w="452520"/>
                <a:gridCol w="452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Line 205"/>
          <p:cNvSpPr/>
          <p:nvPr/>
        </p:nvSpPr>
        <p:spPr>
          <a:xfrm flipV="1">
            <a:off x="4067280" y="4868640"/>
            <a:ext cx="0" cy="143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06"/>
          <p:cNvSpPr/>
          <p:nvPr/>
        </p:nvSpPr>
        <p:spPr>
          <a:xfrm>
            <a:off x="4067280" y="4869000"/>
            <a:ext cx="36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07"/>
          <p:cNvSpPr/>
          <p:nvPr/>
        </p:nvSpPr>
        <p:spPr>
          <a:xfrm>
            <a:off x="4427640" y="4869000"/>
            <a:ext cx="0" cy="13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08"/>
          <p:cNvSpPr/>
          <p:nvPr/>
        </p:nvSpPr>
        <p:spPr>
          <a:xfrm>
            <a:off x="4427640" y="6237360"/>
            <a:ext cx="504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рисуем треуголь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49320" y="1773360"/>
            <a:ext cx="39830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лг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треуго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1" lang="ru-RU" sz="2000" spc="-1" strike="noStrike" u="sng">
                <a:solidFill>
                  <a:srgbClr val="008000"/>
                </a:solidFill>
                <a:uFillTx/>
                <a:latin typeface="Arial"/>
              </a:rPr>
              <a:t>нц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4 р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|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пра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1" lang="ru-RU" sz="2000" spc="-1" strike="noStrike" u="sng">
                <a:solidFill>
                  <a:srgbClr val="008000"/>
                </a:solidFill>
                <a:uFillTx/>
                <a:latin typeface="Arial"/>
              </a:rPr>
              <a:t>кц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1" lang="ru-RU" sz="2000" spc="-1" strike="noStrike" u="sng">
                <a:solidFill>
                  <a:srgbClr val="008000"/>
                </a:solidFill>
                <a:uFillTx/>
                <a:latin typeface="Arial"/>
              </a:rPr>
              <a:t>нц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4 р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|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красить; вправо; вн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1" lang="ru-RU" sz="2000" spc="-1" strike="noStrike" u="sng">
                <a:solidFill>
                  <a:srgbClr val="008000"/>
                </a:solidFill>
                <a:uFillTx/>
                <a:latin typeface="Arial"/>
              </a:rPr>
              <a:t>кц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1" lang="ru-RU" sz="2000" spc="-1" strike="noStrike" u="sng">
                <a:solidFill>
                  <a:srgbClr val="008000"/>
                </a:solidFill>
                <a:uFillTx/>
                <a:latin typeface="Arial"/>
              </a:rPr>
              <a:t>нц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8 р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|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красить; вле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1" lang="ru-RU" sz="2000" spc="-1" strike="noStrike" u="sng">
                <a:solidFill>
                  <a:srgbClr val="008000"/>
                </a:solidFill>
                <a:uFillTx/>
                <a:latin typeface="Arial"/>
              </a:rPr>
              <a:t>к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1" lang="ru-RU" sz="2000" spc="-1" strike="noStrike" u="sng">
                <a:solidFill>
                  <a:srgbClr val="008000"/>
                </a:solidFill>
                <a:uFillTx/>
                <a:latin typeface="Arial"/>
              </a:rPr>
              <a:t>нц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4 р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|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красить; вправо; ввер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1" lang="ru-RU" sz="2000" spc="-1" strike="noStrike" u="sng">
                <a:solidFill>
                  <a:srgbClr val="008000"/>
                </a:solidFill>
                <a:uFillTx/>
                <a:latin typeface="Arial"/>
              </a:rPr>
              <a:t>к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932360" y="1916280"/>
          <a:ext cx="3816360" cy="2592360"/>
        </p:xfrm>
        <a:graphic>
          <a:graphicData uri="http://schemas.openxmlformats.org/drawingml/2006/table">
            <a:tbl>
              <a:tblPr/>
              <a:tblGrid>
                <a:gridCol w="376200"/>
                <a:gridCol w="387360"/>
                <a:gridCol w="382680"/>
                <a:gridCol w="380880"/>
                <a:gridCol w="382680"/>
                <a:gridCol w="380880"/>
                <a:gridCol w="382680"/>
                <a:gridCol w="380880"/>
                <a:gridCol w="382680"/>
                <a:gridCol w="37944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2916360" y="1557360"/>
          <a:ext cx="5862600" cy="1768320"/>
        </p:xfrm>
        <a:graphic>
          <a:graphicData uri="http://schemas.openxmlformats.org/drawingml/2006/table">
            <a:tbl>
              <a:tblPr/>
              <a:tblGrid>
                <a:gridCol w="442800"/>
                <a:gridCol w="460440"/>
                <a:gridCol w="450720"/>
                <a:gridCol w="451080"/>
                <a:gridCol w="450720"/>
                <a:gridCol w="450720"/>
                <a:gridCol w="451080"/>
                <a:gridCol w="450720"/>
                <a:gridCol w="450720"/>
                <a:gridCol w="451080"/>
                <a:gridCol w="450720"/>
                <a:gridCol w="450720"/>
                <a:gridCol w="451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ще один прим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55280" y="2205000"/>
            <a:ext cx="49179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лг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ц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3 ра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право; 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низ; закрасит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низ; 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лево; вверх; 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право; вправо; 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прав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прав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е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06"/>
          <p:cNvSpPr/>
          <p:nvPr/>
        </p:nvSpPr>
        <p:spPr>
          <a:xfrm>
            <a:off x="5651640" y="3500280"/>
            <a:ext cx="360360" cy="1873440"/>
          </a:xfrm>
          <a:custGeom>
            <a:avLst/>
            <a:gdLst>
              <a:gd name="textAreaLeft" fmla="*/ 0 w 360360"/>
              <a:gd name="textAreaRight" fmla="*/ 129960 w 360360"/>
              <a:gd name="textAreaTop" fmla="*/ 48600 h 1873440"/>
              <a:gd name="textAreaBottom" fmla="*/ 1824840 h 18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7"/>
          <p:cNvSpPr/>
          <p:nvPr/>
        </p:nvSpPr>
        <p:spPr>
          <a:xfrm>
            <a:off x="6156360" y="4221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рисуем плю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08"/>
          <p:cNvSpPr/>
          <p:nvPr/>
        </p:nvSpPr>
        <p:spPr>
          <a:xfrm>
            <a:off x="6154560" y="5164200"/>
            <a:ext cx="18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переходим к следующ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09"/>
          <p:cNvSpPr/>
          <p:nvPr/>
        </p:nvSpPr>
        <p:spPr>
          <a:xfrm>
            <a:off x="5651640" y="5373720"/>
            <a:ext cx="287280" cy="360360"/>
          </a:xfrm>
          <a:custGeom>
            <a:avLst/>
            <a:gdLst>
              <a:gd name="textAreaLeft" fmla="*/ 0 w 287280"/>
              <a:gd name="textAreaRight" fmla="*/ 103680 w 28728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становка Ро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нитель Робот существует в некоторой обстановке — прямоугольном поле, разби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клетки, между которыми могут стоять сте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бот может передвигаться по полю, закрашивать кле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думать 2 фигуры и запрограммировать их рисование Роботом с использованием цикл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аз (проверить в программе и перенести в тетра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31680" y="54936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бот находится в левом верхнем углу поля. Составить алгоритм, закрашивающий данные клетки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11"/>
          <p:cNvPicPr/>
          <p:nvPr/>
        </p:nvPicPr>
        <p:blipFill>
          <a:blip r:embed="rId1"/>
          <a:stretch/>
        </p:blipFill>
        <p:spPr>
          <a:xfrm>
            <a:off x="1351080" y="1981080"/>
            <a:ext cx="6856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31680" y="312840"/>
            <a:ext cx="715788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бот находится в левом верхнем углу поля. Составить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лгоритм, закрашивающий данные кле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01"/>
          <p:cNvPicPr/>
          <p:nvPr/>
        </p:nvPicPr>
        <p:blipFill>
          <a:blip r:embed="rId1"/>
          <a:stretch/>
        </p:blipFill>
        <p:spPr>
          <a:xfrm>
            <a:off x="1351080" y="1981080"/>
            <a:ext cx="6856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31680" y="475920"/>
            <a:ext cx="715788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ить алгоритм перемещения робота по лабиринту из положения А в положение 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949320" y="2276640"/>
          <a:ext cx="6583320" cy="1407960"/>
        </p:xfrm>
        <a:graphic>
          <a:graphicData uri="http://schemas.openxmlformats.org/drawingml/2006/table">
            <a:tbl>
              <a:tblPr/>
              <a:tblGrid>
                <a:gridCol w="496800"/>
                <a:gridCol w="515880"/>
                <a:gridCol w="506520"/>
                <a:gridCol w="504720"/>
                <a:gridCol w="506520"/>
                <a:gridCol w="504720"/>
                <a:gridCol w="506520"/>
                <a:gridCol w="504720"/>
                <a:gridCol w="506520"/>
                <a:gridCol w="506520"/>
                <a:gridCol w="507960"/>
                <a:gridCol w="507960"/>
                <a:gridCol w="50796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икл п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ц по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усло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· тело цикла (последовательность коман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0 команд проверки услов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1066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ерху сте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1066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ерху свобод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1066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изу сте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1066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изу свобод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1066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рава сте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1066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рава свобод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1066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ва сте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1066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ва свобод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1066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етка закраше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1066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етка чист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крашивание ряда до сте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закрасить ряд вправо до стены и верну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нц пока справа свобод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закрасить; 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нц пока клетка закраш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вл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152640" y="30456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рашивание горизонтального коридора произвольной длины, робот где-то в корид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60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г </a:t>
            </a: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закрасить корид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ц пока снизу ст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ле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пра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ц пока снизу ст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расить; впра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51920" y="762120"/>
            <a:ext cx="853452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расить клетки у стен прямоугольника, робот где-то внутри прямоуголь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вее робота есть закрашенная клетка, закрасить все клетки между роботом и этой клеткой и вернуться наз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расить вертикальный коридор неизвестной длины, робот где-то в корид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бот в клетке над горизонтальной стеной неизвестной длины, закрасить все клетки вокруг ст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Цикл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р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ц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число повторений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· тело цикла (последовательность коман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обот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Сменить стартовую обстанов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айл со стандартной обстановкой входит в поставку Кумира (10x16.fil). Стандартной обстановкой является пустая обстановка максимально допустимого размера 10*16 с Роботом в левом верхнем уг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овать Ро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ц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5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· закрасить;вправо;вве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нц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 5 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· закрасить;вправо;в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4800600" y="152280"/>
            <a:ext cx="4057560" cy="21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111240" y="933480"/>
            <a:ext cx="892332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380880" y="923760"/>
            <a:ext cx="847404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ложенные цик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ц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число повторений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ц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число повторений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тело цикла·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6840" y="152280"/>
            <a:ext cx="8458200" cy="693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пользовать Роб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лг УЗ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нц</a:t>
            </a:r>
            <a:r>
              <a:rPr b="0" lang="ru-RU" sz="16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b05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ра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ц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ра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закрасить; вни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вниз; закрасить; впра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вверх; закрасить; вверх; впра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впра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кц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закрасить; вни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вниз; закрасить; впра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вверх; закраси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вниз; вниз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ц 1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ра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вле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к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к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нц 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4</a:t>
            </a: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 ра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закрасить; вни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вниз; закрасить; впра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вверх; закрасить; вверх; вправо; впра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кц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закрасить; вни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вниз; закрасить; впра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вверх; закраси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4495680" y="41400"/>
            <a:ext cx="4648320" cy="26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ть Ро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ц пока снизу свобод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ц пока справа свобод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из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расить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пра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расить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ер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расить; вправ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расить; 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из; вниз; в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ц пока слева свобод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л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402408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-30492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ть Роб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ц пока снизу свобод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вниз; закрасить; вн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вправо; закрасить; впра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вверх; закрасить; вверх; влев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закрасить; впра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вправо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нц пока справа свобод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право; вниз; закраси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из; вправо; закрасить; впра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верх; закрасить; вверх; влев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красить; впра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право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к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из; вниз; вниз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нц пока слева свобод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к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"/>
          <p:cNvPicPr/>
          <p:nvPr/>
        </p:nvPicPr>
        <p:blipFill>
          <a:blip r:embed="rId1"/>
          <a:stretch/>
        </p:blipFill>
        <p:spPr>
          <a:xfrm>
            <a:off x="4676760" y="0"/>
            <a:ext cx="446724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манды условных алгорит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усло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т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ерия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·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ач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ерия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·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ерия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красить все клетки коридора, из которых есть выход ввер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ц пока снизу ст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если сверху свобод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то закрасить; впра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иначе впра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обот внутри коридора неизвестного направления. Вывести робот из корид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справа свобод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ц пока снизу  сте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ач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ц пока справа ст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ве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685800" y="509760"/>
            <a:ext cx="800100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горизонтальном коридоре есть тупики снизу размером в 1 клетку, робот в левой клетке коридора. Вывести робот из коридора вправо и закрасить туп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оле нет стен. В ряду из 10 клеток правее робота некоторые клетки закрашены. Закрасить клетки ниже каждой закрашен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бот находится внутри прямоугольника. Некоторые клетки в левой вертикали прямоугольника закрашены. Закрасить соответствующие им клетки в правой вертик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ан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На поле Робота горизонтальный коридор шириной в одну клетку. Коридор имеет выступы-ответвления вниз произвольной длины, ширины — в одну клетку. Ответвления заканчиваются тупиком. Робот находится в одном из ответвле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ад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Робот закрасил коридор и все ответвления и вышел из коридора вле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228600" y="162000"/>
            <a:ext cx="4876920" cy="3446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"/>
          <p:cNvPicPr/>
          <p:nvPr/>
        </p:nvPicPr>
        <p:blipFill>
          <a:blip r:embed="rId2"/>
          <a:stretch/>
        </p:blipFill>
        <p:spPr>
          <a:xfrm>
            <a:off x="3809880" y="2666880"/>
            <a:ext cx="50007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ц пока сверху свобод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ер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ц пока сверху ст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пра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ле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ц пока сверху ст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снизу свобод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 нц пока снизу свобод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н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ц пока сверху свобод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красить; ввер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красить;вле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манды условных алгорит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бо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усло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·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условие 1: серия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·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условие 2: серия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·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·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условие n: серия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·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ач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ерия n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струменты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дактировать стартовую обстанов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авить/убрать стену — щелкнуть по границе между клет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расить/сделать чистой клетку — щелкнуть по клет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местить Робота — тащить мыш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менить размеры обстановки — команда «Новая обстановка» меню «Обстанов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685800" y="487440"/>
            <a:ext cx="7543800" cy="57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70536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исание алгорит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оритм на языке КуМир записывается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ип_алгоритма имя_алгоритма (описание_параметр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·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словие_применимости_алгорит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·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д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цель_выполнения_алгорит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· последовательность кома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сание алгоритма состоит и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голов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часть до служебного слова на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ла алгорит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часть между словами нач и ко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стема команд исполнителя «Робот» включа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мир-программа, управляющая Роботом, должна начинаться со строк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пользо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б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 команд, вызывающих действия Робота (влево, вправо, вверх, вниз, закраси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 команд проверки услов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 команд вида [слева/справа/снизу/сверху] [стена/свободно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команды вида клетка [закрашена/чистая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16:20:36Z</dcterms:created>
  <dc:creator>Женька</dc:creator>
  <dc:description/>
  <dc:language>en-US</dc:language>
  <cp:lastModifiedBy>User</cp:lastModifiedBy>
  <dcterms:modified xsi:type="dcterms:W3CDTF">2016-10-04T16:03:34Z</dcterms:modified>
  <cp:revision>30</cp:revision>
  <dc:subject/>
  <dc:title>Слайд 1</dc:title>
</cp:coreProperties>
</file>