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5083-A029-40ED-8042-B10A652F3E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A329-27CE-44B8-99F7-5255E40C4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933-B217-4100-A3E3-B250317A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FBAA-7F8F-4D8A-8EE9-26F6175D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2B1-443A-430A-8160-17576847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3F15-C795-485C-BCE4-ECE684C7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FF1-73AA-42EB-BA49-4E980C6C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D70-9289-4B61-82E4-97579A25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B43-1676-4697-A72E-3D8780FC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1BC-2710-4DC4-BCB2-E2A0877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82A-4B02-460C-9411-2DF24236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D3F-6B28-4488-B6C2-22C2E9BD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091-768F-40CD-9387-202354D5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CAE-00FD-4CE2-9094-B15E4E6A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DD44-5D4D-46A9-AE20-0D63A90E30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075680" y="1000080"/>
            <a:ext cx="709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onstantia"/>
              </a:rPr>
              <a:t>Блоки Дьенеш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Татьяна\Рабочий стол\для работы\МО\KP.png"/>
          <p:cNvPicPr/>
          <p:nvPr/>
        </p:nvPicPr>
        <p:blipFill>
          <a:blip r:embed="rId2"/>
          <a:stretch/>
        </p:blipFill>
        <p:spPr>
          <a:xfrm>
            <a:off x="1714680" y="2489040"/>
            <a:ext cx="59292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12600" y="-1260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SDC17570.JPG"/>
          <p:cNvPicPr/>
          <p:nvPr/>
        </p:nvPicPr>
        <p:blipFill>
          <a:blip r:embed="rId2"/>
          <a:stretch/>
        </p:blipFill>
        <p:spPr>
          <a:xfrm>
            <a:off x="1692360" y="1557360"/>
            <a:ext cx="5759280" cy="43196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1561320" y="357120"/>
            <a:ext cx="57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Угощение для медвежа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" descr="SDC17571.JPG"/>
          <p:cNvPicPr/>
          <p:nvPr/>
        </p:nvPicPr>
        <p:blipFill>
          <a:blip r:embed="rId2"/>
          <a:stretch/>
        </p:blipFill>
        <p:spPr>
          <a:xfrm>
            <a:off x="2786040" y="1000080"/>
            <a:ext cx="4054320" cy="5407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Магази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SDC17573.JPG"/>
          <p:cNvPicPr/>
          <p:nvPr/>
        </p:nvPicPr>
        <p:blipFill>
          <a:blip r:embed="rId2"/>
          <a:stretch/>
        </p:blipFill>
        <p:spPr>
          <a:xfrm>
            <a:off x="2411280" y="1052640"/>
            <a:ext cx="4130640" cy="550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2195640" y="333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Мозаика циф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" descr="SDC17574.JPG"/>
          <p:cNvPicPr/>
          <p:nvPr/>
        </p:nvPicPr>
        <p:blipFill>
          <a:blip r:embed="rId2"/>
          <a:stretch/>
        </p:blipFill>
        <p:spPr>
          <a:xfrm>
            <a:off x="1332000" y="1413000"/>
            <a:ext cx="6611760" cy="49593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2233800" y="357120"/>
            <a:ext cx="46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Логический поезд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SDC17565.JPG"/>
          <p:cNvPicPr/>
          <p:nvPr/>
        </p:nvPicPr>
        <p:blipFill>
          <a:blip r:embed="rId2"/>
          <a:stretch/>
        </p:blipFill>
        <p:spPr>
          <a:xfrm>
            <a:off x="1547640" y="1413000"/>
            <a:ext cx="644400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Documents and Settings\Татьяна\Рабочий стол\для работы\МО\6491_400.jpg"/>
          <p:cNvPicPr/>
          <p:nvPr/>
        </p:nvPicPr>
        <p:blipFill>
          <a:blip r:embed="rId2"/>
          <a:stretch/>
        </p:blipFill>
        <p:spPr>
          <a:xfrm>
            <a:off x="1357200" y="3857760"/>
            <a:ext cx="3943440" cy="28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7" descr="C:\Documents and Settings\Татьяна\Рабочий стол\для работы\МО\albom_42_full.jpg"/>
          <p:cNvPicPr/>
          <p:nvPr/>
        </p:nvPicPr>
        <p:blipFill>
          <a:blip r:embed="rId3"/>
          <a:stretch/>
        </p:blipFill>
        <p:spPr>
          <a:xfrm>
            <a:off x="4929120" y="1214280"/>
            <a:ext cx="3908520" cy="279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3" descr="C:\Documents and Settings\Татьяна\Рабочий стол\для работы\МО\albom-k-blokam-denesha-dlja-samyh-malenkih-2-3-goda800x800q80.v1292297128.jpg"/>
          <p:cNvPicPr/>
          <p:nvPr/>
        </p:nvPicPr>
        <p:blipFill>
          <a:blip r:embed="rId4"/>
          <a:stretch/>
        </p:blipFill>
        <p:spPr>
          <a:xfrm>
            <a:off x="285840" y="857160"/>
            <a:ext cx="3757680" cy="26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Box 6"/>
          <p:cNvSpPr/>
          <p:nvPr/>
        </p:nvSpPr>
        <p:spPr>
          <a:xfrm>
            <a:off x="2302920" y="14292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омы для детей 2-4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Documents and Settings\Татьяна\Рабочий стол\для работы\МО\albom_02_.jpg"/>
          <p:cNvPicPr/>
          <p:nvPr/>
        </p:nvPicPr>
        <p:blipFill>
          <a:blip r:embed="rId2"/>
          <a:stretch/>
        </p:blipFill>
        <p:spPr>
          <a:xfrm rot="333000">
            <a:off x="5697360" y="1074600"/>
            <a:ext cx="3143520" cy="274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Documents and Settings\Татьяна\Рабочий стол\для работы\МО\853-1340-thickbox.jpg"/>
          <p:cNvPicPr/>
          <p:nvPr/>
        </p:nvPicPr>
        <p:blipFill>
          <a:blip r:embed="rId3"/>
          <a:stretch/>
        </p:blipFill>
        <p:spPr>
          <a:xfrm rot="21151200">
            <a:off x="214200" y="1143000"/>
            <a:ext cx="3214800" cy="2755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2588760" y="35712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омы для детей 5-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:\Documents and Settings\Татьяна\Рабочий стол\для работы\МО\4729_400_1.jpg"/>
          <p:cNvPicPr/>
          <p:nvPr/>
        </p:nvPicPr>
        <p:blipFill>
          <a:blip r:embed="rId4"/>
          <a:stretch/>
        </p:blipFill>
        <p:spPr>
          <a:xfrm rot="316800">
            <a:off x="3058920" y="3765600"/>
            <a:ext cx="3111480" cy="295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Documents and Settings\Татьяна\Рабочий стол\для работы\МО\16357-2.jpg"/>
          <p:cNvPicPr/>
          <p:nvPr/>
        </p:nvPicPr>
        <p:blipFill>
          <a:blip r:embed="rId2"/>
          <a:stretch/>
        </p:blipFill>
        <p:spPr>
          <a:xfrm>
            <a:off x="785880" y="928800"/>
            <a:ext cx="3697200" cy="2643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1" name="Picture 8" descr="C:\Documents and Settings\Татьяна\Рабочий стол\для работы\МО\980944f2fbba8359ae7311b01c5d298b.jpg"/>
          <p:cNvPicPr/>
          <p:nvPr/>
        </p:nvPicPr>
        <p:blipFill>
          <a:blip r:embed="rId3"/>
          <a:stretch/>
        </p:blipFill>
        <p:spPr>
          <a:xfrm>
            <a:off x="285840" y="3990960"/>
            <a:ext cx="3714840" cy="26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2" name="Picture 9" descr="C:\Documents and Settings\Татьяна\Рабочий стол\для работы\МО\udivlyayka_2.jpg"/>
          <p:cNvPicPr/>
          <p:nvPr/>
        </p:nvPicPr>
        <p:blipFill>
          <a:blip r:embed="rId4"/>
          <a:stretch/>
        </p:blipFill>
        <p:spPr>
          <a:xfrm>
            <a:off x="5286240" y="1000080"/>
            <a:ext cx="3738600" cy="264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3" name="Picture 10" descr="C:\Documents and Settings\Татьяна\Рабочий стол\для работы\МО\Udivlyayka_4_2.jpg"/>
          <p:cNvPicPr/>
          <p:nvPr/>
        </p:nvPicPr>
        <p:blipFill>
          <a:blip r:embed="rId5"/>
          <a:stretch/>
        </p:blipFill>
        <p:spPr>
          <a:xfrm>
            <a:off x="4714920" y="4071960"/>
            <a:ext cx="3722760" cy="2657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4" name="TextBox 11"/>
          <p:cNvSpPr/>
          <p:nvPr/>
        </p:nvSpPr>
        <p:spPr>
          <a:xfrm>
            <a:off x="2775960" y="2142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омы «Удивляй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12600" y="-1260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142920" y="510120"/>
            <a:ext cx="87152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ФОРМЫ ОРГАНИЗАЦИИ РАБОТЫ С ЛОГИЧЕСКИМИ БЛО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нятия (комплексные, интегрированные), обеспечивающие наглядность, системность и доступность, смену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местная и самостоятельная игровая деятельность (дидактические игры, настольно-печатные, подвижные, сюжетно-ролевые иг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857160" y="2937960"/>
            <a:ext cx="8286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в подвижных играх (предметные ориентиры, обозначения домиков, дорожек, лабиринтов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как настольно-печатные (изготовить карты к играм “Рассели жильцов”, “Найди место фигуре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в сюжетно-ролевых играх: “Магазин” - деньги обозначаются блоками. “Почта” - адрес на доме обозначается кодовыми карточками. Аналогично, “Поезд” - билеты, м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52280" y="4012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42920" y="5143680"/>
            <a:ext cx="87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 занятий, в предметно-развивающей среде (ИЗО-деятельность, аппликация, режимные моменты, предметные ориентир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2" descr=""/>
          <p:cNvPicPr/>
          <p:nvPr/>
        </p:nvPicPr>
        <p:blipFill>
          <a:blip r:embed="rId2"/>
          <a:stretch/>
        </p:blipFill>
        <p:spPr>
          <a:xfrm>
            <a:off x="633240" y="1805040"/>
            <a:ext cx="7656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Логические блоки придумал Золтан Пал Дьенеш— венгерский математик, психолог..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70600" y="21420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14200" y="1093320"/>
            <a:ext cx="878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ть с формой, цветом, размером, толщиной объе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пространственные предст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логическое мышление, представление о множестве, операции над  множествами (сравнение, разбиение, классификация, абстрагировани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умения выявлять свойства в объектах, называть их, адекватно обозначать их отсутствие, обобщать объекты по их свойствам, объяснять сходства и различия объектов, обосновывать свои рас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знания, умения и навыки, необходимые для самостоятельного решения учебных зада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познавательные процессы, мыслительные оп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ывать самостоятельность, инициативу, настойчивость в достижении ц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творческие способности, воображение, фантазию, способности к моделированию и конструирова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психические функции, связанные с речевой деятель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142920" y="686880"/>
            <a:ext cx="8643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материал представляет собой набор из 48 логических блоков, различающихся четырьмя свойствами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ормой - круглые, квадратные, треугольные, прямоугольные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цветом - красные, желтые, синие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мером-большие и маленьк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толщиной-толстые и тон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C:\Documents and Settings\Татьяна\Рабочий стол\для работы\МО\b2510.png"/>
          <p:cNvPicPr/>
          <p:nvPr/>
        </p:nvPicPr>
        <p:blipFill>
          <a:blip r:embed="rId2"/>
          <a:stretch/>
        </p:blipFill>
        <p:spPr>
          <a:xfrm>
            <a:off x="5989680" y="128592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395280" y="393372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геометрическая фигура характеризуется четырьмя признаками: одной из четырех форм, одним из четырех цветов, одним из двух размеров, одним из двух видов толщ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85840" y="42861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возраста детей можно использовать не весь комплект, а какую-то его часть: сначала блоки разные по форме и цвету, но одинаковые по размеру и толщине (12 штук), затем разные по форме, цвету и размеру, но одинаковые по толщине (24 штуки) и в конце – полный комплект фигур (48 шту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4200" y="5662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ы плоских логических фигур можно сделать из картона или пластика по примеру логических блоков. Отличительная особенность таких наборов — одинаковая толщина всех фигу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5" descr="SDC17569.JPG"/>
          <p:cNvPicPr/>
          <p:nvPr/>
        </p:nvPicPr>
        <p:blipFill>
          <a:blip r:embed="rId2"/>
          <a:stretch/>
        </p:blipFill>
        <p:spPr>
          <a:xfrm>
            <a:off x="2843280" y="1557360"/>
            <a:ext cx="34923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0" y="297720"/>
            <a:ext cx="900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логических блоков для работы необходимы карточки (5х5 см), на которых условно обозначены свойства блоков (цвет, форма, размер, толщи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таких карточек позволяет развивать у детей способность к замещению и моделированию свойств, умение кодировать и декодировать информацию о них. Эти способности и умения развиваются в процессе выполнения разнообразных предметно-игровых дей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-свойства помогают детям перейти от наглядно-образного мышления к наглядно-схематическому, а карточки с отрицанием свойств – мостик к словесно-логическому мыш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Users\компьютер\Desktop\Блоки\SDC10791.JPG"/>
          <p:cNvPicPr/>
          <p:nvPr/>
        </p:nvPicPr>
        <p:blipFill>
          <a:blip r:embed="rId2"/>
          <a:stretch/>
        </p:blipFill>
        <p:spPr>
          <a:xfrm>
            <a:off x="2771640" y="33577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Татьяна\Рабочий стол\для работы\МО\03labdu6s1219815132.jpg"/>
          <p:cNvPicPr/>
          <p:nvPr/>
        </p:nvPicPr>
        <p:blipFill>
          <a:blip r:embed="rId2"/>
          <a:stretch/>
        </p:blipFill>
        <p:spPr>
          <a:xfrm>
            <a:off x="2500200" y="142920"/>
            <a:ext cx="4376880" cy="645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C:\Users\компьютер\Desktop\Блоки\SDC10785.JPG"/>
          <p:cNvPicPr/>
          <p:nvPr/>
        </p:nvPicPr>
        <p:blipFill>
          <a:blip r:embed="rId2"/>
          <a:srcRect l="3043" t="6286" r="0" b="0"/>
          <a:stretch/>
        </p:blipFill>
        <p:spPr>
          <a:xfrm>
            <a:off x="2843280" y="1268280"/>
            <a:ext cx="3889440" cy="50119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2428920" y="571680"/>
            <a:ext cx="46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Татьяна\Рабочий стол\Рисунок2.jpg"/>
          <p:cNvPicPr/>
          <p:nvPr/>
        </p:nvPicPr>
        <p:blipFill>
          <a:blip r:embed="rId1"/>
          <a:stretch/>
        </p:blipFill>
        <p:spPr>
          <a:xfrm>
            <a:off x="0" y="-1260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2153160" y="214200"/>
            <a:ext cx="450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ческ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Documents and Settings\Татьяна\Рабочий стол\для работы\МО\davayte_poizraem.png"/>
          <p:cNvPicPr/>
          <p:nvPr/>
        </p:nvPicPr>
        <p:blipFill>
          <a:blip r:embed="rId2"/>
          <a:stretch/>
        </p:blipFill>
        <p:spPr>
          <a:xfrm>
            <a:off x="928800" y="1643040"/>
            <a:ext cx="5429160" cy="4886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4149720" y="221472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зада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9:55:43Z</dcterms:created>
  <dc:creator>Татьяна</dc:creator>
  <dc:description/>
  <dc:language>en-US</dc:language>
  <cp:lastModifiedBy>user</cp:lastModifiedBy>
  <dcterms:modified xsi:type="dcterms:W3CDTF">2017-02-02T05:41:09Z</dcterms:modified>
  <cp:revision>32</cp:revision>
  <dc:subject/>
  <dc:title>Слайд 1</dc:title>
</cp:coreProperties>
</file>