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F77-61FD-41A9-A44A-29B51F2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30F-30D9-4E3E-A23A-7D336F4E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940-0D5D-4D0A-9743-26E40D8C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5DE2-D2E9-4B5B-847E-36902FEE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89D0-5647-404D-9633-F821C7FC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6699-2585-4E37-8462-1FEA05FB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56ED-AFCE-42D0-9903-1140E6F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5287-29ED-4787-8816-4AE5F3B7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E77-CF0E-42C9-8676-A3B564A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1F79-32D8-49AC-A0A1-179FA58B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BEA7-83E8-4A60-94A3-E2D05CD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C7A-1509-4F76-86A5-FE5A4460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B7E0-0597-4D30-A395-4897277F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BB3C-E659-441E-AE95-47347F8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A3B-1F70-43E7-87AB-FEE4614D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B283-E419-4AA1-97EF-BCFB76E7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1B3B-FD41-402C-ACD3-ED3A931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0AB-11A8-44E3-8AC3-402A5754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F54-F7D4-4E6B-9A64-22CB2C0C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B72-35F7-4F76-A6D0-1CE532B1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0DB-4F1B-4C15-A8E8-E06A9ABF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7A6-0221-4151-B2EC-6ABE7DE3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FAC-516D-4893-AA56-849DF16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D7A-9A00-4D1F-B4C6-C3830A68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87EA-2DE9-47D8-ABCE-C69C979B5D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ED6D-8322-4130-81E1-E733EEB124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rizway.com/author/3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1.html#a2" TargetMode="External"/><Relationship Id="rId2" Type="http://schemas.openxmlformats.org/officeDocument/2006/relationships/hyperlink" Target="http://www.trizway.com/art/book/87_1.html#a3" TargetMode="External"/><Relationship Id="rId3" Type="http://schemas.openxmlformats.org/officeDocument/2006/relationships/hyperlink" Target="http://www.trizway.com/art/book/87_1.html#a3" TargetMode="External"/><Relationship Id="rId4" Type="http://schemas.openxmlformats.org/officeDocument/2006/relationships/hyperlink" Target="http://www.trizway.com/art/book/87_2.html" TargetMode="External"/><Relationship Id="rId5" Type="http://schemas.openxmlformats.org/officeDocument/2006/relationships/hyperlink" Target="http://www.trizway.com/art/book/87_2.html#a1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3.html" TargetMode="External"/><Relationship Id="rId2" Type="http://schemas.openxmlformats.org/officeDocument/2006/relationships/hyperlink" Target="http://www.trizway.com/art/book/87_3.html#a1" TargetMode="External"/><Relationship Id="rId3" Type="http://schemas.openxmlformats.org/officeDocument/2006/relationships/hyperlink" Target="http://www.trizway.com/art/book/87_3.html#a1" TargetMode="External"/><Relationship Id="rId4" Type="http://schemas.openxmlformats.org/officeDocument/2006/relationships/hyperlink" Target="http://www.trizway.com/art/book/87_4.html" TargetMode="External"/><Relationship Id="rId5" Type="http://schemas.openxmlformats.org/officeDocument/2006/relationships/hyperlink" Target="http://www.trizway.com/art/book/87_4.html#a1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5.html" TargetMode="External"/><Relationship Id="rId2" Type="http://schemas.openxmlformats.org/officeDocument/2006/relationships/hyperlink" Target="http://www.trizway.com/art/book/87_5.html#a1" TargetMode="External"/><Relationship Id="rId3" Type="http://schemas.openxmlformats.org/officeDocument/2006/relationships/hyperlink" Target="http://www.trizway.com/art/book/87_6.html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7.html" TargetMode="External"/><Relationship Id="rId2" Type="http://schemas.openxmlformats.org/officeDocument/2006/relationships/hyperlink" Target="http://www.trizway.com/art/book/87_7.html#a1" TargetMode="External"/><Relationship Id="rId3" Type="http://schemas.openxmlformats.org/officeDocument/2006/relationships/hyperlink" Target="http://www.trizway.com/art/book/87_7.html#a1" TargetMode="External"/><Relationship Id="rId4" Type="http://schemas.openxmlformats.org/officeDocument/2006/relationships/hyperlink" Target="http://www.trizway.com/art/book/87_8.html" TargetMode="External"/><Relationship Id="rId5" Type="http://schemas.openxmlformats.org/officeDocument/2006/relationships/hyperlink" Target="http://www.trizway.com/art/book/87_9.html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10.html" TargetMode="External"/><Relationship Id="rId2" Type="http://schemas.openxmlformats.org/officeDocument/2006/relationships/hyperlink" Target="http://www.trizway.com/art/book/87_10.html#a1" TargetMode="External"/><Relationship Id="rId3" Type="http://schemas.openxmlformats.org/officeDocument/2006/relationships/hyperlink" Target="http://www.trizway.com/art/book/87_10.html#a1" TargetMode="External"/><Relationship Id="rId4" Type="http://schemas.openxmlformats.org/officeDocument/2006/relationships/hyperlink" Target="http://www.trizway.com/art/book/87_11.html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12.html" TargetMode="External"/><Relationship Id="rId2" Type="http://schemas.openxmlformats.org/officeDocument/2006/relationships/hyperlink" Target="http://www.trizway.com/art/book/87_12.html#a1" TargetMode="External"/><Relationship Id="rId3" Type="http://schemas.openxmlformats.org/officeDocument/2006/relationships/hyperlink" Target="http://www.trizway.com/art/book/87_12.html#a1" TargetMode="External"/><Relationship Id="rId4" Type="http://schemas.openxmlformats.org/officeDocument/2006/relationships/hyperlink" Target="http://www.trizway.com/art/book/87_13.html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trizway.com/art/book/87_14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344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новации в образовании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РИЗ - педаг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640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Использование приёмов ТРИЗ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в работе с деть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дошкольного возра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Да - нет – 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метод дает возможность научить детей находить существенный признак в предмете, классифицировать предметы и явления по общим признакам, слушать и слышать ответы других, строить на их основе свои вопросы, точно формулировать свои мы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игры: загадывается объект животного или рукотворного мира, дети задают вопросы об этом объекте. На вопросы можно отвечать только "да" или "нет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 Робинз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26920" y="1557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ует умение находить применение, казалось бы, совсем ненужному предм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проводиться в виде игры "Аукцион" в старшей и подготовительной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0001-001-Algoritmy-v-nashej-zhizni"/>
          <p:cNvPicPr/>
          <p:nvPr/>
        </p:nvPicPr>
        <p:blipFill>
          <a:blip r:embed="rId1"/>
          <a:stretch/>
        </p:blipFill>
        <p:spPr>
          <a:xfrm>
            <a:off x="2050920" y="2708280"/>
            <a:ext cx="511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 «Системный анал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помогает рассмотреть мир в системе, как совокупность связанных между собой определенным образом элементов, удобно функционирующих между собой. Его цель – определить роль и место объектов, и их взаимодействие по каждому под системному и над системному  элемен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результате приходят к выводу, что все в мире устроено системно, и если нарушить одно звено этой цепочки, то непременно нарушится другое звено (другая система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Коллаж из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умывание новой сказки на основе уже   известных детям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Знакомые герои в новых обстоятельст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метод развивает фантазию, ломает привычные стереотипы у детей, создает условия, при которых главные герои остаются, но попадают в новые обстоятельства, которые могут быть фантастическими и невероят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пасательные ситуации в сказ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й метод служит предпосылкой для сочинения всевозможных сюжетов и концовок. Кроме умения сочинять, ребенок учится находить выход из, порой, трудных обстоя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казки, по-нов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метод помогает по – новому взглянуть на знакомые сюж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казки от "живых” капель и кля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ачала надо научить детей делать кляксы (черные, разноцветные). Затем ребенок, глядя на них, может увидеть образы, предметы или их отдельные детали и ответить на вопросы: "на что похожа твоя или моя клякса?” Образы "живых” капель, клякс помогают сочинить ска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Моделирование сказ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ачале необходимо обучить дошкольников составлению сказки по предметно – схематической модели. Например, показать какой – то предмет или картинку, которая должна стать отправной точкой детской фантаз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прогулках с дошкольниками рекоменд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7417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ть различные приемы, активизирующие детскую фантазию: оживление, динамизацию, изменение законов природы, увеличение, уменьшение степени воздействия объекта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пример, воспитатель обращается к детям: «Давайте оживим дерево: кто его мама? Кто его друзья? О чем оно спорит с ветром? Что может нам рассказать дерево?” Можно использовать прием эмпатии. Дети представляют себя на месте наблюдаемого: "А что, если ты превратился в цветок? О чем ты мечтаешь? Кого боишься? Кого любишь?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абота педагога - тризов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 беседы с детьми на исторические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Путешествие в прошлое одежды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Посуда рассказывает о своем рождении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"История карандаша”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атривание объекта в его временном     развитии позволяет понять причину постоянных совершенствований, изобре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начинают понимать, что изобретать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значит решать противореч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568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НЯТИЯ ПО ТРИЗ В ДЕТСКОМ САДУ</a:t>
            </a:r>
            <a:r>
              <a:rPr b="1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_x000b_Гин Светлана</a:t>
            </a:r>
            <a:br>
              <a:rPr sz="1900"/>
            </a:br>
            <a:br>
              <a:rPr sz="1900"/>
            </a:br>
            <a:br>
              <a:rPr sz="34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triz_d_s_1"/>
          <p:cNvPicPr/>
          <p:nvPr/>
        </p:nvPicPr>
        <p:blipFill>
          <a:blip r:embed="rId2"/>
          <a:stretch/>
        </p:blipFill>
        <p:spPr>
          <a:xfrm>
            <a:off x="2987640" y="1773360"/>
            <a:ext cx="29592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27003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1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_x000b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ротиворечия в пого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Знакомство с помощником воспита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иалог с Игрушкой о пог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движная игра «Солнышко и дождь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бсуждение с детьми противоречий в пого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Занятие 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Противоречия в предмет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Классификация игрушек по различным призна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движная игра «Разбежались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бсуждение противоречий в предме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84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3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_x000b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ротиворечия в предметах (продол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еседа о професс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Дрессировщи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идактическая игра «Магазин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Занятие 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Противоречия в ситуация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тиворечия в боле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Простуд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нализ ситу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191269027_c4112"/>
          <p:cNvPicPr/>
          <p:nvPr/>
        </p:nvPicPr>
        <p:blipFill>
          <a:blip r:embed="rId6"/>
          <a:stretch/>
        </p:blipFill>
        <p:spPr>
          <a:xfrm>
            <a:off x="5651640" y="2637000"/>
            <a:ext cx="30765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етодика ТРИ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41749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Основателем явл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енрих Сау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льтшул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етский сад ТРИЗ пришел в 1987. В настоящее время приемы и методы технического ТРИЗа с успехом используются в детских садах для развития у дошкольников изобретательской смекалки, творческого воображения, диалектического    мыш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643280" y="1341360"/>
            <a:ext cx="4176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2556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5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Противоречия в размер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нализ проблем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Большие — маленьки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ажнение «Расставь по порядку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Занятие 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иворечия в колич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нализ проблем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Много — ма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тиворечия в колич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244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ротивоположные призна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ротиворечия в зи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на вним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блемн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Занятие 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ающее занятие по противореч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Занятие 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борка робот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Руки, ноги, голов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бсуждение «Что — для чего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0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10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_x000b_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Подсистемы предметов: объект «чайник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суждение «Какой чайник лучш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-эстафета «Наполни чайни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Анализ под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Занятие 1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редметов: объект «машин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нализ подсист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Светоф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бсуждение «Какие бывают машины по назначению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09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12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_x000b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Обобщающее занятие по подсистем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суждение «Конструктор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Кто больш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чинение загад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Занятие 1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маленьких человеч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бсуждение «Что не делится на части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гра «Назови твердое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нсценирование маленькими человечк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Занятие 14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дые и жидкие челове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ешение проблемной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равнение твердых и жидких ве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гра «Замр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оделирование ситу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одведение ит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aby010"/>
          <p:cNvPicPr/>
          <p:nvPr/>
        </p:nvPicPr>
        <p:blipFill>
          <a:blip r:embed="rId2"/>
          <a:stretch/>
        </p:blipFill>
        <p:spPr>
          <a:xfrm>
            <a:off x="539640" y="3933720"/>
            <a:ext cx="1728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елаю творческих успех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17688754"/>
          <p:cNvPicPr/>
          <p:nvPr/>
        </p:nvPicPr>
        <p:blipFill>
          <a:blip r:embed="rId1"/>
          <a:stretch/>
        </p:blipFill>
        <p:spPr>
          <a:xfrm>
            <a:off x="1547640" y="2637000"/>
            <a:ext cx="4772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3889440" cy="20019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Что же такое ТРИ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теория решения изобретательных задач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Ответ прост – это уникальный инструмент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- поиска нетривиальных ид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- выявления и решения многих творческих пробл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- развития творческого мышления, формирования творческой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190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функции ТРИ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  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творческих и изобретательских задач любой сложности и направленности без перебора вариа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Прогнозирование развития технических систем (ТС) и получение перспективных решений (в том числе и принципиально новых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звитие качеств творческой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ожительные стороны ТРИЗ: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У детей обогащается круг представлений, растет словарный запас, развиваются творческие способ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ТРИЗ помогает формировать диалектику и логику, способствует преодолению застенчивости, замкнутости, робости; маленький человек учится отстаивать свою точку зрения, а попадая в трудные ситуации самостоятельно находить оригинальные реш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550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ТРИЗ способствует развитию наглядно-образного, причинного, эвристического мышления; памяти, воображения, воздействует на другие психические процесс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Основные этапы методики ТРИЗ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оиск су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«Тайна двойного» - выявление противоречий: хорошо-плох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Разрешение противоречий (при помощи игр и сказок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317840" y="400356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 же ввести элементы ТРИЗ в повседневную жизнь детского с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учить находить и разрешать противоречия в объектах и явлениях, которые его окружают, развить системное мышление, т.е. умение видеть окружающее во взаимосвязи всех компон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Задач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ть детей изобретать предметы с новыми свойствами и качествами: новую игрушку, необычное платье, подарок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Задач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ть сказочные задачи и придумывать новые ск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 ЭТ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Задач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ать детей находить выход из любой сложной ситу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Метод мозгового шту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о оперативный метод решения проблемы на основе стимулирования творческой активности, при котором участникам обсуждения предлагают высказать как можно большее количество вариантов решений, в том числе самых фантастичных. Затем из общего числа высказанных идей отбирают наиболее удачные, которые могут быть использованы на практ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авила мозгового штурма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ключение всякой критики;  поощрение самых невероятных идей; большое количество ответов, предложений; чужие идеи можно улучш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инекти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(метод аналог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личностная аналогия (эмпатия). Предложить ребенку представить самого себя в качестве какого-нибудь предмета или явления в проблем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прямая аналогия. Основывается на поиске сходных процессов в других областя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фантастическая аналогия. Решение проблемы или задачи осуществляется, как в волшебной сказке, т.е. игнорируются все существую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нектика всегда проводится в паре с мозговым штур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5:29:43Z</dcterms:created>
  <dc:creator>Админ</dc:creator>
  <dc:description/>
  <dc:language>en-US</dc:language>
  <cp:lastModifiedBy>1</cp:lastModifiedBy>
  <dcterms:modified xsi:type="dcterms:W3CDTF">2016-11-07T10:18:51Z</dcterms:modified>
  <cp:revision>35</cp:revision>
  <dc:subject/>
  <dc:title>Использование приёмов ТРИЗ в работе с детьми дошкольного возраста</dc:title>
</cp:coreProperties>
</file>