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5.png" ContentType="image/png"/>
  <Override PartName="/ppt/media/image50.png" ContentType="image/png"/>
  <Override PartName="/ppt/media/image13.png" ContentType="image/png"/>
  <Override PartName="/ppt/media/image36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48.png" ContentType="image/png"/>
  <Override PartName="/ppt/media/image11.png" ContentType="image/png"/>
  <Override PartName="/ppt/media/image6.wmf" ContentType="image/x-wmf"/>
  <Override PartName="/ppt/media/image46.wmf" ContentType="image/x-wmf"/>
  <Override PartName="/ppt/media/image39.png" ContentType="image/png"/>
  <Override PartName="/ppt/media/image9.png" ContentType="image/png"/>
  <Override PartName="/ppt/media/image8.png" ContentType="image/png"/>
  <Override PartName="/ppt/media/image3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40.wmf" ContentType="image/x-wmf"/>
  <Override PartName="/ppt/media/image37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FBEC-77E8-458F-AA8A-9BCA354F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2724-126D-438C-B1EE-148B2CCD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55F-FF05-481D-A5FE-E6DD69FF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27E2-FBCF-4D5B-9CEB-09955C49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0DC-9A67-483A-9CED-E55586F8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C8B-839C-401D-83D9-2FF55A1F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3AED-74F2-4912-93DA-09F6D613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88A-5714-48ED-B838-FF09361A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D51C-0795-4D16-BD32-2911F845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165D-3B24-4B49-BEE7-5AF15B10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8712-A9F8-4867-ACB1-31FA88A5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CAA9-8047-4E69-95CF-D55318D0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DD96-4DFC-48B2-B990-94AB73EE0B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 технологии  в  ДО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4797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ебенок воспитывается разными случайностями, его окружающими. Педагогика должна дать направление этим случайностям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. Ф. Одоев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i?id=453721281-30-72&amp;n=21"/>
          <p:cNvPicPr/>
          <p:nvPr/>
        </p:nvPicPr>
        <p:blipFill>
          <a:blip r:embed="rId1"/>
          <a:stretch/>
        </p:blipFill>
        <p:spPr>
          <a:xfrm>
            <a:off x="395280" y="404640"/>
            <a:ext cx="150480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i?id=570050893-32-72&amp;n=21"/>
          <p:cNvPicPr/>
          <p:nvPr/>
        </p:nvPicPr>
        <p:blipFill>
          <a:blip r:embed="rId2"/>
          <a:stretch/>
        </p:blipFill>
        <p:spPr>
          <a:xfrm>
            <a:off x="6659640" y="2708280"/>
            <a:ext cx="21495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и проектн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звитие и обогащение социально-личностного опыта посредством включения детей в сферу межличностного взаимодейст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Рисунок 3" descr=""/>
          <p:cNvPicPr/>
          <p:nvPr/>
        </p:nvPicPr>
        <p:blipFill>
          <a:blip r:embed="rId1"/>
          <a:stretch/>
        </p:blipFill>
        <p:spPr>
          <a:xfrm>
            <a:off x="1000080" y="3000240"/>
            <a:ext cx="31561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Классификация учебных проектов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Содержимое 3" descr=""/>
          <p:cNvPicPr/>
          <p:nvPr/>
        </p:nvPicPr>
        <p:blipFill>
          <a:blip r:embed="rId1"/>
          <a:stretch/>
        </p:blipFill>
        <p:spPr>
          <a:xfrm>
            <a:off x="438120" y="817560"/>
            <a:ext cx="8267760" cy="5424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1258920" y="5084640"/>
            <a:ext cx="1225440" cy="1398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3"/>
          <a:stretch/>
        </p:blipFill>
        <p:spPr>
          <a:xfrm>
            <a:off x="1187280" y="2349360"/>
            <a:ext cx="142884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3" descr=""/>
          <p:cNvPicPr/>
          <p:nvPr/>
        </p:nvPicPr>
        <p:blipFill>
          <a:blip r:embed="rId1"/>
          <a:stretch/>
        </p:blipFill>
        <p:spPr>
          <a:xfrm>
            <a:off x="438120" y="317520"/>
            <a:ext cx="8267760" cy="5827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258920" y="4797360"/>
            <a:ext cx="1427040" cy="1427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i?id=99128009-65-72&amp;n=21"/>
          <p:cNvPicPr/>
          <p:nvPr/>
        </p:nvPicPr>
        <p:blipFill>
          <a:blip r:embed="rId3"/>
          <a:stretch/>
        </p:blipFill>
        <p:spPr>
          <a:xfrm>
            <a:off x="900000" y="191628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ипы проект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Содержимое 4" descr=""/>
          <p:cNvPicPr/>
          <p:nvPr/>
        </p:nvPicPr>
        <p:blipFill>
          <a:blip r:embed="rId1"/>
          <a:stretch/>
        </p:blipFill>
        <p:spPr>
          <a:xfrm>
            <a:off x="444600" y="768240"/>
            <a:ext cx="82548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3" descr=""/>
          <p:cNvPicPr/>
          <p:nvPr/>
        </p:nvPicPr>
        <p:blipFill>
          <a:blip r:embed="rId1"/>
          <a:stretch/>
        </p:blipFill>
        <p:spPr>
          <a:xfrm>
            <a:off x="438120" y="433440"/>
            <a:ext cx="826776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я исследовательск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717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Цел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тельской деятельности в детском саду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формировать у дошкольников основные ключевые компетенции, способность к исследовательскому типу мыш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1285920" y="3214800"/>
            <a:ext cx="278604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33000"/>
            <a:ext cx="8291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</a:rPr>
              <a:t>Методы и приемы организации экспериментально – исследовательской дея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вристические бесе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становка и решение вопросов проблемного характер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блюдения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оделирование (создание моделей об изменениях в неживой природе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ыт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ация результатов: наблюдений, опытов, экспериментов,  трудовой деятельност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погружение» в краски, звуки, запахи и образы приро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ражание голосам и звукам природы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спользование художественного слова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идактические игры, игровые обучающи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творчески развивающие ситуаци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рудовые поручения, действ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1"/>
          <a:stretch/>
        </p:blipFill>
        <p:spPr>
          <a:xfrm>
            <a:off x="7236000" y="2205000"/>
            <a:ext cx="1439640" cy="201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i?id=137690313-27-72&amp;n=21"/>
          <p:cNvPicPr/>
          <p:nvPr/>
        </p:nvPicPr>
        <p:blipFill>
          <a:blip r:embed="rId2"/>
          <a:stretch/>
        </p:blipFill>
        <p:spPr>
          <a:xfrm rot="20089200">
            <a:off x="6492600" y="4694040"/>
            <a:ext cx="275724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Содержание познавательно-исследовательск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Содержимое 3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67760" cy="4560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6143760" y="3137040"/>
            <a:ext cx="256212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438120" y="384120"/>
            <a:ext cx="8267760" cy="57610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"/>
          <p:cNvPicPr/>
          <p:nvPr/>
        </p:nvPicPr>
        <p:blipFill>
          <a:blip r:embed="rId2"/>
          <a:stretch/>
        </p:blipFill>
        <p:spPr>
          <a:xfrm>
            <a:off x="1116000" y="2349360"/>
            <a:ext cx="1440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нформационно-коммуникацион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дти в ногу со времене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ть для ребенка проводником  в мир новых технологий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тавником в выборе  компьютерных програм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формировать основы информационной культуры его лич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сить профессиональный уровень педагогов и компетентность родителей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Технолог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424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совокупность приемов, применяемых в каком-либо деле, мастерстве, искусств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толковый словарь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Педагогическая технология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это совокупность психолого-педагогических установок, определяющих специальный набор и компоновку форм, методов, способов, приёмов обучения, воспитательных средств; она есть организационно - методический инструментарий педагогического процесса 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Б.Т.Лихачё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Требования к компьютерным программам в ДО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растное соответств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тельский характер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гкость для самостоятельных занятий дет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широкого спектра навыков и представлени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нимательност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1"/>
          <a:stretch/>
        </p:blipFill>
        <p:spPr>
          <a:xfrm>
            <a:off x="2357280" y="4929120"/>
            <a:ext cx="1924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Классификация програм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воображения, мышления, памя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ворящие словари иностранных язы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стейшие графические редак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ы-путеше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учение чтению, математи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мультимедийных презентац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Рисунок 9" descr="ccschool1a"/>
          <p:cNvPicPr/>
          <p:nvPr/>
        </p:nvPicPr>
        <p:blipFill>
          <a:blip r:embed="rId1"/>
          <a:stretch/>
        </p:blipFill>
        <p:spPr>
          <a:xfrm>
            <a:off x="3132000" y="4724280"/>
            <a:ext cx="225756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Преимущества компьютер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ъявление информации на экране компьютера в игровой форме вызывает у детей огромный интере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ет в себе образный тип информации, понятный дошкольника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вижения, звук, мультипликация надолго привлекает внимание ребен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дает стимулом познавательной активности де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яет возможность индивидуализации обуч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цессе своей деятельности за компьютером дошкольник приобретает уверенность в себ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воляет моделировать жизненные ситуации, которые нельзя увидеть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227640" y="5373720"/>
            <a:ext cx="14749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Ошибки при использовании ИК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очная методическая подготовленность педагог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равильное определение дидактической роли и места ИКТ на занятия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сплановость, случайность применения ИК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груженность занятия демонстраци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i?id=983814667-39-72&amp;n=21"/>
          <p:cNvPicPr/>
          <p:nvPr/>
        </p:nvPicPr>
        <p:blipFill>
          <a:blip r:embed="rId1"/>
          <a:stretch/>
        </p:blipFill>
        <p:spPr>
          <a:xfrm>
            <a:off x="2500200" y="4143240"/>
            <a:ext cx="216072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КТ в работе современного педаг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бор иллюстративного материала к занятиям и для оформления стендов, группы, кабинетов (сканирование, интернет, принтер, презентация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2. Подбор дополнительного познавательного материала к занятиям, знакомство со   сценариями праздников и других мероприяти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3. Обмен опытом, знакомство с периодикой, наработками других педагогов России и зарубежь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4. Оформление групповой документации, отчетов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5. Для повышения эффективности образовательных занятий с детьми и педагогической компетенции у родителей в процессе проведения родительских собрани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Личностно - ориентированная технология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786040" y="4643280"/>
            <a:ext cx="2303640" cy="18129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" descr=""/>
          <p:cNvPicPr/>
          <p:nvPr/>
        </p:nvPicPr>
        <p:blipFill>
          <a:blip r:embed="rId2"/>
          <a:stretch/>
        </p:blipFill>
        <p:spPr>
          <a:xfrm>
            <a:off x="5715000" y="2071800"/>
            <a:ext cx="1943280" cy="178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1500120" y="1357200"/>
            <a:ext cx="307188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Направления личностно-ориентированных технолог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уманно-личностны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личающиеся своей гуманистической сущностью психолого-терапевтической направленностью на оказание помощи ребенку с ослабленным здоровьем, в период адаптации к условиям дошкольного учрежд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хнология сотрудниче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ализует принцип демократизации дошкольного образования, равенство в отношениях педагога с ребенком, партнерство в системе взаимоотношений «Взрослый - ребенок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4" descr=""/>
          <p:cNvPicPr/>
          <p:nvPr/>
        </p:nvPicPr>
        <p:blipFill>
          <a:blip r:embed="rId1"/>
          <a:stretch/>
        </p:blipFill>
        <p:spPr>
          <a:xfrm>
            <a:off x="3929040" y="5072040"/>
            <a:ext cx="1714680" cy="15066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"/>
          <p:cNvPicPr/>
          <p:nvPr/>
        </p:nvPicPr>
        <p:blipFill>
          <a:blip r:embed="rId2"/>
          <a:stretch/>
        </p:blipFill>
        <p:spPr>
          <a:xfrm>
            <a:off x="1000080" y="5143680"/>
            <a:ext cx="23576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портфолио дошкольника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ртфоли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— это копилка личных достижений ребенка в разнообразных видах деятельности, его успехов, положительных эмоций, возможность еще раз пережить приятные моменты своей жизни, это своеобразный маршрут развития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ует ряд функций портфоли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ностическая (фиксирует изменения и рост за определенный период времени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тельная (раскрывает весь спектр выполняемых работ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йтинговая (показывает диапазон умений и навыков ребенка)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 создания портфолио является своего рода педагогической технолог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1 «Давайте познакомимся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е помещается фотография ребенка, указываются его фамилия и имя, номер группы; можно ввести рубрику «Я люблю...» («Мне нравится...», «Обожаю, когда...»), в которой будут записаны ответы ребен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2 «Я расту!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 вносятся антропометрические данные (в художественно-графическом исполнении): «Вот я какой!», «Как я расту», «Я вырос», «Я большой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3 «Портрет моего ребенка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е помещаются сочинения родителей о своем малыш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4 «Я мечтаю...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е фиксируются высказы­вания самого ребенка на предложение продолжить фразы: «Я мечтаю о...», «Я бы хотел быть...», «Я жду, когда...», «Я вижу себя...», «Я хочу видеть себя...», «Мои любимые дела...»; ответы на вопросы: «Кем и каким я буду, когда вырасту?», «О чем я люблю думать?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5 «Вот что я могу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е помещаются образцы творчества ребенка (рисунки, рассказы, книги-самоделки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6 «Мои достижения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е фиксируются грамоты, дипломы (от различных организаций: детского сада, СМИ, проводящих конкурсы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7 «Посоветуйте мне...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е даются рекомендации родителям воспитателем и всеми специалистами, работающими с ребенк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аздел 8 «Спрашивайте, родители!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азделе родители формулируют свои вопросы к специалистам ДО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. Орлова предлагает такой вариант портфолио, содержание которого в первую очередь будет интересно родителя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портфолио можно заполнять как в детском саду, так и дома и можно представлять как мини-презентацию на дне рождения ребенка. Автором предлагается следующая структура портфолио. Титульный лист, на котором содержится информация о ребенке (фамилия, имя, отчество, дата рождения), фиксируется дата начала и дата окончания ведения портфолио, изображение ладошки ребенка на момент начала ведения портфолио и изображение ладошки на момент окончания ведения портфоли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дел 1 «Познакомьтесь со мной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содержит вкладыши «Полюбуйтесь на меня», куда последовательно вклеиваются портреты ребенка, сделанные в разные годы в дни его рождения, и «Обо мне», где содержится информация о времени и месте рождения ребенка, о значении имени ребенка, о дате празднования его именин, небольшой рассказ родителей, почему было выбрано это имя, откуда пошла фамилия, информация о знаменитых тезках и известных однофамильцах, персональная информация ребенка (знак зодиака, гороскопы, талисманы и др.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дел 2 «Я расту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ключает вкладыши «Динамика роста», где дается информация о росте ребенка с первого года жизни, и «Мои достижения за год», где указывается, на сколько сантиметров вырос ребенок, чему научился за прошедший год, например считать до пяти, кувыркаться и д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дел 3 «Моя семья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одержание этого раздела включаются краткие рассказы о членах семьи (кроме личных данных, можно упомянуть профессию, черты характера, любимые занятия, особенности совместного времяпрепровождения с членами семьи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дел 4 «Чем могу — помогу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содержит фотографии ребенка, на которых он изображен за выполнением домашней работ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дел 5 «Мир вокруг нас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данный раздел вносятся небольшие творческие работы ребенка по экскурсиям, познавательным прогулка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дел 6 «Вдохновение зимы (весны, лета, осени)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азделе размещаются детские работы (рисунки, сказки, стихи, фотографии с утренников, записи стихотворений, которые ребенок рассказывал на утреннике и др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Основные требования (критерии) педагогической технологи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Содержимое 3" descr=""/>
          <p:cNvPicPr/>
          <p:nvPr/>
        </p:nvPicPr>
        <p:blipFill>
          <a:blip r:embed="rId1"/>
          <a:stretch/>
        </p:blipFill>
        <p:spPr>
          <a:xfrm>
            <a:off x="384120" y="1481040"/>
            <a:ext cx="832176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 Дмитриева, Е. Егорова также предлагают определенную структуру портфоли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дел 1 «Информация родителей»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тором есть рубрика «Давайте познакомимся», включающая в себя сведения о ребенке, его достижения, которые отметили сами родите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дел 2 «Информация педагогов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ит информацию о наблюдениях педагогов за ребенком во время пребывания его в детском саду в четырех ключевых направлениях: социальные контакты, коммуникативная деятельность, самостоятельное использование различных источников информации и деятельность как таков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дел 3 «Информация ребенка о себе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держит информацию, полученную от самого ребенка (рисунки, игры, которые ребенок сам придумал, рассказы о себе, о друзьях, награды, дипломы, грамоты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. И. Адаменко предлагает следующую структуру портфоли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ок «Какой ребенок хороший»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торый содержит информацию о личностных качествах ребенка и включает в себя: сочинение родителей о ребенке; размышления воспитателей о ребенке; ответы ребенка на вопросы в процессе неформальной беседы «Расскажи о себе»; ответы друзей, других детей на просьбу рассказать о ребенке; самооценку ребенка (итоги теста «Лесенка»); психолого-педагогическую характеристику ребенка; «корзину пожеланий», в содержание которой входят благодарность ребенку — за доброту, щедрость, хороший поступок; благодарственные письма родителям — за воспитание ребен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ок «Какой ребенок умелый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одержит информацию о том, что ребенок умеет, что знает, и включает в себя: ответы родителей на вопросы анкет; отзывы воспитателей о ребенке; рассказы детей о ребенке; рассказы педагогов, к которым ребенок ходит на кружки и секции; оценка участия ребенка в акциях; характеристика психолога познавательных интересов ребенка; грамоты по номинациям — за любознательность, умения, инициативу, самостоятель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ок «Какой ребенок успешный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содержит информацию о творческих способностях ребенка и включает: отзыв родителей о ребенке; рассказ ребенка о своих успехах; творческие работы (рисунки, стихи, проекты); грамоты; иллюстрации успешности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Технология «Портфолио педагог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ременное образование нуждается в новом типе педагог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ворчески думающим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ладеющим современными технологиями образова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емами психолого-педагогической диагностик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ами самостоятельного конструирования педагогического процесса в условиях конкретной практической деятельност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мением прогнозировать свой конечный результа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6929280" y="2428920"/>
            <a:ext cx="200052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уктура портфолио педаго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аздел 1 «Общие сведения о педагог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т раздел позволяет судить о процессе индивидуального личностного развития педагога (фамилия, имя, отчество, год рождения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ование (что и когда окончил, полученная специальность и квалификация по диплому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довой и педагогический стаж, стаж работы в данном образовательном учреждени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квалификации (название структуры, где прослушаны курсы, год, месяц, проблематика курсов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пии документов, подтверждающих наличие ученых и почетных званий и степен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иболее значимые правительственные награды, грамоты, благодарственные письм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пломы различных конкурсов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ие документы по усмотрению педаг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здел 2 «Результаты педагогической деятельност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ние данного раздела формирует представление о динамике результатов деятельности педагога за определенный период. В раздел могут быть включен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ы с результатами освоения детьми реализуемой программ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ериалы, характеризующие уровень развития представлений и умений детей, уровень развития личностных качеств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авнительный анализ деятельности педагога за три года на основании результатов педагогической диагностики, результатов участия воспитанников в различных конкурсах и олимпиадах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результатов обучения воспитанников в первом классе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Раздел 3 «Научно-методическая деятельность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одержание данного раздела помещаются материалы, свидетельствующие о профессионализме педагога. Это могут быть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атериалы, в которых описываются технологии, используемые педагогом в деятельности с детьми, обосновывается их выбор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атериалы, характеризующие работу в методическом объединении, творческой групп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атериалы, подтверждающие участие в профессиональных и творческих педагогических конкурса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неделях педмастерств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проведении семинаров, «круглых столов», мастер-классов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вторские программы, методические разработк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ворческие отчеты, рефераты, доклады, статьи и другие докумен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здел 4 «Развивающая предметно-пространственная  сред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держит информацию об организации развивающей предметно - пространственной среды в группах и кабинета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ы по организации развивающей предметно - пространственной среды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скизы, фотографии и т. 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i?id=520273499-47-72&amp;n=21"/>
          <p:cNvPicPr/>
          <p:nvPr/>
        </p:nvPicPr>
        <p:blipFill>
          <a:blip r:embed="rId1"/>
          <a:stretch/>
        </p:blipFill>
        <p:spPr>
          <a:xfrm>
            <a:off x="3059280" y="4149720"/>
            <a:ext cx="20890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здел 5 «Работа с родителям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держит информацию о работе с родителями воспитанников (планы работы; сценарии мероприятий и др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портфолио позволит самому педагогу проанализировать и представить значимые профессиональные результаты, достижения, обеспечит мониторинг его профессионального ро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Рисунок 4" descr=""/>
          <p:cNvPicPr/>
          <p:nvPr/>
        </p:nvPicPr>
        <p:blipFill>
          <a:blip r:embed="rId1"/>
          <a:stretch/>
        </p:blipFill>
        <p:spPr>
          <a:xfrm>
            <a:off x="2700360" y="4581360"/>
            <a:ext cx="3456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Игровая технолог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нее включаются последовательно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гры и упражнения, формирующие умение выделять основные, характерные признаки предметов, сравнивать, сопоставлять и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 на обобщение предметов по определенным признакам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, в процессе которых у дошкольников развивается умение отличать реальные явления от нереальных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руппы игр, воспитывающих умение владеть собой, быстроту реакции на слово, фонематический слух, смекалку и д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   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357800" y="5214960"/>
            <a:ext cx="1528560" cy="1297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i?id=982326287-43-72&amp;n=21"/>
          <p:cNvPicPr/>
          <p:nvPr/>
        </p:nvPicPr>
        <p:blipFill>
          <a:blip r:embed="rId2"/>
          <a:stretch/>
        </p:blipFill>
        <p:spPr>
          <a:xfrm>
            <a:off x="500040" y="4214880"/>
            <a:ext cx="285768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я «ТРИЗ»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теория решения изобретательских задач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спользования данной технологии в детском саду являе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, с одной стороны, таких качеств мышления, как гибкость, подвижность, системность, диалектичн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другой – поисковой активности, стремления к новизн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и и творческого вообра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а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спользования ТРИЗ- технологии в дошкольном возрасте –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это привить ребенку радость творческих открыт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труктура образовательной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Содержимое 4" descr=""/>
          <p:cNvPicPr/>
          <p:nvPr/>
        </p:nvPicPr>
        <p:blipFill>
          <a:blip r:embed="rId1"/>
          <a:stretch/>
        </p:blipFill>
        <p:spPr>
          <a:xfrm>
            <a:off x="450720" y="1706400"/>
            <a:ext cx="826632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хема с применением метода выявления противоречий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этап – определение положительных и отрицательных свойств качества какого-либо предмета или явления, не вызывающих стойких ассоциаций у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й этап – определение положительных и отрицательных свойств  предмета или явления в цел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шь после того, как ребенок поймет, чего от него хотят взрослые, следует переходить к рассмотрению предметов и явлений, вызывающих стойкие ассоци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Рисунок 3" descr="voprositelnyi-znak-i-dumayuschii-smailik-0001818065-preview"/>
          <p:cNvPicPr/>
          <p:nvPr/>
        </p:nvPicPr>
        <p:blipFill>
          <a:blip r:embed="rId1"/>
          <a:stretch/>
        </p:blipFill>
        <p:spPr>
          <a:xfrm>
            <a:off x="2714760" y="4857840"/>
            <a:ext cx="15127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ий подход, то есть новые педагогические технологии гарантируют достижения дошкольника и в дальнейшем гарантируют их успешное обучение в школ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ждый педагог – творец технологии, даже если имеет дело с заимствованиями. Создание технологии невозможно без творчества. Для педагога, научившегося работать на технологическом уровне, всегда будет главным ориентиром познавательный процесс в его развивающемся состоя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в наших руках, поэтому их нельзя опуск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Рисунок 3" descr=""/>
          <p:cNvPicPr/>
          <p:nvPr/>
        </p:nvPicPr>
        <p:blipFill>
          <a:blip r:embed="rId1"/>
          <a:stretch/>
        </p:blipFill>
        <p:spPr>
          <a:xfrm>
            <a:off x="2928960" y="4572000"/>
            <a:ext cx="136836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Человек не может по настоящему усовершенствоваться, если не помогает усовершенствоваться други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Чарльз Диккен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571920" y="3000240"/>
            <a:ext cx="25210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проектной деятель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исследовательской деятель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онно-коммуникационны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портфолио дошкольника и педагог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ая технолог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«ТРИЗ» и др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Рисунок 4" descr="j0428113[1]"/>
          <p:cNvPicPr/>
          <p:nvPr/>
        </p:nvPicPr>
        <p:blipFill>
          <a:blip r:embed="rId1"/>
          <a:stretch/>
        </p:blipFill>
        <p:spPr>
          <a:xfrm>
            <a:off x="6516720" y="4508640"/>
            <a:ext cx="18716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i?id=365692677-66-72&amp;n=21"/>
          <p:cNvPicPr/>
          <p:nvPr/>
        </p:nvPicPr>
        <p:blipFill>
          <a:blip r:embed="rId1"/>
          <a:stretch/>
        </p:blipFill>
        <p:spPr>
          <a:xfrm>
            <a:off x="3143160" y="457200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Здоровьесберегающие  технолог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760" y="92880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ель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х технологий являетс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ребенку возможности сохранения здоровья, формирование у него необходимых знаний, умений, навыков по здоровому образу жизн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i?id=982326287-43-72&amp;n=21"/>
          <p:cNvPicPr/>
          <p:nvPr/>
        </p:nvPicPr>
        <p:blipFill>
          <a:blip r:embed="rId2"/>
          <a:stretch/>
        </p:blipFill>
        <p:spPr>
          <a:xfrm>
            <a:off x="428760" y="4214880"/>
            <a:ext cx="2571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Классификация здоровьесберегающих технолог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Содержимое 3" descr=""/>
          <p:cNvPicPr/>
          <p:nvPr/>
        </p:nvPicPr>
        <p:blipFill>
          <a:blip r:embed="rId1"/>
          <a:stretch/>
        </p:blipFill>
        <p:spPr>
          <a:xfrm>
            <a:off x="378000" y="1468440"/>
            <a:ext cx="8272440" cy="493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1042920" y="1125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1116000" y="3500280"/>
            <a:ext cx="1655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438120" y="384120"/>
            <a:ext cx="8267760" cy="576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1871640" cy="13986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"/>
          <p:cNvPicPr/>
          <p:nvPr/>
        </p:nvPicPr>
        <p:blipFill>
          <a:blip r:embed="rId3"/>
          <a:stretch/>
        </p:blipFill>
        <p:spPr>
          <a:xfrm>
            <a:off x="1258920" y="5445000"/>
            <a:ext cx="1287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"/>
          <p:cNvPicPr/>
          <p:nvPr/>
        </p:nvPicPr>
        <p:blipFill>
          <a:blip r:embed="rId1"/>
          <a:stretch/>
        </p:blipFill>
        <p:spPr>
          <a:xfrm>
            <a:off x="438120" y="457200"/>
            <a:ext cx="8267760" cy="568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"/>
          <p:cNvPicPr/>
          <p:nvPr/>
        </p:nvPicPr>
        <p:blipFill>
          <a:blip r:embed="rId2"/>
          <a:stretch/>
        </p:blipFill>
        <p:spPr>
          <a:xfrm>
            <a:off x="1332000" y="3573360"/>
            <a:ext cx="1224000" cy="927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i?id=89880877-36-72&amp;n=21"/>
          <p:cNvPicPr/>
          <p:nvPr/>
        </p:nvPicPr>
        <p:blipFill>
          <a:blip r:embed="rId3"/>
          <a:stretch/>
        </p:blipFill>
        <p:spPr>
          <a:xfrm>
            <a:off x="1116000" y="1628640"/>
            <a:ext cx="161604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Бибигуль</cp:lastModifiedBy>
  <dcterms:modified xsi:type="dcterms:W3CDTF">2016-12-26T05:50:25Z</dcterms:modified>
  <cp:revision>158</cp:revision>
  <dc:subject/>
  <dc:title>Слайд 1</dc:title>
</cp:coreProperties>
</file>