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63FF-65DB-4011-BADE-A46FA9C9F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D3E-F134-421C-B697-95B2C263A6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3913-58A2-4E2E-B814-60868D7A41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28E1-EDA5-48DD-97FB-3B7B99B973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A30-1167-4E86-86CA-7278B046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B70-6058-4A99-BD64-94BB511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733-E807-4064-9BC3-109B4C56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D6F-4646-4C3E-9675-FF5AD4D6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880-8A05-4F7B-93B0-35A8A663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99C-6759-42A5-A174-F732DBB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883-8732-4E1E-82EA-9ABFD688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9E2-B1D1-4308-BD1B-B357E2A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86-E537-4310-9D6A-54B1807D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AD3-0ED3-4D4D-BDCB-2CA20A0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ACE-F022-41EE-87B5-6C44C34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FC8-F070-42FD-B49A-8D9CED1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0f6fc6">
                    <a:alpha val="0"/>
                  </a:srgbClr>
                </a:gs>
                <a:gs pos="100000">
                  <a:srgbClr val="e7eb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E78-D368-466E-A5CC-C2719F3AEF11}" type="slidenum"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7"/>
            <p:cNvGrpSpPr/>
            <p:nvPr/>
          </p:nvGrpSpPr>
          <p:grpSpPr>
            <a:xfrm>
              <a:off x="0" y="383760"/>
              <a:ext cx="9144000" cy="6096240"/>
              <a:chOff x="0" y="383760"/>
              <a:chExt cx="9144000" cy="6096240"/>
            </a:xfrm>
          </p:grpSpPr>
          <p:pic>
            <p:nvPicPr>
              <p:cNvPr id="92" name="Rectangl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86640"/>
                <a:ext cx="9144000" cy="60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0" y="383760"/>
                <a:ext cx="9144000" cy="60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0c6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8400" y="692280"/>
            <a:ext cx="8715240" cy="3357360"/>
          </a:xfrm>
          <a:prstGeom prst="rect">
            <a:avLst/>
          </a:prstGeom>
          <a:solidFill>
            <a:srgbClr val="dbf5f9">
              <a:alpha val="64000"/>
            </a:srgbClr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3763"/>
                </a:solidFill>
                <a:latin typeface="Cambria"/>
              </a:rPr>
              <a:t>Особенности оценивания предметных результатов обучающихся начальных классов</a:t>
            </a:r>
            <a:endParaRPr b="0" lang="en-US" sz="4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435640" y="51577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19.03.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410920" y="2060280"/>
            <a:ext cx="62866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образовательной программе должны быть предусмотрены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формы аттестации, оценочные материалы…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своение образовательной программы, в том числе отдельной части или всего объема учебного предмета, курса, дисциплины (модуля) образовательной программы, сопровождается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промежуточной аттестацией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учающихся...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разовательная организация осуществляет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текущий контроль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успеваемости и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промежуточную аттестацию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учающихся, устанавливает их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формы, периодичность и порядок проведения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разовательная организация осуществляет обеспечение функционирования </a:t>
            </a:r>
            <a:r>
              <a:rPr b="1" lang="ru-RU" sz="2000" spc="-1" strike="noStrike">
                <a:solidFill>
                  <a:srgbClr val="ffcc66"/>
                </a:solidFill>
                <a:latin typeface="Cambria"/>
              </a:rPr>
              <a:t>внутренней системы оценки качества образования</a:t>
            </a:r>
            <a:endParaRPr b="0" lang="en-US" sz="20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Федеральный закон от 29 декабря 2012 г.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№ 273-Φ3 "Об образовании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в Российской Федерации"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250920" y="2060640"/>
            <a:ext cx="2089080" cy="4321080"/>
          </a:xfrm>
          <a:custGeom>
            <a:avLst/>
            <a:gdLst>
              <a:gd name="textAreaLeft" fmla="*/ 49320 w 2089080"/>
              <a:gd name="textAreaRight" fmla="*/ 2039760 w 2089080"/>
              <a:gd name="textAreaTop" fmla="*/ 49320 h 4321080"/>
              <a:gd name="textAreaBottom" fmla="*/ 4271760 h 4321080"/>
            </a:gdLst>
            <a:ahLst/>
            <a:rect l="textAreaLeft" t="textAreaTop" r="textAreaRight" b="textAreaBottom"/>
            <a:pathLst>
              <a:path w="21600" h="44674">
                <a:moveTo>
                  <a:pt x="1742" y="0"/>
                </a:moveTo>
                <a:arcTo wR="1742" hR="1742" stAng="16200000" swAng="-5400000"/>
                <a:lnTo>
                  <a:pt x="0" y="42932"/>
                </a:lnTo>
                <a:arcTo wR="1742" hR="1742" stAng="10800000" swAng="-5400000"/>
                <a:lnTo>
                  <a:pt x="19858" y="44674"/>
                </a:lnTo>
                <a:arcTo wR="1742" hR="1742" stAng="5400000" swAng="-5400000"/>
                <a:lnTo>
                  <a:pt x="21600" y="1742"/>
                </a:lnTo>
                <a:arcTo wR="1742" hR="1742" stAng="0" swAng="-5400000"/>
                <a:close/>
              </a:path>
            </a:pathLst>
          </a:custGeom>
          <a:solidFill>
            <a:srgbClr val="ffe3ab"/>
          </a:solidFill>
          <a:ln cap="rnd" w="255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73-ФЗ: ст.2. п.9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. 58. п.1; ст. 59. п.1; ст.28.п.10 и п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Cambria"/>
              </a:rPr>
              <a:t>текущий контроль </a:t>
            </a:r>
            <a:r>
              <a:rPr b="1" i="1" lang="ru-RU" sz="2200" spc="-1" strike="noStrike">
                <a:solidFill>
                  <a:srgbClr val="ffffff"/>
                </a:solidFill>
                <a:latin typeface="Cambria"/>
              </a:rPr>
              <a:t>успеваемости обучающихся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представляет собой систематическую проверку учебных достижений учащихся, проводимую педагогическим работником на уроках (учебных занятиях) в соответствии с образовательной программой;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Cambria"/>
              </a:rPr>
              <a:t>промежуточная аттестация</a:t>
            </a:r>
            <a:r>
              <a:rPr b="1" lang="ru-RU" sz="2800" spc="-1" strike="noStrike">
                <a:solidFill>
                  <a:srgbClr val="ffcc66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это установление уровня достижения результатов освоения учебных предметов, курсов, предусмотренных  образовательной программой; оценка (степень) освоения образовательной программы соответствующего уровня, в том числе отдельной ее части, учебного предмета, курса образовательной программы за учебный год, которая проводится по каждому учебному предмету по итогам учебного года и является основанием для решения вопроса о переводе учащегося в следующих класс.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ОЛОЖЕНИЕ о формах, периодичности и порядке текущего контроля успеваемости и промежуточной аттестации обучающихся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8248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Скругленный прямоугольник 6"/>
          <p:cNvSpPr/>
          <p:nvPr/>
        </p:nvSpPr>
        <p:spPr>
          <a:xfrm>
            <a:off x="324000" y="692280"/>
            <a:ext cx="1655640" cy="151272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стные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2050920" y="549360"/>
            <a:ext cx="6842160" cy="2016000"/>
          </a:xfrm>
          <a:prstGeom prst="roundRect">
            <a:avLst>
              <a:gd name="adj" fmla="val 16667"/>
            </a:avLst>
          </a:prstGeom>
          <a:solidFill>
            <a:srgbClr val="fdfbb7"/>
          </a:solidFill>
          <a:ln cap="rnd" w="255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устный ответ учащегося на один или систему вопросов, беседа, собеседование; выступление с докладом (сообщением) по определенной учителем и/или самостоятельно выбранной теме, защита проектной или исследовательской работы; выразительное чтение (в том числе наизусть) или пересказ текста; исполнение вокальных произведений и другие контрольные процедуры, выполняемые устн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8"/>
          <p:cNvSpPr/>
          <p:nvPr/>
        </p:nvSpPr>
        <p:spPr>
          <a:xfrm>
            <a:off x="324000" y="2708280"/>
            <a:ext cx="1655640" cy="151272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исьмен-ные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Скругленный прямоугольник 9"/>
          <p:cNvSpPr/>
          <p:nvPr/>
        </p:nvSpPr>
        <p:spPr>
          <a:xfrm>
            <a:off x="2050920" y="2708280"/>
            <a:ext cx="6842160" cy="1657440"/>
          </a:xfrm>
          <a:prstGeom prst="roundRect">
            <a:avLst>
              <a:gd name="adj" fmla="val 16667"/>
            </a:avLst>
          </a:prstGeom>
          <a:solidFill>
            <a:srgbClr val="fdfbb7"/>
          </a:solidFill>
          <a:ln cap="rnd" w="255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диктант, изложение текстов, сочинение; решение математических и иных задач с записью решения; создание электронных документов (материалов); реферат; выполнение тестов (в том числе компьютерных), письменные отчёты о наблюдениях и другие работы, результаты которых представляются в письменном вид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Скругленный прямоугольник 10"/>
          <p:cNvSpPr/>
          <p:nvPr/>
        </p:nvSpPr>
        <p:spPr>
          <a:xfrm>
            <a:off x="324000" y="4653000"/>
            <a:ext cx="1655640" cy="151272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ракти-ческие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Скругленный прямоугольник 11"/>
          <p:cNvSpPr/>
          <p:nvPr/>
        </p:nvSpPr>
        <p:spPr>
          <a:xfrm>
            <a:off x="2050920" y="4508640"/>
            <a:ext cx="6842160" cy="1800000"/>
          </a:xfrm>
          <a:prstGeom prst="roundRect">
            <a:avLst>
              <a:gd name="adj" fmla="val 16667"/>
            </a:avLst>
          </a:prstGeom>
          <a:solidFill>
            <a:srgbClr val="fdfbb7"/>
          </a:solidFill>
          <a:ln cap="rnd" w="255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ведение наблюдений; постановка лабораторных опытов (экспериментов); изготовление изделий, моделей, макетов, рисунков и т.д.; выполнение контрольных упражнений, нормативов по физической культуре; выполнение учебной (исследовательской) работы с подготовкой отчета о ходе и результатах этой работы; производство работ с использованием ручного инструмента, машин, станочного и иного технологического оборудова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28400" y="981000"/>
            <a:ext cx="8715240" cy="2276640"/>
          </a:xfrm>
          <a:prstGeom prst="rect">
            <a:avLst/>
          </a:prstGeom>
          <a:solidFill>
            <a:srgbClr val="dbf5f9">
              <a:alpha val="64000"/>
            </a:srgbClr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3763"/>
                </a:solidFill>
                <a:latin typeface="Cambria"/>
              </a:rPr>
              <a:t>Порядок разработки контрольно-измерительных материалов</a:t>
            </a:r>
            <a:endParaRPr b="0" lang="en-US" sz="4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435640" y="51577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19.03.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23640" y="2060280"/>
            <a:ext cx="83739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mbria"/>
              </a:rPr>
              <a:t>Порядок 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проведения оценочной процедуры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mbria"/>
              </a:rPr>
              <a:t>Описание контрольных измерительных материалов 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для проведения оценочной процедуры, которое должно включать: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ецификацию (описание) работы;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емонстрационный вариант работы;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методику шкалирования, в том числе перевода баллов, набранных участниками оценочной процедуры за выполнение работы, в пятибалльную или иную шкалу оценивания в соответствии с целями оценочной процедуры.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250920" y="18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Описание оценочной процедуры  включает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Входной контроль (стартовая работа)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определяет актуальный уровень знаний, необходимый для продолжения обучения, а также намечает «зону ближайшего развития» и предметных знаний, организует коррекционную работу в зоне актуальных знаний.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Диагностическая работ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направлена на проверку пооперационного состава действия, которым необходимо овладеть учащимся в рамках данной учебной задачи.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Проверочная работ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проверяется уровень освоения учащимися предметных способов действия.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Проектная работ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направлена на выявление уровня освоения ключевых компетентностей.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Итоговая работ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включает основные темы учебного года.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Назначение работы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Федеральный государственный образовательный стандарт начального общего образования (приказ Министерства образования и науки РФ от 06.10.2009г. № 373 «Об утверждении и введении федерального государственного образовательного стандарта начального общего образования» (с изменениями и дополнениями)).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сновная образовательная программа начального общего образования МОУ «Пионерская СОШ».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Документы, определяющие содержание работы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Например,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бота состоит из одной части. Работа включает в себя 7 заданий: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2 задания с кратким ответом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3 задания с развернутым ответом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 задание с множественным выбором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 задание с выбором ответа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Структура работы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820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одификаторы проверяемых элементов содержания и требований к уровню подготовки участников/планируемых результатов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11280" y="2276640"/>
          <a:ext cx="6481800" cy="1836720"/>
        </p:xfrm>
        <a:graphic>
          <a:graphicData uri="http://schemas.openxmlformats.org/drawingml/2006/table">
            <a:tbl>
              <a:tblPr/>
              <a:tblGrid>
                <a:gridCol w="936360"/>
                <a:gridCol w="1008360"/>
                <a:gridCol w="4537080"/>
              </a:tblGrid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разде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элемен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элементов содерж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мен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231480" y="1795320"/>
            <a:ext cx="721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дификатор проверяемых элементов содерж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9640" y="4869000"/>
          <a:ext cx="6553440" cy="1834920"/>
        </p:xfrm>
        <a:graphic>
          <a:graphicData uri="http://schemas.openxmlformats.org/drawingml/2006/table">
            <a:tbl>
              <a:tblPr/>
              <a:tblGrid>
                <a:gridCol w="946440"/>
                <a:gridCol w="1164960"/>
                <a:gridCol w="4442040"/>
              </a:tblGrid>
              <a:tr h="8395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д разде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д элемен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Описание планируемых результ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</a:tr>
              <a:tr h="2800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ыпускник научитс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.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20560"/>
                          <a:tab algn="l" pos="630360"/>
                          <a:tab algn="l" pos="2603520"/>
                          <a:tab algn="l" pos="3975120"/>
                          <a:tab algn="l" pos="5232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нируемый 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20560"/>
                          <a:tab algn="l" pos="630360"/>
                          <a:tab algn="l" pos="2603520"/>
                          <a:tab algn="l" pos="3975120"/>
                          <a:tab algn="l" pos="5232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нируемый 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2"/>
          <p:cNvSpPr/>
          <p:nvPr/>
        </p:nvSpPr>
        <p:spPr>
          <a:xfrm>
            <a:off x="389520" y="43876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630360"/>
                <a:tab algn="l" pos="2603520"/>
                <a:tab algn="l" pos="3975120"/>
                <a:tab algn="l" pos="5232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дификатор проверяемых планируемых результ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630360"/>
                <a:tab algn="l" pos="2603520"/>
                <a:tab algn="l" pos="3975120"/>
                <a:tab algn="l" pos="5232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28760" y="2286000"/>
            <a:ext cx="745632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Cambria"/>
              </a:rPr>
              <a:t>Что оцениваем?</a:t>
            </a:r>
            <a:endParaRPr b="0" lang="en-US" sz="3100" spc="-1" strike="noStrike">
              <a:solidFill>
                <a:srgbClr val="ffffff"/>
              </a:solidFill>
              <a:latin typeface="Segoe Condensed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Cambria"/>
              </a:rPr>
              <a:t>Что включаем в понятие «оценка», «оценивание», «отметка»?</a:t>
            </a:r>
            <a:endParaRPr b="0" lang="en-US" sz="3100" spc="-1" strike="noStrike">
              <a:solidFill>
                <a:srgbClr val="ffffff"/>
              </a:solidFill>
              <a:latin typeface="Segoe Condensed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Cambria"/>
              </a:rPr>
              <a:t>Зачем оцениваем?</a:t>
            </a:r>
            <a:endParaRPr b="0" lang="en-US" sz="3100" spc="-1" strike="noStrike">
              <a:solidFill>
                <a:srgbClr val="ffffff"/>
              </a:solidFill>
              <a:latin typeface="Segoe Condensed"/>
            </a:endParaRPr>
          </a:p>
          <a:p>
            <a:pPr marL="315360" indent="-315360" algn="just">
              <a:lnSpc>
                <a:spcPct val="80000"/>
              </a:lnSpc>
              <a:spcBef>
                <a:spcPts val="774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Cambria"/>
              </a:rPr>
              <a:t>Какова школьная система оценки образовательных результатов обучающихся?</a:t>
            </a:r>
            <a:endParaRPr b="0" lang="en-US" sz="31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5600" y="28080"/>
            <a:ext cx="836316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Распределение заданий работы по позициям кодификатора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42920" y="2133720"/>
          <a:ext cx="7416720" cy="1655640"/>
        </p:xfrm>
        <a:graphic>
          <a:graphicData uri="http://schemas.openxmlformats.org/drawingml/2006/table">
            <a:tbl>
              <a:tblPr/>
              <a:tblGrid>
                <a:gridCol w="1073160"/>
                <a:gridCol w="3184560"/>
                <a:gridCol w="3159000"/>
              </a:tblGrid>
              <a:tr h="828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проверяемых элементов содерж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проверяемых планируемых результа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, 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1, 1.1.2, 1.4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Распределение заданий работы по уровню сложности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9640" y="2060640"/>
          <a:ext cx="7920000" cy="2592360"/>
        </p:xfrm>
        <a:graphic>
          <a:graphicData uri="http://schemas.openxmlformats.org/drawingml/2006/table">
            <a:tbl>
              <a:tblPr/>
              <a:tblGrid>
                <a:gridCol w="1355760"/>
                <a:gridCol w="1150920"/>
                <a:gridCol w="1497240"/>
                <a:gridCol w="3916080"/>
              </a:tblGrid>
              <a:tr h="14810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ж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ый ба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максимального первичного бал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выполнение заданий данного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жности от максимального первичного балла за всю работу, равного 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Типы заданий,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сценарии выполнения заданий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1989000"/>
          <a:ext cx="7921800" cy="1708200"/>
        </p:xfrm>
        <a:graphic>
          <a:graphicData uri="http://schemas.openxmlformats.org/drawingml/2006/table">
            <a:tbl>
              <a:tblPr/>
              <a:tblGrid>
                <a:gridCol w="2670480"/>
                <a:gridCol w="5251320"/>
              </a:tblGrid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 задания, сценарий выполнения зад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я с выбором одного правильного отв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Rectangle 1"/>
          <p:cNvSpPr/>
          <p:nvPr/>
        </p:nvSpPr>
        <p:spPr>
          <a:xfrm>
            <a:off x="250920" y="39348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с выбором ответа (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с кратким ответом (К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е на сериацию (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на включение пропущенных в тексте терминов и понятий (Ти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на соотнесение (С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с развернутым ответом (Р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я на классификацию, обобщение и аргументирование своего выбор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Обобщенный план работы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4360" y="1844640"/>
          <a:ext cx="8208720" cy="4535640"/>
        </p:xfrm>
        <a:graphic>
          <a:graphicData uri="http://schemas.openxmlformats.org/drawingml/2006/table">
            <a:tbl>
              <a:tblPr/>
              <a:tblGrid>
                <a:gridCol w="582480"/>
                <a:gridCol w="558720"/>
                <a:gridCol w="1865520"/>
                <a:gridCol w="1630080"/>
                <a:gridCol w="1123920"/>
                <a:gridCol w="792360"/>
                <a:gridCol w="863640"/>
                <a:gridCol w="792000"/>
              </a:tblGrid>
              <a:tr h="17445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части /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л-во зад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нтролируемых элементов содерж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ланируемых результатов/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требований к уровню подготовки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Уровень сло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Тип зад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Максим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ремя выпо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з  кодификатора №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з  кодификатора №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0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истема оценивания выполнения отдельных заданий и работы в целом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rcRect l="38484" t="21781" r="11411" b="19237"/>
          <a:stretch/>
        </p:blipFill>
        <p:spPr>
          <a:xfrm>
            <a:off x="1692360" y="1773360"/>
            <a:ext cx="5759280" cy="36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042920" y="5732640"/>
          <a:ext cx="6842160" cy="792000"/>
        </p:xfrm>
        <a:graphic>
          <a:graphicData uri="http://schemas.openxmlformats.org/drawingml/2006/table">
            <a:tbl>
              <a:tblPr/>
              <a:tblGrid>
                <a:gridCol w="3624480"/>
                <a:gridCol w="804600"/>
                <a:gridCol w="803520"/>
                <a:gridCol w="804600"/>
                <a:gridCol w="804960"/>
              </a:tblGrid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 по четырёхбалльной шка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ый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250920" y="1367640"/>
            <a:ext cx="86058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ремя выполнения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выполнение работы отводиться _____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писание дополнительных материалов и оборудования, необходимых для проведения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полнительных материалов и оборудования для проведения работы не требу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Рекомендации по подготовке к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Дополнительной подготовки к работе не требу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5600" y="28080"/>
            <a:ext cx="836316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Что оцениваем?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Качество результатов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24000" y="1569960"/>
            <a:ext cx="65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  <a:ea typeface="Times New Roman"/>
              </a:rPr>
              <a:t>Качество результатов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(подготовка обучающихся, степень достижения планируемых результатов основной образовательной программы) – описаны в целевом разделе О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  <a:ea typeface="Times New Roman"/>
              </a:rPr>
              <a:t>Качество содержани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(программ, процессов)(комплексная характеристика образовательной деятельност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  <a:ea typeface="Times New Roman"/>
              </a:rPr>
              <a:t>Качество условий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(комплексная характеристика образовательной деятельности) – описаны в организационном разделе О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авая фигурная скобка 4"/>
          <p:cNvSpPr/>
          <p:nvPr/>
        </p:nvSpPr>
        <p:spPr>
          <a:xfrm>
            <a:off x="7093080" y="1773360"/>
            <a:ext cx="358560" cy="4319640"/>
          </a:xfrm>
          <a:custGeom>
            <a:avLst/>
            <a:gdLst>
              <a:gd name="textAreaLeft" fmla="*/ 0 w 358560"/>
              <a:gd name="textAreaRight" fmla="*/ 129600 w 358560"/>
              <a:gd name="textAreaTop" fmla="*/ 9000 h 4319640"/>
              <a:gd name="textAreaBottom" fmla="*/ 431064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Прямоугольник 5" descr=""/>
          <p:cNvPicPr/>
          <p:nvPr/>
        </p:nvPicPr>
        <p:blipFill>
          <a:blip r:embed="rId1"/>
          <a:stretch/>
        </p:blipFill>
        <p:spPr>
          <a:xfrm>
            <a:off x="7381800" y="1981080"/>
            <a:ext cx="1476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ермин </a:t>
            </a: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«оценивание»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носится к любым формам деятельности учителя и 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учеников, оценивающих самих себя,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еспечивающим информацию, которая может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лужить обратной связью и позволяет модифицировать процесс преподавания и учения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(Black,P.andWiliam,D.,1998)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Что значит «оценивать»?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859040"/>
            <a:ext cx="8291520" cy="4638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Функции оценивания: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Прямая соединительная линия 5"/>
          <p:cNvSpPr/>
          <p:nvPr/>
        </p:nvSpPr>
        <p:spPr>
          <a:xfrm flipH="1" flipV="1">
            <a:off x="5651640" y="5300280"/>
            <a:ext cx="1944720" cy="1081080"/>
          </a:xfrm>
          <a:prstGeom prst="line">
            <a:avLst/>
          </a:prstGeom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 flipH="1">
            <a:off x="5651280" y="5300640"/>
            <a:ext cx="1873080" cy="1081080"/>
          </a:xfrm>
          <a:prstGeom prst="line">
            <a:avLst/>
          </a:prstGeom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Критериальное оценивание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11630" t="46570" r="14037" b="16752"/>
          <a:stretch/>
        </p:blipFill>
        <p:spPr>
          <a:xfrm>
            <a:off x="395280" y="2133720"/>
            <a:ext cx="8561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ИСТЕМА ОЦЕНКИ. Рамка. Ориентир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ланируемые результаты основной образовательной программы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324000" y="1989000"/>
            <a:ext cx="1655640" cy="1079640"/>
          </a:xfrm>
          <a:prstGeom prst="roundRect">
            <a:avLst>
              <a:gd name="adj" fmla="val 16667"/>
            </a:avLst>
          </a:prstGeom>
          <a:solidFill>
            <a:srgbClr val="ffe3ab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Г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2700360" y="1989000"/>
            <a:ext cx="1655640" cy="1079640"/>
          </a:xfrm>
          <a:prstGeom prst="roundRect">
            <a:avLst>
              <a:gd name="adj" fmla="val 16667"/>
            </a:avLst>
          </a:prstGeom>
          <a:solidFill>
            <a:srgbClr val="ffe3ab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мерная ОО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ый прямоугольник 5"/>
          <p:cNvSpPr/>
          <p:nvPr/>
        </p:nvSpPr>
        <p:spPr>
          <a:xfrm>
            <a:off x="5003640" y="1989000"/>
            <a:ext cx="1656000" cy="1079640"/>
          </a:xfrm>
          <a:prstGeom prst="roundRect">
            <a:avLst>
              <a:gd name="adj" fmla="val 16667"/>
            </a:avLst>
          </a:prstGeom>
          <a:solidFill>
            <a:srgbClr val="ffe3ab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ОП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Скругленный прямоугольник 6"/>
          <p:cNvSpPr/>
          <p:nvPr/>
        </p:nvSpPr>
        <p:spPr>
          <a:xfrm>
            <a:off x="7236000" y="1989000"/>
            <a:ext cx="1657080" cy="1079640"/>
          </a:xfrm>
          <a:prstGeom prst="roundRect">
            <a:avLst>
              <a:gd name="adj" fmla="val 16667"/>
            </a:avLst>
          </a:prstGeom>
          <a:solidFill>
            <a:srgbClr val="ffe3ab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абочая программа по предме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Штриховая стрелка вправо 7"/>
          <p:cNvSpPr/>
          <p:nvPr/>
        </p:nvSpPr>
        <p:spPr>
          <a:xfrm>
            <a:off x="2124000" y="2205000"/>
            <a:ext cx="432000" cy="719280"/>
          </a:xfrm>
          <a:custGeom>
            <a:avLst/>
            <a:gdLst/>
            <a:ahLst/>
            <a:rect l="l" t="t" r="r" b="b"/>
            <a:pathLst>
              <a:path w="431800" h="719137">
                <a:moveTo>
                  <a:pt x="0" y="179784"/>
                </a:moveTo>
                <a:lnTo>
                  <a:pt x="13494" y="179784"/>
                </a:lnTo>
                <a:lnTo>
                  <a:pt x="13494" y="539353"/>
                </a:lnTo>
                <a:lnTo>
                  <a:pt x="0" y="539353"/>
                </a:lnTo>
                <a:lnTo>
                  <a:pt x="0" y="179784"/>
                </a:lnTo>
                <a:close/>
                <a:moveTo>
                  <a:pt x="26988" y="179784"/>
                </a:moveTo>
                <a:lnTo>
                  <a:pt x="53975" y="179784"/>
                </a:lnTo>
                <a:lnTo>
                  <a:pt x="53975" y="539353"/>
                </a:lnTo>
                <a:lnTo>
                  <a:pt x="26988" y="539353"/>
                </a:lnTo>
                <a:lnTo>
                  <a:pt x="26988" y="179784"/>
                </a:lnTo>
                <a:close/>
                <a:moveTo>
                  <a:pt x="67469" y="179784"/>
                </a:moveTo>
                <a:lnTo>
                  <a:pt x="215900" y="179784"/>
                </a:lnTo>
                <a:lnTo>
                  <a:pt x="215900" y="0"/>
                </a:lnTo>
                <a:lnTo>
                  <a:pt x="431800" y="359569"/>
                </a:lnTo>
                <a:lnTo>
                  <a:pt x="215900" y="719137"/>
                </a:lnTo>
                <a:lnTo>
                  <a:pt x="215900" y="539353"/>
                </a:lnTo>
                <a:lnTo>
                  <a:pt x="67469" y="539353"/>
                </a:lnTo>
                <a:lnTo>
                  <a:pt x="67469" y="179784"/>
                </a:lnTo>
                <a:close/>
              </a:path>
            </a:pathLst>
          </a:custGeom>
          <a:solidFill>
            <a:srgbClr val="c8e3fb"/>
          </a:solidFill>
          <a:ln cap="rnd" w="6480">
            <a:solidFill>
              <a:srgbClr val="a3c144"/>
            </a:solidFill>
            <a:round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Штриховая стрелка вправо 8"/>
          <p:cNvSpPr/>
          <p:nvPr/>
        </p:nvSpPr>
        <p:spPr>
          <a:xfrm>
            <a:off x="4500720" y="2205000"/>
            <a:ext cx="431640" cy="719280"/>
          </a:xfrm>
          <a:custGeom>
            <a:avLst/>
            <a:gdLst/>
            <a:ahLst/>
            <a:rect l="l" t="t" r="r" b="b"/>
            <a:pathLst>
              <a:path w="431800" h="719137">
                <a:moveTo>
                  <a:pt x="0" y="179784"/>
                </a:moveTo>
                <a:lnTo>
                  <a:pt x="13494" y="179784"/>
                </a:lnTo>
                <a:lnTo>
                  <a:pt x="13494" y="539353"/>
                </a:lnTo>
                <a:lnTo>
                  <a:pt x="0" y="539353"/>
                </a:lnTo>
                <a:lnTo>
                  <a:pt x="0" y="179784"/>
                </a:lnTo>
                <a:close/>
                <a:moveTo>
                  <a:pt x="26988" y="179784"/>
                </a:moveTo>
                <a:lnTo>
                  <a:pt x="53975" y="179784"/>
                </a:lnTo>
                <a:lnTo>
                  <a:pt x="53975" y="539353"/>
                </a:lnTo>
                <a:lnTo>
                  <a:pt x="26988" y="539353"/>
                </a:lnTo>
                <a:lnTo>
                  <a:pt x="26988" y="179784"/>
                </a:lnTo>
                <a:close/>
                <a:moveTo>
                  <a:pt x="67469" y="179784"/>
                </a:moveTo>
                <a:lnTo>
                  <a:pt x="215900" y="179784"/>
                </a:lnTo>
                <a:lnTo>
                  <a:pt x="215900" y="0"/>
                </a:lnTo>
                <a:lnTo>
                  <a:pt x="431800" y="359569"/>
                </a:lnTo>
                <a:lnTo>
                  <a:pt x="215900" y="719137"/>
                </a:lnTo>
                <a:lnTo>
                  <a:pt x="215900" y="539353"/>
                </a:lnTo>
                <a:lnTo>
                  <a:pt x="67469" y="539353"/>
                </a:lnTo>
                <a:lnTo>
                  <a:pt x="67469" y="179784"/>
                </a:lnTo>
                <a:close/>
              </a:path>
            </a:pathLst>
          </a:custGeom>
          <a:solidFill>
            <a:srgbClr val="c8e3fb"/>
          </a:solidFill>
          <a:ln cap="rnd" w="6480">
            <a:solidFill>
              <a:srgbClr val="a3c144"/>
            </a:solidFill>
            <a:round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Штриховая стрелка вправо 9"/>
          <p:cNvSpPr/>
          <p:nvPr/>
        </p:nvSpPr>
        <p:spPr>
          <a:xfrm>
            <a:off x="6732720" y="2205000"/>
            <a:ext cx="431640" cy="719280"/>
          </a:xfrm>
          <a:custGeom>
            <a:avLst/>
            <a:gdLst/>
            <a:ahLst/>
            <a:rect l="l" t="t" r="r" b="b"/>
            <a:pathLst>
              <a:path w="431800" h="719137">
                <a:moveTo>
                  <a:pt x="0" y="179784"/>
                </a:moveTo>
                <a:lnTo>
                  <a:pt x="13494" y="179784"/>
                </a:lnTo>
                <a:lnTo>
                  <a:pt x="13494" y="539353"/>
                </a:lnTo>
                <a:lnTo>
                  <a:pt x="0" y="539353"/>
                </a:lnTo>
                <a:lnTo>
                  <a:pt x="0" y="179784"/>
                </a:lnTo>
                <a:close/>
                <a:moveTo>
                  <a:pt x="26988" y="179784"/>
                </a:moveTo>
                <a:lnTo>
                  <a:pt x="53975" y="179784"/>
                </a:lnTo>
                <a:lnTo>
                  <a:pt x="53975" y="539353"/>
                </a:lnTo>
                <a:lnTo>
                  <a:pt x="26988" y="539353"/>
                </a:lnTo>
                <a:lnTo>
                  <a:pt x="26988" y="179784"/>
                </a:lnTo>
                <a:close/>
                <a:moveTo>
                  <a:pt x="67469" y="179784"/>
                </a:moveTo>
                <a:lnTo>
                  <a:pt x="215900" y="179784"/>
                </a:lnTo>
                <a:lnTo>
                  <a:pt x="215900" y="0"/>
                </a:lnTo>
                <a:lnTo>
                  <a:pt x="431800" y="359569"/>
                </a:lnTo>
                <a:lnTo>
                  <a:pt x="215900" y="719137"/>
                </a:lnTo>
                <a:lnTo>
                  <a:pt x="215900" y="539353"/>
                </a:lnTo>
                <a:lnTo>
                  <a:pt x="67469" y="539353"/>
                </a:lnTo>
                <a:lnTo>
                  <a:pt x="67469" y="179784"/>
                </a:lnTo>
                <a:close/>
              </a:path>
            </a:pathLst>
          </a:custGeom>
          <a:solidFill>
            <a:srgbClr val="c8e3fb"/>
          </a:solidFill>
          <a:ln cap="rnd" w="6480">
            <a:solidFill>
              <a:srgbClr val="a3c144"/>
            </a:solidFill>
            <a:round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кругленный прямоугольник 10"/>
          <p:cNvSpPr/>
          <p:nvPr/>
        </p:nvSpPr>
        <p:spPr>
          <a:xfrm>
            <a:off x="324000" y="3284640"/>
            <a:ext cx="8496000" cy="3240000"/>
          </a:xfrm>
          <a:prstGeom prst="roundRect">
            <a:avLst>
              <a:gd name="adj" fmla="val 8102"/>
            </a:avLst>
          </a:prstGeom>
          <a:solidFill>
            <a:srgbClr val="c8e3fb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езульта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чностные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система ценностных отношений, интересов, мотивации учащихся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ета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межпредметные понятия и универсальные учебные действия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знания и умения, опыт творческой и другой деятельности и др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ланируемые результаты основной образовательной программы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Скругленный прямоугольник 12"/>
          <p:cNvSpPr/>
          <p:nvPr/>
        </p:nvSpPr>
        <p:spPr>
          <a:xfrm>
            <a:off x="539640" y="1989000"/>
            <a:ext cx="3456000" cy="1152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Личност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Скругленный прямоугольник 13"/>
          <p:cNvSpPr/>
          <p:nvPr/>
        </p:nvSpPr>
        <p:spPr>
          <a:xfrm>
            <a:off x="5003640" y="1989000"/>
            <a:ext cx="3456000" cy="1152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етапредмет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14"/>
          <p:cNvSpPr/>
          <p:nvPr/>
        </p:nvSpPr>
        <p:spPr>
          <a:xfrm>
            <a:off x="2771640" y="4797360"/>
            <a:ext cx="3456000" cy="1152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едмет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авая фигурная скобка 15"/>
          <p:cNvSpPr/>
          <p:nvPr/>
        </p:nvSpPr>
        <p:spPr>
          <a:xfrm rot="5400000">
            <a:off x="4068000" y="1413360"/>
            <a:ext cx="792000" cy="4680000"/>
          </a:xfrm>
          <a:custGeom>
            <a:avLst/>
            <a:gdLst>
              <a:gd name="textAreaLeft" fmla="*/ 0 w 792000"/>
              <a:gd name="textAreaRight" fmla="*/ 285840 w 792000"/>
              <a:gd name="textAreaTop" fmla="*/ 20520 h 4680000"/>
              <a:gd name="textAreaBottom" fmla="*/ 465948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5400" y="21600"/>
                  <a:pt x="0" y="21600"/>
                </a:cubicBezTo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Прямая со стрелкой 17"/>
          <p:cNvCxnSpPr/>
          <p:nvPr/>
        </p:nvCxnSpPr>
        <p:spPr>
          <a:xfrm>
            <a:off x="971280" y="3284640"/>
            <a:ext cx="1656360" cy="180072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 flipH="1">
            <a:off x="6371640" y="3284640"/>
            <a:ext cx="1585080" cy="194544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TextBox 20"/>
          <p:cNvSpPr/>
          <p:nvPr/>
        </p:nvSpPr>
        <p:spPr>
          <a:xfrm rot="2793600">
            <a:off x="64080" y="387648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отив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 rot="18657600">
            <a:off x="6484320" y="41540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трелка вправо с вырезом 22"/>
          <p:cNvSpPr/>
          <p:nvPr/>
        </p:nvSpPr>
        <p:spPr>
          <a:xfrm rot="5400000">
            <a:off x="4176360" y="4113000"/>
            <a:ext cx="574560" cy="647640"/>
          </a:xfrm>
          <a:custGeom>
            <a:avLst/>
            <a:gdLst>
              <a:gd name="textAreaLeft" fmla="*/ 143640 w 574560"/>
              <a:gd name="textAreaRight" fmla="*/ 430920 w 5745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В чем проявляется достижени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планируемых результатов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rcRect l="17220" t="32283" r="23424" b="8656"/>
          <a:stretch/>
        </p:blipFill>
        <p:spPr>
          <a:xfrm>
            <a:off x="539640" y="1700280"/>
            <a:ext cx="8080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4:35:41Z</dcterms:created>
  <dc:creator/>
  <dc:description/>
  <dc:language>en-US</dc:language>
  <cp:lastModifiedBy/>
  <dcterms:modified xsi:type="dcterms:W3CDTF">2019-03-19T03:52:43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1659611049</vt:lpwstr>
  </property>
</Properties>
</file>