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7F6-4428-4759-B3B7-9FCE17A7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620-C0AB-46AC-8C5E-223E2918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00E-FC8A-4A04-871A-ADE4839B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CF7-34F9-410D-A640-24BA551A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AB0-3C92-4D5F-B0D4-5360D4F5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7B2-F254-40A6-A8EC-389ED6E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E5E-DCFA-4078-BA72-4E58567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8B6-07E5-468C-BD82-3E5E92BA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222-BBF3-4F1F-8F54-0A4C143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D33-DD78-48B3-9DAC-953CD2F5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B85-6798-4AEC-AE1A-AE716A3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DAE-4275-4496-8A7E-78871F4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2292-9496-4F05-85D2-25A1BB91E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24.png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1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image" Target="../media/image6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-9360" y="0"/>
            <a:ext cx="9153360" cy="144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065320" y="1052640"/>
            <a:ext cx="50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ргинская средняя общеобразовательн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32000" y="1636560"/>
            <a:ext cx="706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 - 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228600" y="3860640"/>
            <a:ext cx="8736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деятельность может быть либо технологией, либо искусством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основано на интуиции, технология – на на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кусства всё начинается, технологией – заканчив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тем всё началось с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П. Беспа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989000" y="760320"/>
            <a:ext cx="7061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ория 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шения 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бретательских 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3"/>
          <a:stretch/>
        </p:blipFill>
        <p:spPr>
          <a:xfrm>
            <a:off x="328680" y="1914480"/>
            <a:ext cx="2444760" cy="71740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442080" y="5473800"/>
            <a:ext cx="22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рих Сау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тшул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26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2987640" y="255744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З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ниверсальная методическая система, которая сочетает познавательную деятельность с методами активизации и развития мышления, что позволяет ребенку решать творческие и социальные задачи самостоятельн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0_6bbf5_b5b7c4e5_L"/>
          <p:cNvPicPr/>
          <p:nvPr/>
        </p:nvPicPr>
        <p:blipFill>
          <a:blip r:embed="rId1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2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2643120" y="1500120"/>
            <a:ext cx="6207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  “Хорошо-плохо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приём ТРИЗ, направленный на активизацию мыслительной деятельности учащихся на уроке, формирующий представление о том, как устроено противоре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2143080" y="3929040"/>
            <a:ext cx="7137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Формиру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находить положительные и отрицательные стороны в любом объекте, ситу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зрешать противоречия (убирать «минусы», сохраняя «плюсы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ценивать объект, ситуацию с разных позиций, учитывая разные р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781200" y="1500120"/>
            <a:ext cx="1584000" cy="2170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652320" y="1596960"/>
            <a:ext cx="12067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Лепесток ромашки шаблон распечатать - найдем вам образец"/>
          <p:cNvPicPr/>
          <p:nvPr/>
        </p:nvPicPr>
        <p:blipFill>
          <a:blip r:embed="rId5"/>
          <a:stretch/>
        </p:blipFill>
        <p:spPr>
          <a:xfrm>
            <a:off x="212760" y="1566720"/>
            <a:ext cx="1433520" cy="21272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" descr=""/>
          <p:cNvPicPr/>
          <p:nvPr/>
        </p:nvPicPr>
        <p:blipFill>
          <a:blip r:embed="rId6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1" descr="Лепесток ромашки шаблон распечатать - найдем вам образец"/>
          <p:cNvPicPr/>
          <p:nvPr/>
        </p:nvPicPr>
        <p:blipFill>
          <a:blip r:embed="rId7"/>
          <a:stretch/>
        </p:blipFill>
        <p:spPr>
          <a:xfrm>
            <a:off x="781200" y="1639800"/>
            <a:ext cx="196200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Лепесток ромашки шаблон распечатать - найдем вам образец"/>
          <p:cNvPicPr/>
          <p:nvPr/>
        </p:nvPicPr>
        <p:blipFill>
          <a:blip r:embed="rId8"/>
          <a:stretch/>
        </p:blipFill>
        <p:spPr>
          <a:xfrm>
            <a:off x="1000080" y="1925640"/>
            <a:ext cx="5192640" cy="36273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 rot="20688000">
            <a:off x="1515240" y="330984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ссуждаю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1881360" y="704880"/>
            <a:ext cx="706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L 0.18907 0.13657 E">
                                      <p:cBhvr>
                                        <p:cTn id="208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6"/>
          <p:cNvSpPr/>
          <p:nvPr/>
        </p:nvSpPr>
        <p:spPr>
          <a:xfrm>
            <a:off x="3203640" y="1643040"/>
            <a:ext cx="59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ТРИ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ышления учащихся, подготовка их к решению нестандартных задач в различных областях деятельности, обучение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2928960" y="2286000"/>
            <a:ext cx="6357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ТРИЗ-техн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ор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ие творческого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струмент, основа творческой инту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ворчеству можно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971640" y="1666800"/>
            <a:ext cx="65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оценке психологов, технология ТРИЗ формирует у детей такие мыслительные способности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, рассуждать, обосновы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  обобщать, делать вы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гинально и гибко мысли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ктивно использовать вооб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1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1881360" y="4216320"/>
            <a:ext cx="81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8 и 4: 11 или 18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"часы" - пишется как "чесы" или "чисы"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стрее плавает – голубь  или цыплен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2843280" y="1566720"/>
            <a:ext cx="6099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 “Ложная альтернатив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прием ТРИЗ. Внимание слушателя уводится в сторону с помощью альтернативы "или-или", совершенно произвольно выраженной. Ни один из предлагаемых ответов не является вер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Лепесток ромашки шаблон распечатать - найдем вам образец"/>
          <p:cNvPicPr/>
          <p:nvPr/>
        </p:nvPicPr>
        <p:blipFill>
          <a:blip r:embed="rId2"/>
          <a:stretch/>
        </p:blipFill>
        <p:spPr>
          <a:xfrm>
            <a:off x="682560" y="1511280"/>
            <a:ext cx="1311480" cy="2079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-128520" y="1736640"/>
            <a:ext cx="1824120" cy="2202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895320" y="1566720"/>
            <a:ext cx="1951200" cy="21877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5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0_6bbf5_b5b7c4e5_L"/>
          <p:cNvPicPr/>
          <p:nvPr/>
        </p:nvPicPr>
        <p:blipFill>
          <a:blip r:embed="rId6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8" descr="Лепесток ромашки шаблон распечатать - найдем вам образец"/>
          <p:cNvPicPr/>
          <p:nvPr/>
        </p:nvPicPr>
        <p:blipFill>
          <a:blip r:embed="rId7"/>
          <a:stretch/>
        </p:blipFill>
        <p:spPr>
          <a:xfrm>
            <a:off x="969840" y="1908000"/>
            <a:ext cx="5199120" cy="36338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 rot="20688000">
            <a:off x="2058480" y="3309840"/>
            <a:ext cx="27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обую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1881360" y="704880"/>
            <a:ext cx="706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8"/>
          <p:cNvSpPr/>
          <p:nvPr/>
        </p:nvSpPr>
        <p:spPr>
          <a:xfrm>
            <a:off x="957240" y="3141720"/>
            <a:ext cx="614520" cy="523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L 0.19687 0.11551 E">
                                      <p:cBhvr>
                                        <p:cTn id="248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3" descr="0_6bbf5_b5b7c4e5_L"/>
          <p:cNvPicPr/>
          <p:nvPr/>
        </p:nvPicPr>
        <p:blipFill>
          <a:blip r:embed="rId1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2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"/>
          <p:cNvSpPr/>
          <p:nvPr/>
        </p:nvSpPr>
        <p:spPr>
          <a:xfrm>
            <a:off x="2843280" y="1566720"/>
            <a:ext cx="6300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 “Перевёртыши”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каждого выявленного свойства называются противоположные оценочные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ёртыши могут быть самые различные - пословиц, строчек из стихов, песен и др. Необходимо к каждому слову полученной фразы подобрать антоним, то есть расшифровать переверт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082960" y="4917960"/>
            <a:ext cx="706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ая ночь". ("Добрый день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Ваня тихо смеется. ("Наша Таня громко плач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781200" y="1500120"/>
            <a:ext cx="1584000" cy="2170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927000" y="1712880"/>
            <a:ext cx="2121120" cy="20908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"/>
          <p:cNvPicPr/>
          <p:nvPr/>
        </p:nvPicPr>
        <p:blipFill>
          <a:blip r:embed="rId5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Лепесток ромашки шаблон распечатать - найдем вам образец"/>
          <p:cNvPicPr/>
          <p:nvPr/>
        </p:nvPicPr>
        <p:blipFill>
          <a:blip r:embed="rId6"/>
          <a:stretch/>
        </p:blipFill>
        <p:spPr>
          <a:xfrm>
            <a:off x="1000080" y="1925640"/>
            <a:ext cx="5192640" cy="36273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 rot="20688000">
            <a:off x="2433600" y="33098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1881360" y="704880"/>
            <a:ext cx="706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6"/>
          <p:cNvSpPr/>
          <p:nvPr/>
        </p:nvSpPr>
        <p:spPr>
          <a:xfrm>
            <a:off x="957240" y="3141720"/>
            <a:ext cx="614520" cy="523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15747 0.12593 E">
                                      <p:cBhvr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174600" y="1094400"/>
            <a:ext cx="896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ертыши строчек из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Огороды засеяны, клумбы в одежде</a:t>
            </a: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ю у распахнутого настежь окна залитой светом сухой комн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воя племянница заурядных подлых беззако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че, кошки, пес в подвал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забыла ужасную ве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ы ушла от меня, не попрощавш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ылетел комар из п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ылда-дочь от мамы смылась</a:t>
            </a: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5494320" y="191628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ивы сжаты, рощи г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549800" y="270828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ижу за решеткой в темнице сыр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627120" y="335772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ой дядя самых честных правил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578480" y="37879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ише, мыши, кот на кр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4942440" y="415764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Я помню чудное мгновен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342000" y="486900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Я пришел к тебе с привето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4008960" y="523872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ела муха на варен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4444200" y="560880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рошка-сын к отцу приш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332000" y="714240"/>
            <a:ext cx="706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 послов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http://si-sv.com/Diya-statei/Ds3/01.jpg"/>
          <p:cNvPicPr/>
          <p:nvPr/>
        </p:nvPicPr>
        <p:blipFill>
          <a:blip r:embed="rId3"/>
          <a:stretch/>
        </p:blipFill>
        <p:spPr>
          <a:xfrm>
            <a:off x="2143080" y="1549440"/>
            <a:ext cx="4969080" cy="5308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Забавная статистика в схемах и графиках (часть 1) &quot; Обзоры новинок мира кино и искусства, рецензии на старые фильмы и онлайн про"/>
          <p:cNvPicPr/>
          <p:nvPr/>
        </p:nvPicPr>
        <p:blipFill>
          <a:blip r:embed="rId4"/>
          <a:stretch/>
        </p:blipFill>
        <p:spPr>
          <a:xfrm>
            <a:off x="0" y="1776240"/>
            <a:ext cx="9050400" cy="508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Весёлая статистика в диаграммах и графиках - Дизайн квартир и красивые фото - Дизайн квартир и красивые фото"/>
          <p:cNvPicPr/>
          <p:nvPr/>
        </p:nvPicPr>
        <p:blipFill>
          <a:blip r:embed="rId5"/>
          <a:srcRect l="0" t="0" r="2103" b="3780"/>
          <a:stretch/>
        </p:blipFill>
        <p:spPr>
          <a:xfrm>
            <a:off x="0" y="1719360"/>
            <a:ext cx="8139240" cy="439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Пословицы и поговорки в графиках и диаграммах (20 штук) &quot; Фотоприколы, фото девушек и животных на Ex.BY"/>
          <p:cNvPicPr/>
          <p:nvPr/>
        </p:nvPicPr>
        <p:blipFill>
          <a:blip r:embed="rId6"/>
          <a:stretch/>
        </p:blipFill>
        <p:spPr>
          <a:xfrm>
            <a:off x="1619280" y="1521000"/>
            <a:ext cx="6165720" cy="5337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Весёлая статистика в диаграммах и графиках - Дизайн квартир и красивые фото - Дизайн квартир и красивые фото"/>
          <p:cNvPicPr/>
          <p:nvPr/>
        </p:nvPicPr>
        <p:blipFill>
          <a:blip r:embed="rId7"/>
          <a:srcRect l="0" t="0" r="14891" b="10181"/>
          <a:stretch/>
        </p:blipFill>
        <p:spPr>
          <a:xfrm>
            <a:off x="1619280" y="1527120"/>
            <a:ext cx="5867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ровер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голова хорошо, а две лучш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никогда не поздно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к живи-век учись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семи нянек дитя без гла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ь пятниц на неде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ро вечера мудрене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7"/>
          <p:cNvSpPr/>
          <p:nvPr/>
        </p:nvSpPr>
        <p:spPr>
          <a:xfrm>
            <a:off x="1220760" y="771480"/>
            <a:ext cx="706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ё в твоих ру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Картинка &quot;Как с помощью ладони воздействовать на внутренние органы.&quot;, картинки, прикольные картинки, фотоприколы, демотиваторы J"/>
          <p:cNvPicPr/>
          <p:nvPr/>
        </p:nvPicPr>
        <p:blipFill>
          <a:blip r:embed="rId3"/>
          <a:stretch/>
        </p:blipFill>
        <p:spPr>
          <a:xfrm>
            <a:off x="2417760" y="1500120"/>
            <a:ext cx="46688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124080" y="188136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Лепесток ромашки шаблон распечатать - найдем вам образец"/>
          <p:cNvPicPr/>
          <p:nvPr/>
        </p:nvPicPr>
        <p:blipFill>
          <a:blip r:embed="rId2"/>
          <a:stretch/>
        </p:blipFill>
        <p:spPr>
          <a:xfrm>
            <a:off x="927000" y="1566720"/>
            <a:ext cx="2108160" cy="21034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3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0_6bbf5_b5b7c4e5_L"/>
          <p:cNvPicPr/>
          <p:nvPr/>
        </p:nvPicPr>
        <p:blipFill>
          <a:blip r:embed="rId4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5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Лепесток ромашки шаблон распечатать - найдем вам образец"/>
          <p:cNvPicPr/>
          <p:nvPr/>
        </p:nvPicPr>
        <p:blipFill>
          <a:blip r:embed="rId6"/>
          <a:stretch/>
        </p:blipFill>
        <p:spPr>
          <a:xfrm>
            <a:off x="957240" y="1908000"/>
            <a:ext cx="5194440" cy="36338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2"/>
          <p:cNvSpPr/>
          <p:nvPr/>
        </p:nvSpPr>
        <p:spPr>
          <a:xfrm rot="20688000">
            <a:off x="1730160" y="2940120"/>
            <a:ext cx="34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луча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957240" y="3141720"/>
            <a:ext cx="614520" cy="523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600880" y="355932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важным и интересным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5295960" y="2075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у  использовать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знала сегодн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5041800" y="1112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трудно (мне не понравилось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V="1">
            <a:off x="5259240" y="1590840"/>
            <a:ext cx="854280" cy="79056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5959440" y="2479680"/>
            <a:ext cx="909720" cy="4716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418440" y="4254480"/>
            <a:ext cx="909360" cy="4716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4067280" y="1833480"/>
            <a:ext cx="320400" cy="82728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 flipH="1" flipV="1">
            <a:off x="2571840" y="1928520"/>
            <a:ext cx="1006560" cy="121284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8"/>
          <p:cNvSpPr/>
          <p:nvPr/>
        </p:nvSpPr>
        <p:spPr>
          <a:xfrm>
            <a:off x="1214280" y="928800"/>
            <a:ext cx="18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недостато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2913120" y="892080"/>
            <a:ext cx="26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оценка психологической атмосферы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0.19687 0.15763 E">
                                      <p:cBhvr>
                                        <p:cTn id="38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-9360" y="0"/>
            <a:ext cx="91533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i.penzainform.ru/sales/work/vacancy/priglashayu_na_rabotu_0003547DH/327296.jpg"/>
          <p:cNvPicPr/>
          <p:nvPr/>
        </p:nvPicPr>
        <p:blipFill>
          <a:blip r:embed="rId3"/>
          <a:stretch/>
        </p:blipFill>
        <p:spPr>
          <a:xfrm>
            <a:off x="176040" y="1500120"/>
            <a:ext cx="3097440" cy="412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2517840" y="985680"/>
            <a:ext cx="706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ок  желаний 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3348000" y="2041560"/>
            <a:ext cx="5786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ти» в профессиональной   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1"/>
          <a:srcRect l="0" t="32548" r="0" b="0"/>
          <a:stretch/>
        </p:blipFill>
        <p:spPr>
          <a:xfrm>
            <a:off x="3767040" y="4981680"/>
            <a:ext cx="1135080" cy="1598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 rot="5931000">
            <a:off x="5141880" y="3340440"/>
            <a:ext cx="1459080" cy="27529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2298600" y="1859040"/>
            <a:ext cx="2700360" cy="31273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" descr="Лепесток ромашки шаблон распечатать - найдем вам образец"/>
          <p:cNvPicPr/>
          <p:nvPr/>
        </p:nvPicPr>
        <p:blipFill>
          <a:blip r:embed="rId5"/>
          <a:stretch/>
        </p:blipFill>
        <p:spPr>
          <a:xfrm>
            <a:off x="1749600" y="3279600"/>
            <a:ext cx="2841480" cy="20242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Лепесток ромашки шаблон распечатать - найдем вам образец"/>
          <p:cNvPicPr/>
          <p:nvPr/>
        </p:nvPicPr>
        <p:blipFill>
          <a:blip r:embed="rId6"/>
          <a:stretch/>
        </p:blipFill>
        <p:spPr>
          <a:xfrm>
            <a:off x="1957320" y="4114800"/>
            <a:ext cx="2859120" cy="26766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"/>
          <p:cNvPicPr/>
          <p:nvPr/>
        </p:nvPicPr>
        <p:blipFill>
          <a:blip r:embed="rId7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1" descr="Лепесток ромашки шаблон распечатать - найдем вам образец"/>
          <p:cNvPicPr/>
          <p:nvPr/>
        </p:nvPicPr>
        <p:blipFill>
          <a:blip r:embed="rId8"/>
          <a:stretch/>
        </p:blipFill>
        <p:spPr>
          <a:xfrm>
            <a:off x="3882960" y="4211640"/>
            <a:ext cx="2359080" cy="2805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Лепесток ромашки шаблон распечатать - найдем вам образец"/>
          <p:cNvPicPr/>
          <p:nvPr/>
        </p:nvPicPr>
        <p:blipFill>
          <a:blip r:embed="rId9"/>
          <a:stretch/>
        </p:blipFill>
        <p:spPr>
          <a:xfrm>
            <a:off x="4091040" y="2298600"/>
            <a:ext cx="3035160" cy="28828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Лепесток ромашки шаблон распечатать - найдем вам образец"/>
          <p:cNvPicPr/>
          <p:nvPr/>
        </p:nvPicPr>
        <p:blipFill>
          <a:blip r:embed="rId10"/>
          <a:stretch/>
        </p:blipFill>
        <p:spPr>
          <a:xfrm rot="674400">
            <a:off x="4055760" y="2009520"/>
            <a:ext cx="1325520" cy="28224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 rot="218400">
            <a:off x="4007160" y="30841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хочу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446040" y="701640"/>
            <a:ext cx="8610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нение технологии ТРИЗ- повышение качеств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21"/>
          <p:cNvSpPr/>
          <p:nvPr/>
        </p:nvSpPr>
        <p:spPr>
          <a:xfrm>
            <a:off x="4091040" y="4005360"/>
            <a:ext cx="90468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2"/>
          <p:cNvSpPr/>
          <p:nvPr/>
        </p:nvSpPr>
        <p:spPr>
          <a:xfrm rot="18941400">
            <a:off x="4662360" y="342144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лже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4"/>
          <p:cNvSpPr/>
          <p:nvPr/>
        </p:nvSpPr>
        <p:spPr>
          <a:xfrm rot="417600">
            <a:off x="5281560" y="447480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к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5"/>
          <p:cNvSpPr/>
          <p:nvPr/>
        </p:nvSpPr>
        <p:spPr>
          <a:xfrm rot="3605400">
            <a:off x="3785760" y="5428800"/>
            <a:ext cx="26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ужд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6"/>
          <p:cNvSpPr/>
          <p:nvPr/>
        </p:nvSpPr>
        <p:spPr>
          <a:xfrm rot="18941400">
            <a:off x="2340360" y="510408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бу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7"/>
          <p:cNvSpPr/>
          <p:nvPr/>
        </p:nvSpPr>
        <p:spPr>
          <a:xfrm>
            <a:off x="2174760" y="3828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г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8"/>
          <p:cNvSpPr/>
          <p:nvPr/>
        </p:nvSpPr>
        <p:spPr>
          <a:xfrm rot="3142200">
            <a:off x="2446200" y="2941200"/>
            <a:ext cx="210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езультат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3" descr=""/>
          <p:cNvPicPr/>
          <p:nvPr/>
        </p:nvPicPr>
        <p:blipFill>
          <a:blip r:embed="rId1"/>
          <a:stretch/>
        </p:blipFill>
        <p:spPr>
          <a:xfrm>
            <a:off x="255600" y="-244440"/>
            <a:ext cx="8291520" cy="3481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божья коровка"/>
          <p:cNvPicPr/>
          <p:nvPr/>
        </p:nvPicPr>
        <p:blipFill>
          <a:blip r:embed="rId2"/>
          <a:stretch/>
        </p:blipFill>
        <p:spPr>
          <a:xfrm>
            <a:off x="4067280" y="2852640"/>
            <a:ext cx="4103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411120" y="2585880"/>
            <a:ext cx="4592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честв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19640" y="2128680"/>
            <a:ext cx="4572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93560" y="5157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едложенных слов выберите те, которые имеют отношение к понятию: </a:t>
            </a: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«Качество образ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5230080" y="1706400"/>
            <a:ext cx="20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223600" y="31179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о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5237640" y="407664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зоби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041480" y="89208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е слов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55640" y="1989000"/>
            <a:ext cx="817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хника, логика, применить,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Урок русского языка в 5 классе приставка значимая часть слова"/>
          <p:cNvPicPr/>
          <p:nvPr/>
        </p:nvPicPr>
        <p:blipFill>
          <a:blip r:embed="rId3"/>
          <a:srcRect l="0" t="0" r="61136" b="73922"/>
          <a:stretch/>
        </p:blipFill>
        <p:spPr>
          <a:xfrm>
            <a:off x="1217520" y="3308400"/>
            <a:ext cx="1728720" cy="84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Урок русского языка в 5 классе приставка значимая часть слова"/>
          <p:cNvPicPr/>
          <p:nvPr/>
        </p:nvPicPr>
        <p:blipFill>
          <a:blip r:embed="rId4"/>
          <a:srcRect l="0" t="42608" r="61136" b="28702"/>
          <a:stretch/>
        </p:blipFill>
        <p:spPr>
          <a:xfrm>
            <a:off x="4842000" y="3308400"/>
            <a:ext cx="1728720" cy="93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Урок русского языка в 5 классе приставка значимая часть слова"/>
          <p:cNvPicPr/>
          <p:nvPr/>
        </p:nvPicPr>
        <p:blipFill>
          <a:blip r:embed="rId5"/>
          <a:srcRect l="0" t="67763" r="61136" b="0"/>
          <a:stretch/>
        </p:blipFill>
        <p:spPr>
          <a:xfrm>
            <a:off x="6407280" y="3193920"/>
            <a:ext cx="1728720" cy="10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Урок русского языка в 5 классе приставка значимая часть слова"/>
          <p:cNvPicPr/>
          <p:nvPr/>
        </p:nvPicPr>
        <p:blipFill>
          <a:blip r:embed="rId6"/>
          <a:srcRect l="0" t="0" r="61136" b="73922"/>
          <a:stretch/>
        </p:blipFill>
        <p:spPr>
          <a:xfrm>
            <a:off x="3233880" y="3294000"/>
            <a:ext cx="1728720" cy="844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676240" y="34304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167840" y="4138560"/>
            <a:ext cx="15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х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425400" y="4154400"/>
            <a:ext cx="110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5444280" y="413064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7017480" y="41227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 flipV="1" rot="10800000">
            <a:off x="2714400" y="42854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7"/>
          <p:cNvSpPr/>
          <p:nvPr/>
        </p:nvSpPr>
        <p:spPr>
          <a:xfrm>
            <a:off x="357120" y="1857240"/>
            <a:ext cx="817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785880" y="2143080"/>
            <a:ext cx="70610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честв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1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Лепесток ромашки шаблон распечатать - найдем вам образец"/>
          <p:cNvPicPr/>
          <p:nvPr/>
        </p:nvPicPr>
        <p:blipFill>
          <a:blip r:embed="rId2"/>
          <a:stretch/>
        </p:blipFill>
        <p:spPr>
          <a:xfrm>
            <a:off x="804960" y="1109520"/>
            <a:ext cx="1481040" cy="214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444600" y="1195560"/>
            <a:ext cx="1305000" cy="2077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749160" y="1359000"/>
            <a:ext cx="1818000" cy="22017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5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0_6bbf5_b5b7c4e5_L"/>
          <p:cNvPicPr/>
          <p:nvPr/>
        </p:nvPicPr>
        <p:blipFill>
          <a:blip r:embed="rId6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468440" y="22334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нение современных педагогических технологий, способствующих повышению качества образования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Цветок желаний учител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1" descr="Лепесток ромашки шаблон распечатать - найдем вам образец"/>
          <p:cNvPicPr/>
          <p:nvPr/>
        </p:nvPicPr>
        <p:blipFill>
          <a:blip r:embed="rId7"/>
          <a:stretch/>
        </p:blipFill>
        <p:spPr>
          <a:xfrm>
            <a:off x="139680" y="1420920"/>
            <a:ext cx="131760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Лепесток ромашки шаблон распечатать - найдем вам образец"/>
          <p:cNvPicPr/>
          <p:nvPr/>
        </p:nvPicPr>
        <p:blipFill>
          <a:blip r:embed="rId8"/>
          <a:stretch/>
        </p:blipFill>
        <p:spPr>
          <a:xfrm rot="318000">
            <a:off x="736200" y="1179360"/>
            <a:ext cx="1028880" cy="1943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Лепесток ромашки шаблон распечатать - найдем вам образец"/>
          <p:cNvPicPr/>
          <p:nvPr/>
        </p:nvPicPr>
        <p:blipFill>
          <a:blip r:embed="rId9"/>
          <a:stretch/>
        </p:blipFill>
        <p:spPr>
          <a:xfrm>
            <a:off x="-128520" y="1743120"/>
            <a:ext cx="1878120" cy="2200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Лепесток ромашки шаблон распечатать - найдем вам образец"/>
          <p:cNvPicPr/>
          <p:nvPr/>
        </p:nvPicPr>
        <p:blipFill>
          <a:blip r:embed="rId10"/>
          <a:stretch/>
        </p:blipFill>
        <p:spPr>
          <a:xfrm rot="2532600">
            <a:off x="1231560" y="1904760"/>
            <a:ext cx="1028520" cy="1942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Лепесток ромашки шаблон распечатать - найдем вам образец"/>
          <p:cNvPicPr/>
          <p:nvPr/>
        </p:nvPicPr>
        <p:blipFill>
          <a:blip r:embed="rId11"/>
          <a:stretch/>
        </p:blipFill>
        <p:spPr>
          <a:xfrm rot="4503000">
            <a:off x="2323800" y="1371240"/>
            <a:ext cx="2492280" cy="47084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 rot="20688000">
            <a:off x="2442600" y="3309840"/>
            <a:ext cx="19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хоч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2359080" y="86688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6 L 0.18889 0.11552 E">
                                      <p:cBhvr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1"/>
          <a:srcRect l="0" t="32548" r="0" b="0"/>
          <a:stretch/>
        </p:blipFill>
        <p:spPr>
          <a:xfrm>
            <a:off x="428760" y="3357720"/>
            <a:ext cx="1746000" cy="2455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Лепесток ромашки шаблон распечатать - найдем вам образец"/>
          <p:cNvPicPr/>
          <p:nvPr/>
        </p:nvPicPr>
        <p:blipFill>
          <a:blip r:embed="rId2"/>
          <a:stretch/>
        </p:blipFill>
        <p:spPr>
          <a:xfrm>
            <a:off x="804960" y="1109520"/>
            <a:ext cx="1481040" cy="2140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396720" y="1146240"/>
            <a:ext cx="1578240" cy="2170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Лепесток ромашки шаблон распечатать - найдем вам образец"/>
          <p:cNvPicPr/>
          <p:nvPr/>
        </p:nvPicPr>
        <p:blipFill>
          <a:blip r:embed="rId4"/>
          <a:stretch/>
        </p:blipFill>
        <p:spPr>
          <a:xfrm>
            <a:off x="749160" y="1359000"/>
            <a:ext cx="181800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5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0_6bbf5_b5b7c4e5_L"/>
          <p:cNvPicPr/>
          <p:nvPr/>
        </p:nvPicPr>
        <p:blipFill>
          <a:blip r:embed="rId6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1852560" y="2944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ткрытие нового  знани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1" descr="Лепесток ромашки шаблон распечатать - найдем вам образец"/>
          <p:cNvPicPr/>
          <p:nvPr/>
        </p:nvPicPr>
        <p:blipFill>
          <a:blip r:embed="rId7"/>
          <a:stretch/>
        </p:blipFill>
        <p:spPr>
          <a:xfrm>
            <a:off x="12600" y="1359000"/>
            <a:ext cx="1596960" cy="2170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Лепесток ромашки шаблон распечатать - найдем вам образец"/>
          <p:cNvPicPr/>
          <p:nvPr/>
        </p:nvPicPr>
        <p:blipFill>
          <a:blip r:embed="rId8"/>
          <a:stretch/>
        </p:blipFill>
        <p:spPr>
          <a:xfrm rot="318000">
            <a:off x="736200" y="1179360"/>
            <a:ext cx="102888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Лепесток ромашки шаблон распечатать - найдем вам образец"/>
          <p:cNvPicPr/>
          <p:nvPr/>
        </p:nvPicPr>
        <p:blipFill>
          <a:blip r:embed="rId9"/>
          <a:stretch/>
        </p:blipFill>
        <p:spPr>
          <a:xfrm>
            <a:off x="712800" y="1279440"/>
            <a:ext cx="1633680" cy="2189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2560680" y="99072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ая задач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Лепесток ромашки шаблон распечатать - найдем вам образец"/>
          <p:cNvPicPr/>
          <p:nvPr/>
        </p:nvPicPr>
        <p:blipFill>
          <a:blip r:embed="rId10"/>
          <a:stretch/>
        </p:blipFill>
        <p:spPr>
          <a:xfrm>
            <a:off x="901800" y="1584360"/>
            <a:ext cx="5333760" cy="4286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 rot="20053200">
            <a:off x="1987920" y="331020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лже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-0.00371 L 0.24618 0.12222 E">
                                      <p:cBhvr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0" y="2143080"/>
            <a:ext cx="2916000" cy="4035600"/>
            <a:chOff x="0" y="2143080"/>
            <a:chExt cx="2916000" cy="4035600"/>
          </a:xfrm>
        </p:grpSpPr>
        <p:sp>
          <p:nvSpPr>
            <p:cNvPr id="103" name="AutoShape 4"/>
            <p:cNvSpPr/>
            <p:nvPr/>
          </p:nvSpPr>
          <p:spPr>
            <a:xfrm>
              <a:off x="0" y="2450880"/>
              <a:ext cx="2907360" cy="2857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44640" y="2459160"/>
              <a:ext cx="281988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68040" y="4522680"/>
              <a:ext cx="27817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68040" y="2481120"/>
              <a:ext cx="27817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8640" y="5308560"/>
              <a:ext cx="29073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68040" y="5332320"/>
              <a:ext cx="27817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0"/>
            <p:cNvGrpSpPr/>
            <p:nvPr/>
          </p:nvGrpSpPr>
          <p:grpSpPr>
            <a:xfrm>
              <a:off x="1000440" y="2143080"/>
              <a:ext cx="864000" cy="642960"/>
              <a:chOff x="1000440" y="2143080"/>
              <a:chExt cx="864000" cy="642960"/>
            </a:xfrm>
          </p:grpSpPr>
          <p:sp>
            <p:nvSpPr>
              <p:cNvPr id="110" name="Oval 11"/>
              <p:cNvSpPr/>
              <p:nvPr/>
            </p:nvSpPr>
            <p:spPr>
              <a:xfrm>
                <a:off x="1000440" y="2143080"/>
                <a:ext cx="8640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2"/>
              <p:cNvSpPr/>
              <p:nvPr/>
            </p:nvSpPr>
            <p:spPr>
              <a:xfrm>
                <a:off x="1009440" y="2147760"/>
                <a:ext cx="8355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1019520" y="2151720"/>
                <a:ext cx="8161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4"/>
              <p:cNvSpPr/>
              <p:nvPr/>
            </p:nvSpPr>
            <p:spPr>
              <a:xfrm>
                <a:off x="1028880" y="2157480"/>
                <a:ext cx="775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5"/>
              <p:cNvSpPr/>
              <p:nvPr/>
            </p:nvSpPr>
            <p:spPr>
              <a:xfrm>
                <a:off x="1073880" y="2172960"/>
                <a:ext cx="6894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16"/>
            <p:cNvSpPr/>
            <p:nvPr/>
          </p:nvSpPr>
          <p:spPr>
            <a:xfrm>
              <a:off x="1248840" y="2235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214800" y="2214720"/>
            <a:ext cx="2880720" cy="4034880"/>
            <a:chOff x="3214800" y="2214720"/>
            <a:chExt cx="2880720" cy="4034880"/>
          </a:xfrm>
        </p:grpSpPr>
        <p:sp>
          <p:nvSpPr>
            <p:cNvPr id="117" name="AutoShape 19"/>
            <p:cNvSpPr/>
            <p:nvPr/>
          </p:nvSpPr>
          <p:spPr>
            <a:xfrm>
              <a:off x="3214800" y="2522160"/>
              <a:ext cx="287640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3258720" y="2530440"/>
              <a:ext cx="2790360" cy="2802960"/>
            </a:xfrm>
            <a:custGeom>
              <a:avLst/>
              <a:gdLst>
                <a:gd name="textAreaLeft" fmla="*/ 136080 w 2790360"/>
                <a:gd name="textAreaRight" fmla="*/ 2654280 w 2790360"/>
                <a:gd name="textAreaTop" fmla="*/ 136080 h 2802960"/>
                <a:gd name="textAreaBottom" fmla="*/ 2666880 h 2802960"/>
              </a:gdLst>
              <a:ahLst/>
              <a:rect l="textAreaLeft" t="textAreaTop" r="textAreaRight" b="textAreaBottom"/>
              <a:pathLst>
                <a:path w="21600" h="21698">
                  <a:moveTo>
                    <a:pt x="3600" y="0"/>
                  </a:moveTo>
                  <a:arcTo wR="3600" hR="3600" stAng="16200000" swAng="-5400000"/>
                  <a:lnTo>
                    <a:pt x="0" y="18098"/>
                  </a:lnTo>
                  <a:arcTo wR="3600" hR="3600" stAng="10800000" swAng="-5400000"/>
                  <a:lnTo>
                    <a:pt x="18000" y="216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1"/>
            <p:cNvSpPr/>
            <p:nvPr/>
          </p:nvSpPr>
          <p:spPr>
            <a:xfrm>
              <a:off x="3282120" y="4593960"/>
              <a:ext cx="27522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2"/>
            <p:cNvSpPr/>
            <p:nvPr/>
          </p:nvSpPr>
          <p:spPr>
            <a:xfrm>
              <a:off x="3282120" y="2552400"/>
              <a:ext cx="27522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>
              <a:off x="4204440" y="2214720"/>
              <a:ext cx="85464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4"/>
            <p:cNvSpPr/>
            <p:nvPr/>
          </p:nvSpPr>
          <p:spPr>
            <a:xfrm>
              <a:off x="4212720" y="2219040"/>
              <a:ext cx="8272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5"/>
            <p:cNvSpPr/>
            <p:nvPr/>
          </p:nvSpPr>
          <p:spPr>
            <a:xfrm>
              <a:off x="4223520" y="2222280"/>
              <a:ext cx="8078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4231800" y="2228760"/>
              <a:ext cx="76788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4278240" y="2244600"/>
              <a:ext cx="6818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448160" y="230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0"/>
            <p:cNvSpPr/>
            <p:nvPr/>
          </p:nvSpPr>
          <p:spPr>
            <a:xfrm>
              <a:off x="3218400" y="5379840"/>
              <a:ext cx="287712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1"/>
            <p:cNvSpPr/>
            <p:nvPr/>
          </p:nvSpPr>
          <p:spPr>
            <a:xfrm>
              <a:off x="3277800" y="5403600"/>
              <a:ext cx="27522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2"/>
          <p:cNvGrpSpPr/>
          <p:nvPr/>
        </p:nvGrpSpPr>
        <p:grpSpPr>
          <a:xfrm>
            <a:off x="6350040" y="2143080"/>
            <a:ext cx="2793240" cy="4035600"/>
            <a:chOff x="6350040" y="2143080"/>
            <a:chExt cx="2793240" cy="4035600"/>
          </a:xfrm>
        </p:grpSpPr>
        <p:sp>
          <p:nvSpPr>
            <p:cNvPr id="130" name="AutoShape 33"/>
            <p:cNvSpPr/>
            <p:nvPr/>
          </p:nvSpPr>
          <p:spPr>
            <a:xfrm>
              <a:off x="6357600" y="2450880"/>
              <a:ext cx="2785680" cy="2857680"/>
            </a:xfrm>
            <a:custGeom>
              <a:avLst/>
              <a:gdLst>
                <a:gd name="textAreaLeft" fmla="*/ 142560 w 2785680"/>
                <a:gd name="textAreaRight" fmla="*/ 2643120 w 2785680"/>
                <a:gd name="textAreaTop" fmla="*/ 142560 h 2857680"/>
                <a:gd name="textAreaBottom" fmla="*/ 2715120 h 2857680"/>
              </a:gdLst>
              <a:ahLst/>
              <a:rect l="textAreaLeft" t="textAreaTop" r="textAreaRight" b="textAreaBottom"/>
              <a:pathLst>
                <a:path w="21600" h="22158">
                  <a:moveTo>
                    <a:pt x="3782" y="0"/>
                  </a:moveTo>
                  <a:arcTo wR="3782" hR="3782" stAng="16200000" swAng="-5400000"/>
                  <a:lnTo>
                    <a:pt x="0" y="18376"/>
                  </a:lnTo>
                  <a:arcTo wR="3782" hR="3782" stAng="10800000" swAng="-5400000"/>
                  <a:lnTo>
                    <a:pt x="17818" y="22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4"/>
            <p:cNvSpPr/>
            <p:nvPr/>
          </p:nvSpPr>
          <p:spPr>
            <a:xfrm>
              <a:off x="6400800" y="2459160"/>
              <a:ext cx="2701800" cy="2803320"/>
            </a:xfrm>
            <a:custGeom>
              <a:avLst/>
              <a:gdLst>
                <a:gd name="textAreaLeft" fmla="*/ 131760 w 2701800"/>
                <a:gd name="textAreaRight" fmla="*/ 2570040 w 2701800"/>
                <a:gd name="textAreaTop" fmla="*/ 131760 h 2803320"/>
                <a:gd name="textAreaBottom" fmla="*/ 2671560 h 2803320"/>
              </a:gdLst>
              <a:ahLst/>
              <a:rect l="textAreaLeft" t="textAreaTop" r="textAreaRight" b="textAreaBottom"/>
              <a:pathLst>
                <a:path w="21600" h="22412">
                  <a:moveTo>
                    <a:pt x="3600" y="0"/>
                  </a:moveTo>
                  <a:arcTo wR="3600" hR="3600" stAng="16200000" swAng="-5400000"/>
                  <a:lnTo>
                    <a:pt x="0" y="18812"/>
                  </a:lnTo>
                  <a:arcTo wR="3600" hR="3600" stAng="10800000" swAng="-5400000"/>
                  <a:lnTo>
                    <a:pt x="18000" y="224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5"/>
            <p:cNvSpPr/>
            <p:nvPr/>
          </p:nvSpPr>
          <p:spPr>
            <a:xfrm>
              <a:off x="6423120" y="4522680"/>
              <a:ext cx="26654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6"/>
            <p:cNvSpPr/>
            <p:nvPr/>
          </p:nvSpPr>
          <p:spPr>
            <a:xfrm>
              <a:off x="6423120" y="2481120"/>
              <a:ext cx="26654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37"/>
            <p:cNvGrpSpPr/>
            <p:nvPr/>
          </p:nvGrpSpPr>
          <p:grpSpPr>
            <a:xfrm>
              <a:off x="7316280" y="2143080"/>
              <a:ext cx="827640" cy="642960"/>
              <a:chOff x="7316280" y="2143080"/>
              <a:chExt cx="827640" cy="642960"/>
            </a:xfrm>
          </p:grpSpPr>
          <p:sp>
            <p:nvSpPr>
              <p:cNvPr id="135" name="Oval 38"/>
              <p:cNvSpPr/>
              <p:nvPr/>
            </p:nvSpPr>
            <p:spPr>
              <a:xfrm>
                <a:off x="7316280" y="2143080"/>
                <a:ext cx="8276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9"/>
              <p:cNvSpPr/>
              <p:nvPr/>
            </p:nvSpPr>
            <p:spPr>
              <a:xfrm>
                <a:off x="7324920" y="2147760"/>
                <a:ext cx="80028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0"/>
              <p:cNvSpPr/>
              <p:nvPr/>
            </p:nvSpPr>
            <p:spPr>
              <a:xfrm>
                <a:off x="7334640" y="2151720"/>
                <a:ext cx="7819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1"/>
              <p:cNvSpPr/>
              <p:nvPr/>
            </p:nvSpPr>
            <p:spPr>
              <a:xfrm>
                <a:off x="7343280" y="2157480"/>
                <a:ext cx="7434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2"/>
              <p:cNvSpPr/>
              <p:nvPr/>
            </p:nvSpPr>
            <p:spPr>
              <a:xfrm>
                <a:off x="7386480" y="2172960"/>
                <a:ext cx="6602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43"/>
            <p:cNvSpPr/>
            <p:nvPr/>
          </p:nvSpPr>
          <p:spPr>
            <a:xfrm>
              <a:off x="7547040" y="2235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5"/>
            <p:cNvSpPr/>
            <p:nvPr/>
          </p:nvSpPr>
          <p:spPr>
            <a:xfrm>
              <a:off x="6350040" y="5308560"/>
              <a:ext cx="278532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6"/>
            <p:cNvSpPr/>
            <p:nvPr/>
          </p:nvSpPr>
          <p:spPr>
            <a:xfrm>
              <a:off x="6406920" y="5332320"/>
              <a:ext cx="26647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7920" y="-17640"/>
            <a:ext cx="9144000" cy="150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3"/>
          <p:cNvSpPr/>
          <p:nvPr/>
        </p:nvSpPr>
        <p:spPr>
          <a:xfrm>
            <a:off x="1393920" y="73332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3507120" y="292896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фремов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3186000" y="3352680"/>
            <a:ext cx="323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иемов, применяемых в к-л. деле, мастерстве, искусств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7"/>
          <p:cNvSpPr/>
          <p:nvPr/>
        </p:nvSpPr>
        <p:spPr>
          <a:xfrm>
            <a:off x="6361200" y="3071880"/>
            <a:ext cx="278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жего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е описание способ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0" y="2857680"/>
            <a:ext cx="29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ч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усство, мастерство, умение и ...логия, о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ч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s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лово, 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500040" y="1000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правил и соответствующих им педагогических приемов и способов воздействия на развитие, обучение и воспитани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9"/>
          <p:cNvSpPr/>
          <p:nvPr/>
        </p:nvSpPr>
        <p:spPr>
          <a:xfrm>
            <a:off x="2736720" y="4379760"/>
            <a:ext cx="58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4. Как учить результативно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19800" y="4357800"/>
            <a:ext cx="62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 Как учить результативно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8"/>
          <p:cNvSpPr/>
          <p:nvPr/>
        </p:nvSpPr>
        <p:spPr>
          <a:xfrm>
            <a:off x="2735280" y="27432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. Чему учить?</a:t>
            </a: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. Зачем учить?</a:t>
            </a:r>
            <a:br>
              <a:rPr sz="3600"/>
            </a:br>
            <a:r>
              <a:rPr b="0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3. Как учит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Лепесток ромашки шаблон распечатать - найдем вам образец"/>
          <p:cNvPicPr/>
          <p:nvPr/>
        </p:nvPicPr>
        <p:blipFill>
          <a:blip r:embed="rId1"/>
          <a:stretch/>
        </p:blipFill>
        <p:spPr>
          <a:xfrm>
            <a:off x="828720" y="1504800"/>
            <a:ext cx="1481040" cy="2140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" descr="Лепесток ромашки шаблон распечатать - найдем вам образец"/>
          <p:cNvPicPr/>
          <p:nvPr/>
        </p:nvPicPr>
        <p:blipFill>
          <a:blip r:embed="rId2"/>
          <a:stretch/>
        </p:blipFill>
        <p:spPr>
          <a:xfrm>
            <a:off x="506520" y="1504800"/>
            <a:ext cx="130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Лепесток ромашки шаблон распечатать - найдем вам образец"/>
          <p:cNvPicPr/>
          <p:nvPr/>
        </p:nvPicPr>
        <p:blipFill>
          <a:blip r:embed="rId3"/>
          <a:stretch/>
        </p:blipFill>
        <p:spPr>
          <a:xfrm>
            <a:off x="785880" y="1620720"/>
            <a:ext cx="195084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0_6bbf5_b5b7c4e5_L"/>
          <p:cNvPicPr/>
          <p:nvPr/>
        </p:nvPicPr>
        <p:blipFill>
          <a:blip r:embed="rId5"/>
          <a:srcRect l="0" t="0" r="0" b="47111"/>
          <a:stretch/>
        </p:blipFill>
        <p:spPr>
          <a:xfrm>
            <a:off x="0" y="545292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Лепесток ромашки шаблон распечатать - найдем вам образец"/>
          <p:cNvPicPr/>
          <p:nvPr/>
        </p:nvPicPr>
        <p:blipFill>
          <a:blip r:embed="rId6"/>
          <a:stretch/>
        </p:blipFill>
        <p:spPr>
          <a:xfrm>
            <a:off x="182520" y="1616040"/>
            <a:ext cx="15796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Лепесток ромашки шаблон распечатать - найдем вам образец"/>
          <p:cNvPicPr/>
          <p:nvPr/>
        </p:nvPicPr>
        <p:blipFill>
          <a:blip r:embed="rId7"/>
          <a:stretch/>
        </p:blipFill>
        <p:spPr>
          <a:xfrm rot="1413600">
            <a:off x="988920" y="1766880"/>
            <a:ext cx="1028880" cy="194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Красный цветок картинки-Векторные картинки-свободный вектор Скачать бесплатно"/>
          <p:cNvPicPr/>
          <p:nvPr/>
        </p:nvPicPr>
        <p:blipFill>
          <a:blip r:embed="rId8"/>
          <a:srcRect l="0" t="32548" r="0" b="0"/>
          <a:stretch/>
        </p:blipFill>
        <p:spPr>
          <a:xfrm>
            <a:off x="378000" y="3559320"/>
            <a:ext cx="1746000" cy="24555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Лепесток ромашки шаблон распечатать - найдем вам образец"/>
          <p:cNvPicPr/>
          <p:nvPr/>
        </p:nvPicPr>
        <p:blipFill>
          <a:blip r:embed="rId9"/>
          <a:stretch/>
        </p:blipFill>
        <p:spPr>
          <a:xfrm rot="3985200">
            <a:off x="2323800" y="1371240"/>
            <a:ext cx="2492280" cy="47084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 rot="20688000">
            <a:off x="2377080" y="3309840"/>
            <a:ext cx="212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ак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393920" y="733320"/>
            <a:ext cx="70610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педагогических технологий в УВП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0.22048 0.15764 E">
                                      <p:cBhvr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2" descr=""/>
          <p:cNvPicPr/>
          <p:nvPr/>
        </p:nvPicPr>
        <p:blipFill>
          <a:blip r:embed="rId1"/>
          <a:srcRect l="19299" t="0" r="0" b="0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0_6bbf5_b5b7c4e5_L"/>
          <p:cNvPicPr/>
          <p:nvPr/>
        </p:nvPicPr>
        <p:blipFill>
          <a:blip r:embed="rId2"/>
          <a:srcRect l="0" t="0" r="0" b="47111"/>
          <a:stretch/>
        </p:blipFill>
        <p:spPr>
          <a:xfrm>
            <a:off x="-9360" y="545292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42960" y="108144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знаки современных  педагогически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нкретные педагогические теории,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гий порядок дейст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роизводится любым педаго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и дифференцированный под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кие критерии оценки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рантированность педагогиче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рактерные особенности современных образовательн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ость на максимальное развитие творческих сил учащихся и обеспечение глубоких и прочных зн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ение внимания к совершенствованию процесса учения на основе его психолого-педагогических закономерно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изация учения, мышления, позн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обеспечению постоянно функционирующего эффективного управления учебно-познавательной деятельностью учащихся на основе индивидуальной обрат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12:38:56Z</dcterms:created>
  <dc:creator>Наташа</dc:creator>
  <dc:description/>
  <dc:language>en-US</dc:language>
  <cp:lastModifiedBy>User</cp:lastModifiedBy>
  <dcterms:modified xsi:type="dcterms:W3CDTF">2018-12-17T15:03:02Z</dcterms:modified>
  <cp:revision>68</cp:revision>
  <dc:subject/>
  <dc:title>Презентация PowerPoint</dc:title>
</cp:coreProperties>
</file>