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A29B-0839-4D6F-8F19-EE70B3D6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C0D-0781-4BF4-BF4D-AA175AEB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785-EA23-4590-9119-7E3BFFBE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040D-2DD0-448E-A68D-F338DF76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519-58F7-4550-892D-AF66D998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712-3585-495C-A30F-9CAD2FE7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5C4-B737-48FF-8C1F-236D25EB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C4D-DC12-4B8B-8DEA-46651C00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3C7-ABE2-42B7-90FB-F3B7B360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53FB-1D19-4753-9B84-904C601C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C22C-5F61-40D5-8FC3-6374952C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786-3414-4486-9564-77043962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6AEF-6510-4524-9728-78899E9AF0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-328680" y="-749160"/>
            <a:ext cx="6948720" cy="5119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129120" y="2857680"/>
            <a:ext cx="45352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йствия педагогов по повышению качества образования по русскому язы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497040" y="609300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018-2019 учебный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223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блицы «Сложные слова» для систематической работы с ними ( запись с комментированием, чтение парами, сверху-вниз и т.д, составление словосочетани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rcRect l="0" t="21890" r="28595" b="0"/>
          <a:stretch/>
        </p:blipFill>
        <p:spPr>
          <a:xfrm>
            <a:off x="250920" y="1413000"/>
            <a:ext cx="6854760" cy="5084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Users\Дмитрий\Downloads\011.gif"/>
          <p:cNvPicPr/>
          <p:nvPr/>
        </p:nvPicPr>
        <p:blipFill>
          <a:blip r:embed="rId2"/>
          <a:stretch/>
        </p:blipFill>
        <p:spPr>
          <a:xfrm>
            <a:off x="6948360" y="1628640"/>
            <a:ext cx="2016360" cy="44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Propisi"/>
              </a:rPr>
              <a:t>Методы и приемы работы над словарными слов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 – мнемотех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ем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CYR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. Заинтересованность: легче запоминается то, что интересно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2. Яркость восприятия: лучше запоминается все яркое, необычное, то, что вызывает определенные эмоци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3.  Образность запечатления: запоминание, опирающееся на образы, гораздо лучше механического запомин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языкового анализа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-буквенный анал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етический разб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фографическое коммент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ое проговар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-зрительного запоминания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ывание с различными задан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ие орфограмм цве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еркивания их в тетра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е письмо с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Propisi"/>
              </a:rPr>
              <a:t>Методы и приемы работы над словарными слов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– иг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вор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у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ывание загад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гадка / Реб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хозяином друж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 сторож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вёт под крылечк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хвост колеч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i?id=448340282-23-72&amp;n=21"/>
          <p:cNvPicPr/>
          <p:nvPr/>
        </p:nvPicPr>
        <p:blipFill>
          <a:blip r:embed="rId1"/>
          <a:stretch/>
        </p:blipFill>
        <p:spPr>
          <a:xfrm>
            <a:off x="3203640" y="3962520"/>
            <a:ext cx="5305320" cy="212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427640" y="1773360"/>
          <a:ext cx="4343400" cy="3887640"/>
        </p:xfrm>
        <a:graphic>
          <a:graphicData uri="http://schemas.openxmlformats.org/drawingml/2006/table">
            <a:tbl>
              <a:tblPr/>
              <a:tblGrid>
                <a:gridCol w="361800"/>
                <a:gridCol w="362160"/>
                <a:gridCol w="361800"/>
                <a:gridCol w="361800"/>
                <a:gridCol w="362160"/>
                <a:gridCol w="361800"/>
                <a:gridCol w="362160"/>
                <a:gridCol w="361800"/>
                <a:gridCol w="361800"/>
                <a:gridCol w="362160"/>
                <a:gridCol w="361800"/>
                <a:gridCol w="362160"/>
              </a:tblGrid>
              <a:tr h="64764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944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Прямоугольник 6"/>
          <p:cNvSpPr/>
          <p:nvPr/>
        </p:nvSpPr>
        <p:spPr>
          <a:xfrm>
            <a:off x="131760" y="15840"/>
            <a:ext cx="7129440" cy="68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горизонта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Красный нос в землю врос,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А зелёный хвост снару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м зелёный хвост не нуже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ужен только красный 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Морков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дишь — ласкает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разнишь — кус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Соба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Накормить друзей обед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чай попить с сосед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ужить вам рада 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олько мойте вы ме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Посу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Нещадно бей нас в оркестровой ям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 никогда ты за столом с друзь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Тарел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. В волосах заколо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Юбочка на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Любит всё блестяще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укол-голыш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Девоч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. Новое, тёплое, коричнев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зиму отлич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Пальт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вертика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Столица России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ш город род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все в нём стремим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ить дружной семьё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Моск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Дмитрий\Downloads\slide_8.jpg"/>
          <p:cNvPicPr/>
          <p:nvPr/>
        </p:nvPicPr>
        <p:blipFill>
          <a:blip r:embed="rId2"/>
          <a:srcRect l="0" t="0" r="0" b="12203"/>
          <a:stretch/>
        </p:blipFill>
        <p:spPr>
          <a:xfrm>
            <a:off x="12600" y="27468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мятки и алгорит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амя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ЖИ и Ш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ши с гласной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алгорит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Ученик во время комментирования говорит: «Малыши, в сочетании ШИ напишу гласную И, так как знаю правило: ЖИ и ШИ пиши с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мятка «Как  исправить ошибку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ПИШИ СЛОВО, ПОДЧЕРКНИ СОЧЕТАНИЕ, ПРИВЕДИ СВОИ ПРИМЕР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ЛЫЖИ, ЖИЛ, УЖИ, ПРУЖ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Рисунок 3" descr="https://ds03.infourok.ru/uploads/ex/080c/0001408b-0d9abb47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пуск, замена, перестановка бук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сьмо предлож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а из словар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ос с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описание слов с 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Жи-ши, ча-ща, чу-щ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зударные гласные в кор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рные звонкие и глухие согласные в кор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0000"/>
              </a:solidFill>
              <a:latin typeface="Propis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0" y="0"/>
            <a:ext cx="234093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Объект 4"/>
          <p:cNvGraphicFramePr/>
          <p:nvPr/>
        </p:nvGraphicFramePr>
        <p:xfrm>
          <a:off x="0" y="0"/>
          <a:ext cx="91854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85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ля повышения качества образования необходим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ть   на   уроках   и   во   внеурочное   время  современные  инновационные методики, новые формы организации и проведения учебных занят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олжать методическое совершенствование  учителей  для повышения их профессионализ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ивнее и шире использовать на уроках современные педагогические технологии, возможности информационно-коммуникационных технологий, сети Интер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хнологии и методики применяемые в начальной школ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личностно – ориентированно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уровневой дифференци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игрового обу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системно -деятельностного подхода(проблемное обуч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ект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оровьесберегающие техн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онно – коммуникационные техн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дактические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чини сказк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й рассказывается, почему буквы "Ж" и "Ш" не дружат с буквой "Ы", а дружат с буквой "И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 лишнее сло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Петя ушиб колено но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обинзоны ослабли от недоедания пищи. 3) Собрание будет в декабре месяц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Многие города были превращены в руины и развалин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я для развития вним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а «Найди в тексте ошибк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 лесу росли рыжыки и опят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твет я киваю ему рукой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имой в саду расцвели я6лон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«Помоги сказочному герою», «Учитель»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я для развития памя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рительный или слуховой диктан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дёт снег. - 8 знаков. -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4с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гут ручьи. - 1 О знаков. -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4с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роями бывают не только люди, но и города. – 32 зн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сква первой отразила натиск вра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помним героическую защиту Севастополя. -36 знаков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ифмованные орфографические прави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лько в слоге глас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лько и сло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знает кажд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уче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над дикци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есть мышат в чулане шурш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ворит попугай попугаю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«Я тебя попугай попугаю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пугаю в ответ попуга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«Попугай, попугай, попугай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Propisi"/>
              </a:rPr>
              <a:t>Методы и приемы работы над словарными слов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-зрительного запомин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ывание с различными задани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ие орфограмм цве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еркивания их в тетра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е письмо с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06:21:24Z</dcterms:created>
  <dc:creator>Дима</dc:creator>
  <dc:description/>
  <dc:language>en-US</dc:language>
  <cp:lastModifiedBy>1</cp:lastModifiedBy>
  <dcterms:modified xsi:type="dcterms:W3CDTF">2019-09-06T07:27:06Z</dcterms:modified>
  <cp:revision>33</cp:revision>
  <dc:subject/>
  <dc:title>Дневник классного руководителя</dc:title>
</cp:coreProperties>
</file>