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CAB-6761-4CF1-A651-D692A2CB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2AF-3B1E-465B-B473-18BC85F0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AA4-580A-4B80-A507-5CD55D33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E88-C07C-4959-81B6-4CE06A96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008-FEB2-481B-8984-F8632232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EDC-5E30-42BC-B6BF-3965FB6A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3B3-CAC6-4B81-81A8-530CCC7B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ABD-AC5C-4437-922A-BC63AE4F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ADA-FCFF-4A9F-8293-FD91A067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795-4A94-4B65-94E4-34D89721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7CB-5745-4EDD-AB9C-9861BC7A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D12-0E2E-46CD-823B-1705B0B1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56E0-48F6-40C6-BF05-E88B72B64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проблемных зон при подготовке к мониторинговым процедурам (ВПР 4класс по математике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523800" y="452520"/>
            <a:ext cx="79437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1066680"/>
            <a:ext cx="7315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проверочной работы по математике содержит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 проверку вычислительных навы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умение вычислять площадь и перимет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решение  задач, связанных с реальной     жизнь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выполнение заданий при помощи таблиц,   графиков и диа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предлагается решить задачи повышенной труд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836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3160" y="306720"/>
            <a:ext cx="889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ния для устного сч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Вставьте в окошко числ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м=   дм, 2ч 15мин =   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Запишите величины в порядке уменьшения(увеличения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5 см, 5085 дм, 5085 км, 5085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Выбери единицы массы (времени, длины, площад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дм, 1 т, 9 ч, 100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Какая величина лишня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80 см, 5407 км, 4078 кг, 19063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Сравн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00 мм * 73 м, 35см * 35 д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1444680" y="557280"/>
            <a:ext cx="63738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7920" y="1029600"/>
            <a:ext cx="69562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горит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сложения, вычитания, сравнения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Определи, в каких единицах     выражены вели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Вырази единицы в одинаковых величи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Выполни заданное дей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Преобразуй полученный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Прове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698400" y="384120"/>
            <a:ext cx="747864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533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887400" y="633240"/>
            <a:ext cx="7594560" cy="25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11-01T08:17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