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265F-16C6-4BD9-8135-9E32B8A4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8BFC-EBE5-40F6-8E75-BB64719E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6CA8-8816-4E68-94E8-A2D0DAE3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822D-8022-4EA3-ACE9-1FF44943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86A5-5689-496C-B67C-07924665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1FF8-5542-4975-BC30-151007E1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FB64-C5A1-4723-9964-F7AF9A1B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6301-5D15-415A-9168-629C8575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F3D6-0004-4702-8250-37522436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2FC0-B2D2-43DA-8B21-D7CD399C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4D05-39C6-4408-A9AB-2BF001EE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CCF7-448D-4AA2-A787-06F52168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376C-5913-4E4B-9CAC-48223BCC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5475-AAC0-4842-9CAD-51D33162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BE4C-D91C-4C69-A911-6C1B23CC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929B-C629-4780-9DE8-3F679493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6676-801B-4A49-938D-1C0AD169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4BD4-7328-4733-A250-FD1521A1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049C-1363-4A3F-B307-D83258B4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22EA-81C6-4333-8DD4-14EEA97D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F771-C8E6-4C88-8B3A-32F96455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7F85-9C7B-4A91-ABB3-99333A76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F1D7-0C40-4AA3-B5A4-E8A7B6FE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FA3D-F8BB-42B6-AA68-C0125A08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6A35-3DC6-447D-BD0E-F1DF984BE59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A00B-9A64-44CC-B9AE-0A7E0EDCD14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06200" y="1231920"/>
            <a:ext cx="741384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Муниципальное обще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«Фоминская основная общеобразовательная школа»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47280" y="2492280"/>
            <a:ext cx="7239240" cy="36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«Действия педагогов по повышению качества образования (направления, формы, содержание деятельности, обеспечивающие успешность обучающихся) по окружающему миру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66"/>
                </a:solidFill>
                <a:latin typeface="Times New Roman"/>
              </a:rPr>
              <a:t>Учитель начальных классов: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66"/>
                </a:solidFill>
                <a:latin typeface="Times New Roman"/>
              </a:rPr>
              <a:t>Воронкина И.Н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4" descr="depositphotos_11504133-stock-illustration-globe"/>
          <p:cNvPicPr/>
          <p:nvPr/>
        </p:nvPicPr>
        <p:blipFill>
          <a:blip r:embed="rId1"/>
          <a:stretch/>
        </p:blipFill>
        <p:spPr>
          <a:xfrm>
            <a:off x="7348680" y="0"/>
            <a:ext cx="1795320" cy="221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28360" y="765000"/>
            <a:ext cx="7778520" cy="100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Задание 6.1. 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Задание 6.2.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Задание 6.3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6.1. Сравни условия прорастания семян гороха в двух разных стаканах в описанном эксперименте. Подчеркни в каждой строке одно из выделенных сл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Температура семян в двух стаканах: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динаковая / различная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одержимое стаканов: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динаковое / различно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6.2. По результатам эксперимента сделай вывод о том, влияет ли наличие почвы в стакане на прорастание семян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твет: ______________________________________________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6.3. Если бы Катя захотела выяснить, влияет ли наличие влаги на прорастание семян, с помощью какого эксперимента она смогла бы это сделать? Опиши этот эксперимент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твет: _____________________________________________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НИЕ 7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нимательно рассмотри знаки, которые можно встретить соответственно на улице, в парке и на этикетке одеж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к ты думаешь, какое правило отражает каждый из этих знаков? Напиши эти правил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)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авило1:__________________________________________________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авило2:__________________________________________________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авило3:__________________________________________________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042920" y="4149720"/>
            <a:ext cx="1371600" cy="1171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3132000" y="4076640"/>
            <a:ext cx="1333800" cy="1324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6156360" y="4149720"/>
            <a:ext cx="2200320" cy="10666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800" y="11707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1800" y="27694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ние 10.2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6920" y="3141720"/>
            <a:ext cx="769320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называется главный город твоего регион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вет: ______________________________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317400" y="41040"/>
            <a:ext cx="5393160" cy="56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дание 4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26920" y="3789360"/>
            <a:ext cx="3770640" cy="28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Начало фразы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) Чтобы избежать травм во врем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гололедицы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) Чтобы укреплять здоровь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 развивать сил у мышц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787640" y="3860280"/>
            <a:ext cx="3770280" cy="27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одолжение фразы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) регулярно занимайся физкультур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) не ходи близко к стенам дом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) во время ходьбы передвигайся аккуратно, не спеш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468360" y="814680"/>
            <a:ext cx="85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сли правильно подобрать к началу каждой фразы из первого столбц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должение фразы из второго столбца, то получится правило, помогающе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человеку сохранить здоровье и жизнь. Составь два правила из приведённых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частей фраз: для этого к каждой позиции первого столбца подбер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оответствующую позицию из второго столбца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апиши в таблицу выбранные цифры под соответствующими буквами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ля повышения качества образования необходимо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спользовать   на   уроках   и   во   внеурочное   время  современные  инновационные методики, новые формы организации и проведения учебных занят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должать методическое совершенствование  учителей  для повышения их профессионализм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ктивнее и шире использовать на уроках современные педагогические технологии, возможности информационно-коммуникационных технологий, сети Интернет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369800" y="1163160"/>
            <a:ext cx="723708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лан действий педагогов на начальном этапе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2692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нализ результатов работ ВПР (4 класс) по окружающему миру от 26.04.2018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овести до родителей сведения по результатам ВПР (4 класс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судить на педагогическом совете пути решения по эффективному устранению «пробелов» в заданиях ВПР по окружающему миру, с которым справилось 50% детей и мене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оставить план действий на 2018-2019 учебный год по устранению данных «пробелов» по окружающему миру у обучающихся начальной школы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основе результатов ВПР (4 класс) подобрать задания для качественной подготовки обучающихся по достижению ими планируемых результатов на этапе завершения начального образова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04600" y="957240"/>
            <a:ext cx="782604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вышение качества образов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71280" y="2492280"/>
            <a:ext cx="7692840" cy="27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Должно осуществляться за счёт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правлений, форм и содержания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еятельности педагогов, которые позволят обеспечить успешность обучающихся и д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иться максимально эффективных результатов в ходе ВП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.Д. Ушинский подчеркивал роль природы в воспитании детей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5640" y="2637000"/>
            <a:ext cx="76932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«Природа – великая воспитательница, она помогает воспитанию высоких моральных качеств, в том числе доброты и гуманности»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правления деятельности педагог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2692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ебная, внеурочная и внеклассная деятельност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бота с родителя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амообразовани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иагностика и мониторинг УУД обучающихся по окружающему мир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менение инновационных педагогических технолог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знавательно-исследовательская деятельность (проект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Формирование экологической культуры младших школьников (нравственные чувства, нормы поведения, любовь к природе, бережное отношение к ее богатствам и др.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формление краеведческих уголков, стенгазет, альбом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Формы и виды деятельности педагог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00000" y="2349360"/>
            <a:ext cx="76932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рок, экскурсия, внеучебная работа, внеклассная работа, домашняя работа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дивидуальная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(выполнение различных заданий обучающимися по наблюдению за объектами живой и неживой природы, проведение опытов, различные виды коллекционирования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Групповая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(кружки любителей природы, различные виды экскурсий, клубы, факультативы, например «Экология для младших школьников», «Планета загадок» (А.А. Плешаков), «Твоя Вселенная» (Е.П. Левитан) и др.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ронтальная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бота в парах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ассовые мероприятия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(школьные олимпиады по предмету, конкурсы знаний, интеллектуальные конкурсы, викторины, «недели» природоохранной, экологической направленности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323720" y="869760"/>
            <a:ext cx="75358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держание деятельности педагогов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26920" y="2997360"/>
            <a:ext cx="7693200" cy="29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 интернет-сайтах погоды можно встретить подобные таблицы. Внимательно изучи прогноз погоды на трое суток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ыбери верные утверждения об ожидаемой погоде на эти трое суток и запиши в строку ответа их номер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)В четверг утром и днём ожидается ясная погод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)В среду с утра будет самая низкая за трое суток температур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)В четверг ожидается северный ветер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)Во вторник влажность воздуха ожидается не выше 70%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042920" y="2349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Задание 2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82080" y="774360"/>
            <a:ext cx="7760880" cy="113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дание 3.3. </a:t>
            </a:r>
            <a:br>
              <a:rPr sz="3200"/>
            </a:b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Какие из этих животных обитают в естественной среде (не в зоопарке) на материке А, а какие – на материке Б? Запиши номера, под которыми указаны эти животные, в отведённое для этого поле после буквы соответствующего материка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2449440" cy="1835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3924360" y="278136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3"/>
          <a:stretch/>
        </p:blipFill>
        <p:spPr>
          <a:xfrm>
            <a:off x="1042920" y="4797360"/>
            <a:ext cx="2448000" cy="1833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4"/>
          <a:stretch/>
        </p:blipFill>
        <p:spPr>
          <a:xfrm>
            <a:off x="3924360" y="4653000"/>
            <a:ext cx="2663640" cy="19969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8"/>
          <p:cNvSpPr/>
          <p:nvPr/>
        </p:nvSpPr>
        <p:spPr>
          <a:xfrm>
            <a:off x="686160" y="3284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3565800" y="3141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686160" y="5373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3492360" y="515772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905760" y="2348640"/>
            <a:ext cx="70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омера животных A: _______       Номера животных Б: ________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13" descr=""/>
          <p:cNvPicPr/>
          <p:nvPr/>
        </p:nvPicPr>
        <p:blipFill>
          <a:blip r:embed="rId5"/>
          <a:stretch/>
        </p:blipFill>
        <p:spPr>
          <a:xfrm>
            <a:off x="6516720" y="2852640"/>
            <a:ext cx="2400120" cy="752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6"/>
          <a:stretch/>
        </p:blipFill>
        <p:spPr>
          <a:xfrm>
            <a:off x="6516720" y="3573360"/>
            <a:ext cx="2400120" cy="752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"/>
          <p:cNvPicPr/>
          <p:nvPr/>
        </p:nvPicPr>
        <p:blipFill>
          <a:blip r:embed="rId7"/>
          <a:stretch/>
        </p:blipFill>
        <p:spPr>
          <a:xfrm>
            <a:off x="6516720" y="4292640"/>
            <a:ext cx="2400120" cy="7524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6"/>
          <p:cNvSpPr/>
          <p:nvPr/>
        </p:nvSpPr>
        <p:spPr>
          <a:xfrm>
            <a:off x="7667640" y="3213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8172360" y="393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ние 6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640" y="2276640"/>
            <a:ext cx="76932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тя проводила наблюдения за прорастанием семян гороха. Чтобы выяснить, влияет ли почва на их прорастание, она взяла два стакана, положила в каждый из них десять одинаковых семян гороха. При этом в один стакан она насыпала немного почвы. Затем в каждый из стаканов она налила одинаковое небольшое количество воды. Стаканы Катя оставила в классе и стала наблюдать. Вскоре семена в стаканах проросл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Начало опыта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Окончание опы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2664000" cy="1311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5651640" y="4941720"/>
            <a:ext cx="2736720" cy="136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1T10:59:31Z</dcterms:created>
  <dc:creator>владимер</dc:creator>
  <dc:description/>
  <dc:language>en-US</dc:language>
  <cp:lastModifiedBy>1</cp:lastModifiedBy>
  <dcterms:modified xsi:type="dcterms:W3CDTF">2019-09-06T07:23:22Z</dcterms:modified>
  <cp:revision>13</cp:revision>
  <dc:subject/>
  <dc:title>Муниципальное общеобразовательное учреждение «Фоминская основная общеобразовательная школа»</dc:title>
</cp:coreProperties>
</file>