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6.jpeg" ContentType="image/jpeg"/>
  <Override PartName="/ppt/media/image5.jpeg" ContentType="image/jpeg"/>
  <Override PartName="/ppt/media/image4.gif" ContentType="image/gif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5631-942E-4AA5-8570-2F911B300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ABEC-3D00-4BF6-A561-478BB9FE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0CD1-B31E-437D-9FBE-B9125676C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EB91-B191-4CB7-8E87-42BB559B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CBC5-5365-4B06-905F-44E191B60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F563-EB86-49A2-BD07-774E178B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7EAA-BB05-4342-A225-9A4E40A3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73D5-111A-4459-97C1-7841D063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8F35-3269-4D82-8F5B-5C844017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E9C5-A768-45CC-A408-7F71AA1A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B8EA-F172-47CC-B331-20492D76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2F32-8AB3-430D-8459-64B6BE99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EA0C-DDAB-462E-8D62-513CAF25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7670-0972-4D74-868F-2B92FBCC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AB29-FDAC-430D-9553-25D4D521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E51F-D63F-4BD8-BC12-B46E455C6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E35E-3D5A-401B-AC15-1C515F119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B32D-1DF0-4A36-A076-8A282D0F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AE97-258D-4C05-9A20-8963EC5B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586B-5BE9-4358-88C0-282CC19A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4FDC-7B91-4D2E-ACA4-5DD7129D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EA97-1E9E-48C1-8ED5-796F1017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836B-1AF8-420D-808E-D1B16895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70BC-AB32-44B4-90B0-7C0F8608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e7e7e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40A7C2-B10E-466C-B4F0-033E622DF1E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e7e7e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AFBE1DC-2D29-4661-9D31-2271CFF9871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60640"/>
            <a:ext cx="7772040" cy="11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ТАБАКОКУРЕНИЕ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3" descr=""/>
          <p:cNvPicPr/>
          <p:nvPr/>
        </p:nvPicPr>
        <p:blipFill>
          <a:blip r:embed="rId1"/>
          <a:stretch/>
        </p:blipFill>
        <p:spPr>
          <a:xfrm>
            <a:off x="1691640" y="1413360"/>
            <a:ext cx="60483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3000">
        <p14:prism/>
      </p:transition>
    </mc:Choice>
    <mc:Fallback>
      <p:transition spd="slow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Рак легких (флюорография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http://www.lormed.ru/images/stories/rak.jpg"/>
          <p:cNvPicPr/>
          <p:nvPr/>
        </p:nvPicPr>
        <p:blipFill>
          <a:blip r:embed="rId1"/>
          <a:stretch/>
        </p:blipFill>
        <p:spPr>
          <a:xfrm>
            <a:off x="1187640" y="1746360"/>
            <a:ext cx="7200360" cy="463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Метастазы в тканях лёгких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C:\Users\user\Desktop\Новая папка\метастазы в тканях легких.jpg"/>
          <p:cNvPicPr/>
          <p:nvPr/>
        </p:nvPicPr>
        <p:blipFill>
          <a:blip r:embed="rId1"/>
          <a:stretch/>
        </p:blipFill>
        <p:spPr>
          <a:xfrm>
            <a:off x="899640" y="1268640"/>
            <a:ext cx="7416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Рак легких (схематично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www.euroonco.ru/images/articles/rak-legkikh.png"/>
          <p:cNvPicPr/>
          <p:nvPr/>
        </p:nvPicPr>
        <p:blipFill>
          <a:blip r:embed="rId1"/>
          <a:stretch/>
        </p:blipFill>
        <p:spPr>
          <a:xfrm>
            <a:off x="1043640" y="1412640"/>
            <a:ext cx="7128360" cy="53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Рак легких 4 стад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C:\Users\user\Desktop\Новая папка\рак лег 4 стадии.jpg"/>
          <p:cNvPicPr/>
          <p:nvPr/>
        </p:nvPicPr>
        <p:blipFill>
          <a:blip r:embed="rId1"/>
          <a:stretch/>
        </p:blipFill>
        <p:spPr>
          <a:xfrm>
            <a:off x="395640" y="1484640"/>
            <a:ext cx="8208720" cy="511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3000">
        <p:dissolve/>
      </p:transition>
    </mc:Choice>
    <mc:Fallback>
      <p:transition spd="slow">
        <p:dissolve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Здоровые легкие и пораженные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C:\Users\user\Desktop\Новая папка\рак легких.jpeg"/>
          <p:cNvPicPr/>
          <p:nvPr/>
        </p:nvPicPr>
        <p:blipFill>
          <a:blip r:embed="rId1"/>
          <a:stretch/>
        </p:blipFill>
        <p:spPr>
          <a:xfrm>
            <a:off x="683640" y="1600200"/>
            <a:ext cx="7776360" cy="49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3000">
        <p14:prism isInverted="true"/>
      </p:transition>
    </mc:Choice>
    <mc:Fallback>
      <p:transition spd="slow">
        <p:fade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Сердечно – сосудистая систем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822924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284040" indent="-2840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 курильщиков риск смерти от инфаркта миокарда и инсульта в 2-4 раза выше, чем у некурящих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84040" indent="-2840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кольку курение вызывает сужение артерий, у курильщиков повышается риск развития заболеваний периферических сосудов, таких, как обструкция крупных артерий рук и ног, что приводит к трофическим нарушениям вплоть до развития гангрены и, как следствие, ампутации конечност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84040" indent="-2840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 курильщиков значительно чаще развивается и аневризма брюшной аорт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http://www.pohl-boskamp.ru/ccds_cache/img/ef/ef66774da6e9d40ed734cccb91091e01.320x1000x0.jpg"/>
          <p:cNvPicPr/>
          <p:nvPr/>
        </p:nvPicPr>
        <p:blipFill>
          <a:blip r:embed="rId1"/>
          <a:stretch/>
        </p:blipFill>
        <p:spPr>
          <a:xfrm>
            <a:off x="1619640" y="4077000"/>
            <a:ext cx="6264360" cy="256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3000">
        <p:wheel spokes="1"/>
      </p:transition>
    </mc:Choice>
    <mc:Fallback>
      <p:transition spd="slow">
        <p:wheel spokes="1"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Пищеварительная систем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8229240" cy="47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урение тормозит продукцию слюны, которая является главной буферной жидкостью организма, противостоящей кислоте желудочного сок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к пищевода, пептическая язва желудка, рак желудка, рак поджелудочной железы – основной причиной этих заболеваний является курени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Рак желуд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C:\Users\user\Desktop\Новая папка\рак желудка.jpeg"/>
          <p:cNvPicPr/>
          <p:nvPr/>
        </p:nvPicPr>
        <p:blipFill>
          <a:blip r:embed="rId1"/>
          <a:stretch/>
        </p:blipFill>
        <p:spPr>
          <a:xfrm>
            <a:off x="395640" y="1268640"/>
            <a:ext cx="3816000" cy="4896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http://medvito.ru/wp-content/uploads/2011/11/56547-586980564-3525245245.jpg"/>
          <p:cNvPicPr/>
          <p:nvPr/>
        </p:nvPicPr>
        <p:blipFill>
          <a:blip r:embed="rId2"/>
          <a:stretch/>
        </p:blipFill>
        <p:spPr>
          <a:xfrm>
            <a:off x="4284000" y="1268640"/>
            <a:ext cx="4170960" cy="489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3000">
        <p:cover dir="r"/>
      </p:transition>
    </mc:Choice>
    <mc:Fallback>
      <p:transition spd="slow">
        <p:cover dir="r"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0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Рак гортан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Users\user\Desktop\Новая папка\рак гортани посл кур.jpg"/>
          <p:cNvPicPr/>
          <p:nvPr/>
        </p:nvPicPr>
        <p:blipFill>
          <a:blip r:embed="rId1"/>
          <a:stretch/>
        </p:blipFill>
        <p:spPr>
          <a:xfrm>
            <a:off x="1578600" y="1600200"/>
            <a:ext cx="5986440" cy="45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Повреждение язы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C:\Users\user\Desktop\Новая папка\20071112-oral-cancer.jpg"/>
          <p:cNvPicPr/>
          <p:nvPr/>
        </p:nvPicPr>
        <p:blipFill>
          <a:blip r:embed="rId1"/>
          <a:stretch/>
        </p:blipFill>
        <p:spPr>
          <a:xfrm>
            <a:off x="323640" y="1196640"/>
            <a:ext cx="4392000" cy="4641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http://dentist.ua/uploads/articles/tumbs/81808340492.jpg"/>
          <p:cNvPicPr/>
          <p:nvPr/>
        </p:nvPicPr>
        <p:blipFill>
          <a:blip r:embed="rId2"/>
          <a:stretch/>
        </p:blipFill>
        <p:spPr>
          <a:xfrm>
            <a:off x="4932000" y="1196640"/>
            <a:ext cx="36205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Статистика употребления таба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информации Роспотребнадзора  за последние 20 лет количество курильщиков в стране увеличилось на 440 тысяч человек. Так, в возрасте 15-19 лет курят 40% юношей и 27% девушек, при этом в день они выкуривают в среднем 12 и семь сигарет в день соответственно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3000">
        <p14:prism/>
      </p:transition>
    </mc:Choice>
    <mc:Fallback>
      <p:transition spd="slow">
        <p:fade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0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Рак трахе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C:\Users\user\Desktop\Новая папка\рак трахеи.jpg"/>
          <p:cNvPicPr/>
          <p:nvPr/>
        </p:nvPicPr>
        <p:blipFill>
          <a:blip r:embed="rId1"/>
          <a:stretch/>
        </p:blipFill>
        <p:spPr>
          <a:xfrm>
            <a:off x="1115640" y="980640"/>
            <a:ext cx="7128360" cy="55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06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Разное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4640"/>
            <a:ext cx="8229240" cy="464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урение — частая причина пожаро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курки сильно загрязняют улицы и помещения. 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бакокурение считается грехом в некоторых религиях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кружающие страдают от последствий пассивного курения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3000">
        <p14:glitter dir="l" pattern="hexagon"/>
      </p:transition>
    </mc:Choice>
    <mc:Fallback>
      <p:transition spd="slow">
        <p:fade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Разное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68640"/>
            <a:ext cx="8229240" cy="48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47040" indent="-3470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в табачном дыму достаточно долго находится электронное устройство (например, компьютер), его внутренние части покрываются липким жёлто-коричневым осадком. Этот осадок приклеивает пыль. Части, покрытые склеенной пылью, плохо выделяют тепло, что приводит к последующему перегреву и отказу компонентов. Дальнейшее воздействие может привести и к отказу механических частей (например, вентиляторов)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7040" indent="-3470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примеру, компания «Apple» может отказать в гарантийном обслуживании на этом основани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3000">
        <p14:vortex/>
      </p:transition>
    </mc:Choice>
    <mc:Fallback>
      <p:transition spd="slow">
        <p:fade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http://www.zdorovieinfo.ru/upload/images/4_75450412.jpg"/>
          <p:cNvPicPr/>
          <p:nvPr/>
        </p:nvPicPr>
        <p:blipFill>
          <a:blip r:embed="rId1"/>
          <a:stretch/>
        </p:blipFill>
        <p:spPr>
          <a:xfrm>
            <a:off x="467640" y="1124640"/>
            <a:ext cx="8033760" cy="50000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4"/>
          <p:cNvSpPr/>
          <p:nvPr/>
        </p:nvSpPr>
        <p:spPr>
          <a:xfrm>
            <a:off x="899640" y="332640"/>
            <a:ext cx="7416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800" spc="-1" strike="noStrike">
                <a:solidFill>
                  <a:srgbClr val="00b050"/>
                </a:solidFill>
                <a:latin typeface="Calibri"/>
              </a:rPr>
              <a:t>БРОСАЙТЕ КУРИТЬ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000">
        <p14:prism/>
      </p:transition>
    </mc:Choice>
    <mc:Fallback>
      <p:transition spd="slow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Истор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140000" y="1196640"/>
            <a:ext cx="4546440" cy="30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98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492 год — табак впервые увидели европейцы. Индейцы подарили Колумбу связку сушёных листьев табака. Колумб не понял их назначения и выбросил их за борт. Благодаря Колумбу на карте мира появилось первое «табачное» название — остров Тобаго (этим словом индейцы называли курительные трубки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http://kurinekuri.ru/imgarticles/20130420195517671.jpg"/>
          <p:cNvPicPr/>
          <p:nvPr/>
        </p:nvPicPr>
        <p:blipFill>
          <a:blip r:embed="rId1"/>
          <a:stretch/>
        </p:blipFill>
        <p:spPr>
          <a:xfrm>
            <a:off x="179640" y="1196640"/>
            <a:ext cx="3672000" cy="3024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107640" y="5085360"/>
            <a:ext cx="4032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некоторых группах или племенах курение табака является ритуало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http://os1.i.ua/3/1/10274279_c2a583d0.jpg"/>
          <p:cNvPicPr/>
          <p:nvPr/>
        </p:nvPicPr>
        <p:blipFill>
          <a:blip r:embed="rId2"/>
          <a:stretch/>
        </p:blipFill>
        <p:spPr>
          <a:xfrm>
            <a:off x="4140000" y="4293000"/>
            <a:ext cx="4890240" cy="23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3000">
        <p:push dir="u"/>
      </p:transition>
    </mc:Choice>
    <mc:Fallback>
      <p:transition spd="slow">
        <p:push dir="u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Табак в России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ван Грозны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царе Михаиле Федоровиче - первом царе династии Романовых - за употребление "зелья табачища" рвали ноздри, били плетьми и ссылали в Сибирь, однако курильщики не переводились. В 16 – 17 веке Москва была деревянная, и из-за частых пожаров курение запретил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тр I, курение даже поощрялось. Много сделавший прогрессивного, в данном случае он оказал жителям России плохую услугу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3000">
        <p14:prism/>
      </p:transition>
    </mc:Choice>
    <mc:Fallback>
      <p:transition spd="slow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Причины начала курения 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лияние сверстников, давление с их стороны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урящие друзья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мление выглядеть «круто»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довольствие от того, что делаешь что-то запретное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мление подражать взрослым, авторитетным людям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гареты легко можно купить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нятие стресса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елание поступить наперекор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урящие родител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довольствие от курения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ы, которые видят по телевидению или в кино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3000">
        <p14:prism/>
      </p:transition>
    </mc:Choice>
    <mc:Fallback>
      <p:transition spd="slow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Мифы о курении: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льшинство взрослых и подростков курит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рение успокаивает нервы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рить модно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рение помогает сосредоточиться и лучше работать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рение не так вредно, как говорят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всегда смогу бросить курить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рение опасно только для того, кто курит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3000">
        <p14:prism/>
      </p:transition>
    </mc:Choice>
    <mc:Fallback>
      <p:transition spd="slow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Вещества, содержащиеся в табачном дыму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000 различных химических соединений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икот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гарный газ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диоактивный полон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рвно-сердечные яд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нцерогенные смол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нильная кислота и мышьяк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иро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3000">
        <p14:prism/>
      </p:transition>
    </mc:Choice>
    <mc:Fallback>
      <p:transition spd="slow">
        <p:fad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7640" y="0"/>
            <a:ext cx="82292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Никотин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5640" y="908640"/>
            <a:ext cx="597636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3124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икотин является одним из веществ с сильным потенциалом к накапливанию в организме. Даже небольшой дозы достаточно для вызывания соматических и психологических эффектов, в том числе и для формирования химической зависимости. Исследования показали, что никотин в бо́льшей степени вызывает физическую зависимость, чем кофеин и марихуана, но в меньшей, чем алкоголь, кокаин и героин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http://rudocs.exdat.com/pars_docs/tw_refs/29/28587/28587_html_m4f4650b0.gif"/>
          <p:cNvPicPr/>
          <p:nvPr/>
        </p:nvPicPr>
        <p:blipFill>
          <a:blip r:embed="rId1"/>
          <a:stretch/>
        </p:blipFill>
        <p:spPr>
          <a:xfrm>
            <a:off x="4683960" y="3213000"/>
            <a:ext cx="4459680" cy="28080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5"/>
          <p:cNvSpPr/>
          <p:nvPr/>
        </p:nvSpPr>
        <p:spPr>
          <a:xfrm>
            <a:off x="251640" y="3717000"/>
            <a:ext cx="457164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же известно, что никотин больше, чем какие бы то ни было другие вещества, обладает способностью вызывать психологическую зависи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000">
        <p:circle/>
      </p:transition>
    </mc:Choice>
    <mc:Fallback>
      <p:transition spd="slow">
        <p:circl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Последствия: органы дыха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бачный дым повреждает дыхательный эпителий, обусловливая утренний кашель курильщика, бронхиты и ХОБЛ, эмфизему лёгких и рак легких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иск развития бронхитов и эмфиземы легких у курильщиков повышается в 10 раз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90 % случаев смерть от рака лёгких у мужчин и 80 % у женщин вызваны курение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  <Words>650</Words>
  <Paragraphs>7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1:00:14Z</dcterms:created>
  <dc:creator>user</dc:creator>
  <dc:description/>
  <dc:language>en-US</dc:language>
  <cp:lastModifiedBy>Михаил</cp:lastModifiedBy>
  <dcterms:modified xsi:type="dcterms:W3CDTF">2019-03-04T17:04:04Z</dcterms:modified>
  <cp:revision>50</cp:revision>
  <dc:subject/>
  <dc:title>табакокур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3</vt:r8>
  </property>
</Properties>
</file>