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8105-125F-41EA-9D56-16AACABB72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D0FB-8B17-4237-B9D3-D08A3A9F4B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021B-5469-4F80-A009-ACFFF4EF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3B0B-C9D0-416D-A63D-6F02C098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84C25-56C3-4957-9D36-7A2EF7C9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C4758-30F8-435A-BBEB-A07E4A19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01858-96BB-4041-AEAE-4947FC47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2903A-BA1D-40C9-8F9D-2C680CDF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DCEEE-12D9-40E0-B7A4-4ADC1322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40DB2-0FA2-49A1-AE18-417FFF12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108DB-854C-4689-A722-21028E37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23D2B-D293-4CFA-BA3E-697FAA87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321B5-EE3D-4E38-B711-FEA3F71C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BDE5E-0210-4100-9234-E2CC5C5C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E853-54FF-4D6E-8947-CD12612B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C2137-E79D-4A47-9BE6-3639E1AA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591F4-65A4-4805-BD9F-8A8A3F97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C3E83-5B87-4860-B0EA-5F7EBEF4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3A6D7-B329-427C-B309-52757C4E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8AADD-A853-4A10-AE23-575D35C7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D609A-0E06-493D-9A25-CFC1F32A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AC9CB-A4C3-49E2-9F48-67DC2C00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46FDD-960F-4E6D-B8CD-4319785D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321F7-D014-4524-B226-2C2C392B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5AFA0-E0E5-4BC6-95C2-EBE3D264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F10-B35F-4202-95EC-C8DFE939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1C875-68A8-45CD-A415-5EF944BC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F2E0-4432-4018-B622-8DF7D463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6F96-347B-439C-BBFC-089754DE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D465-709E-42DC-B384-8BDC55C5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9875-6B80-4B70-8BF2-9DC0ECB8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2375-B64D-4073-9A97-02D847FA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7C6D-476C-4DC7-AB8D-9BB923B8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D2E9-F866-428D-BE1B-34963829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27B-3A8F-4569-BFDC-B0587903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9F55-F9FB-4AEC-AC19-30577B9F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BC8A-E49B-4CC3-9070-D986089B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34D2-4017-4F79-85D9-B9607302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2407-B1FE-479D-B0A9-E8D08E85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56AF-C3AD-4D2C-8652-B63576F6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EC1A2-FBCC-4777-AAAB-55D2F1C2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105A9-B638-4286-A6DA-F46D891B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C73C9-4A1F-471E-89AD-E9FED792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8A058-DAE3-46F1-A6C7-21165988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DBE4B-22BB-4D3D-B111-A4DE7E61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94B-230B-45A1-A25B-E1630D72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A49E2-17E7-4E87-8A56-C6A33FA6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385F3-E05E-4607-A9BC-24CDE48C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04DF3-A255-4843-84C7-7F241178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D8132-CD2C-4926-B5EF-C1DBD622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41FDD-1DC7-47D7-9656-CDFCCC39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43447-0A9E-4C4F-BBEC-2CBF5C4A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1A769-8431-46FC-8452-4663E457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7684F-21E8-4C72-B9A4-B6A23406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D535E-55B7-4C02-B040-888F7F65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EA311-76BF-4C66-8DE1-901ED9E4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E71-92C2-4C75-89A0-A010A895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33881-D019-498E-9F6C-23F32394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AB5AC-55F3-4550-A93F-59E21B10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A3F92-A18C-4105-9C75-7DAADE19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00478-155F-456B-8324-1B0DD83F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ACAF8-7CCD-41C0-8561-2C486841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7026B-DBB9-4656-95B6-4C3F381A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110D0-AAC8-4345-8467-90C8A8BA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025B4-B0C8-4E4D-BCD9-28DF0300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4862B-943F-47A3-A425-69224E39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2B4E5-CFD8-4E37-9A1F-1AFBD746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1D3-5FAB-4839-B592-FA23611A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D347E-52D4-4347-8F59-8351B3D7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9DA4D-83E0-49B3-B43A-A1304D43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43EDA-0955-4260-BB07-25A25E9D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F9DC3-13FD-457F-9920-7E859A25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DD786-AAF3-452C-B22B-604409C2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14D17-4FCD-4559-8C75-2E3551A0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C60E2-E5B7-488C-9F7B-FCAEC20A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6FAA4-820A-437C-A7D1-07FFC0B1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3535F-F8E2-4B84-AAFA-FA08E65F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AF71D-F226-4299-9712-300614D4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73D-616B-4496-BA77-C3F203C6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D1D10-DC75-40AE-AF15-80AB0671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83B92-E49D-4373-8429-3549DB9F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69F0D-B083-4BD4-9ABA-37FB6A73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859C2-5448-46D1-9C17-DED004BA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29BEE-4345-46C7-B9D4-2E7EE468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0C6AB-CF86-4305-AB05-BED631DB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7E301-CB83-4DBF-81EC-B95D6CD9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68B6D-A3C8-4709-B2D0-6D31FEFC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84734-88EB-48CD-BE63-EB9895CF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697AD-483C-42E6-93DC-FD2F0157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71D-97C3-4519-8BC5-AA9672E5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8E928-DF0E-4466-A5B4-BE2AD111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B9838-7DD6-4DEB-9328-E4D763E6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17CD8-9CA7-4A61-8B27-A05BBA04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04C98-1F9C-400A-B21D-8EDFEE48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6C776-6464-45D8-B498-8BEF5705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DEBE9-F12D-415B-816A-493C0539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58B16-8E13-48AA-9008-89015925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3C14E-B106-4FB2-8EA1-4ED63CC2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CEA8E-FDDA-47D6-8C3F-CEE0090A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1B2D9-7F7C-455B-A47B-63074766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5FB-69F1-4FA7-AA7B-2F4D69C0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4A34A-1D0E-40A7-A568-21D7A11E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364A9-6C78-4DCD-94F1-416DDD76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8AB5E-94D2-4BE1-9BA7-2F8758C8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E2069-2CAF-49FA-8543-03F7C186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759FC-9B10-40B2-B177-E7A0BC98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F622A-EF75-47A9-B6E7-CCFB0F88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E5A2C-D261-4FD5-895D-899B6A04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E0B37-0315-4900-BE0F-38833312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4A9E3-E6FB-49AF-A3B8-35E97AA9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34BC0-9BBC-4216-A2E9-7338D4F1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19E-82BD-43EA-9991-490582B7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D04A1-EF5E-482B-9B84-C0958E66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F2616-8DB8-4EF2-8867-04BA39B2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252E5-9BD3-4525-A4C8-1D526490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64532-7DA9-42DC-B448-2774A6A0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C8DD3-17E9-47C5-BBEF-74B89361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334D8-6D0D-47FC-9514-020FF86B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28243-D8D2-4067-9C1A-1B9683D8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AFAA4-87AD-49E4-9E14-D04C1B07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75FD5-59B9-4F21-931C-D5CC40F1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269A0-155A-4A87-87DA-259026A4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0913-50B6-4124-8DCA-C2091A818023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81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  <p:sp>
        <p:nvSpPr>
          <p:cNvPr id="445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81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470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3" descr="water"/>
          <p:cNvPicPr/>
          <p:nvPr/>
        </p:nvPicPr>
        <p:blipFill>
          <a:blip r:embed="rId4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8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9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86A0-08D0-48D4-8834-322D62010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BB04-DE4D-46EC-A29F-B8B5DDAB4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81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73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8244-92CD-4757-B1D1-D0E5FC6E1188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D48B-AC05-4EFE-8316-09E862B14FC6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720D-6A4C-4938-AAA2-FE7D03A28094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8FE8-8750-4BE8-9E01-3A1161D472C5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E219-8C8C-4852-9BBA-1EE623F6214C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950B-5C50-469D-A573-BE312864F439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BB6C-5906-4C09-9661-0A5CECD6BDB9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-360" y="1483920"/>
            <a:ext cx="90010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Основные правил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эффективного уро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285840" y="21384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Нужно, чтобы дети, по возможности, учились самостоятельно, а учитель руководил этим самостоятельным процессом и давал для него материал»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       К.Д. Ушинск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Прямоугольник 3"/>
          <p:cNvSpPr/>
          <p:nvPr/>
        </p:nvSpPr>
        <p:spPr>
          <a:xfrm>
            <a:off x="2357280" y="3786120"/>
            <a:ext cx="45720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030a0"/>
                </a:solidFill>
                <a:uFillTx/>
                <a:latin typeface="Arial"/>
                <a:ea typeface="Arial"/>
              </a:rPr>
              <a:t>У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ЧЕБА</a:t>
            </a:r>
            <a:r>
              <a:rPr b="1" lang="ru-RU" sz="3600" spc="-1" strike="noStrike">
                <a:solidFill>
                  <a:srgbClr val="b292ca"/>
                </a:solidFill>
                <a:latin typeface="Arial"/>
                <a:ea typeface="Arial"/>
              </a:rPr>
              <a:t>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92ca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 u="sng">
                <a:solidFill>
                  <a:srgbClr val="b292ca"/>
                </a:solidFill>
                <a:uFillTx/>
                <a:latin typeface="Arial"/>
                <a:ea typeface="Arial"/>
              </a:rPr>
              <a:t>У</a:t>
            </a:r>
            <a:r>
              <a:rPr b="1" lang="ru-RU" sz="3600" spc="-1" strike="noStrike">
                <a:solidFill>
                  <a:srgbClr val="b292ca"/>
                </a:solidFill>
                <a:latin typeface="Arial"/>
                <a:ea typeface="Arial"/>
              </a:rPr>
              <a:t>ДИВЛЕНИЕ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66ff"/>
                </a:solidFill>
                <a:uFillTx/>
                <a:latin typeface="Arial"/>
                <a:ea typeface="Arial"/>
              </a:rPr>
              <a:t>У</a:t>
            </a:r>
            <a:r>
              <a:rPr b="1" lang="ru-RU" sz="3600" spc="-1" strike="noStrike">
                <a:solidFill>
                  <a:srgbClr val="ff66ff"/>
                </a:solidFill>
                <a:latin typeface="Arial"/>
                <a:ea typeface="Arial"/>
              </a:rPr>
              <a:t>ДОВОЛЬСТВИЕ</a:t>
            </a:r>
            <a:r>
              <a:rPr b="1" lang="ru-RU" sz="3600" spc="-1" strike="noStrike">
                <a:solidFill>
                  <a:srgbClr val="b292ca"/>
                </a:solidFill>
                <a:latin typeface="Arial"/>
                <a:ea typeface="Arial"/>
              </a:rPr>
              <a:t>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У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  <a:ea typeface="Arial"/>
              </a:rPr>
              <a:t>ВЛЕЧЕНИЕ</a:t>
            </a:r>
            <a:r>
              <a:rPr b="1" lang="ru-RU" sz="3600" spc="-1" strike="noStrike">
                <a:solidFill>
                  <a:srgbClr val="b292ca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  <a:ea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УСПЕХ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5"/>
          <p:cNvSpPr/>
          <p:nvPr/>
        </p:nvSpPr>
        <p:spPr>
          <a:xfrm>
            <a:off x="2571840" y="307188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ФОРМУЛА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5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 «У»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56760" y="356760"/>
            <a:ext cx="8572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но-деятельностный подход, лежащий в основе стандарта, предполагает проведение уроков нового тип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нам, учителям, ещё предстоит овладеть технологией проведения таких урок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Rectangle 2" descr=""/>
          <p:cNvPicPr/>
          <p:nvPr/>
        </p:nvPicPr>
        <p:blipFill>
          <a:blip r:embed="rId2"/>
          <a:stretch/>
        </p:blipFill>
        <p:spPr>
          <a:xfrm>
            <a:off x="285840" y="3643200"/>
            <a:ext cx="86439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Прямоугольник 3"/>
          <p:cNvSpPr/>
          <p:nvPr/>
        </p:nvSpPr>
        <p:spPr>
          <a:xfrm>
            <a:off x="285840" y="285840"/>
            <a:ext cx="60325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зеркало общей и педагогической культуры учителя, мерило его интеллектуального богатства, показатель его кругозора, эрудици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Прямоугольник 4" descr=""/>
          <p:cNvPicPr/>
          <p:nvPr/>
        </p:nvPicPr>
        <p:blipFill>
          <a:blip r:embed="rId1"/>
          <a:stretch/>
        </p:blipFill>
        <p:spPr>
          <a:xfrm>
            <a:off x="4853160" y="5357880"/>
            <a:ext cx="4290840" cy="9032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" descr=""/>
          <p:cNvPicPr/>
          <p:nvPr/>
        </p:nvPicPr>
        <p:blipFill>
          <a:blip r:embed="rId2"/>
          <a:stretch/>
        </p:blipFill>
        <p:spPr>
          <a:xfrm>
            <a:off x="5786280" y="676440"/>
            <a:ext cx="3400560" cy="439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33cc"/>
                </a:solidFill>
                <a:latin typeface="Cambria"/>
              </a:rPr>
              <a:t>Волшебный якорь урока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0" y="714240"/>
            <a:ext cx="929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-428760" y="0"/>
            <a:ext cx="985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4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8T15:09:59Z</dcterms:created>
  <dc:creator>HP</dc:creator>
  <dc:description/>
  <dc:language>en-US</dc:language>
  <cp:lastModifiedBy>User</cp:lastModifiedBy>
  <dcterms:modified xsi:type="dcterms:W3CDTF">2019-12-28T09:14:32Z</dcterms:modified>
  <cp:revision>16</cp:revision>
  <dc:subject/>
  <dc:title>Слайд 1</dc:title>
</cp:coreProperties>
</file>