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92F-7CB0-479B-B19C-70D9409B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CF7-982A-4CD0-A8B5-928F9F88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1E8-D833-461F-98AB-52265854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4DB-9E26-4890-A202-225F42CD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3CA-2CC4-4E84-A156-6CA90F01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A6E-0BD7-4723-925D-1055D4E0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04B-7201-4CCF-95A1-A4636864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E8B-8F33-4744-9AE9-EB8175E3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7FD-7FE3-4516-885E-FDB16C8D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7AB-DAE9-47EA-AFCB-A70B7575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3A1-0F75-4AF7-8202-6FAEDB0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1FB-A85B-4A21-AE36-35905690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1" marL="705600" indent="-271440">
              <a:spcBef>
                <a:spcPts val="901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2" marL="1085760" indent="-217080"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3" marL="1519920" indent="-217080">
              <a:spcBef>
                <a:spcPts val="901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4" marL="1954440" indent="-217080">
              <a:spcBef>
                <a:spcPts val="901"/>
              </a:spcBef>
              <a:buClr>
                <a:srgbClr val="6600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5" marL="1954440" indent="-21708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6" marL="1954440" indent="-21708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9C84-661E-4E40-B4CA-4EBEFAA98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489800" cy="561816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468360" y="260280"/>
            <a:ext cx="835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регись автомобиля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4941720"/>
            <a:ext cx="8785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Нужно переходить проезжую часть под прямым углом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Там, где дорога хорошо просматривается в обе стороны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89000"/>
            <a:ext cx="6121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Unicode MS"/>
              </a:rPr>
              <a:t>В зоне видимости нет      пешеходного пере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113080" cy="338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78920" y="404280"/>
            <a:ext cx="3024720" cy="1080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0000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Как нужно переходить улицу?</a:t>
            </a:r>
            <a:endParaRPr b="1" lang="en-US" sz="4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Какими дорожными знаками обозначают пешеходные переходы?</a:t>
            </a:r>
            <a:endParaRPr b="1" lang="en-US" sz="4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Что такое островок      безопасности?</a:t>
            </a:r>
            <a:endParaRPr b="1" lang="en-US" sz="4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5661000"/>
            <a:ext cx="9352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5661000"/>
            <a:ext cx="93492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5661000"/>
            <a:ext cx="93492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400"/>
            </a:b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6920" y="189000"/>
            <a:ext cx="7345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узнаем, чему научимс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4000" y="1700280"/>
            <a:ext cx="7272360" cy="1295280"/>
            <a:chOff x="324000" y="1700280"/>
            <a:chExt cx="7272360" cy="1295280"/>
          </a:xfrm>
        </p:grpSpPr>
        <p:sp>
          <p:nvSpPr>
            <p:cNvPr id="47" name=""/>
            <p:cNvSpPr/>
            <p:nvPr/>
          </p:nvSpPr>
          <p:spPr>
            <a:xfrm>
              <a:off x="324000" y="1700280"/>
              <a:ext cx="7272360" cy="1295280"/>
            </a:xfrm>
            <a:prstGeom prst="wedgeRoundRectCallout">
              <a:avLst>
                <a:gd name="adj1" fmla="val -28041"/>
                <a:gd name="adj2" fmla="val 45587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826920" y="1916280"/>
              <a:ext cx="597708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1. Узнаем, какие правила дорожного движения </a:t>
              </a:r>
              <a:endParaRPr b="1" lang="en-US" sz="2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должен соблюдать пешеход.</a:t>
              </a:r>
              <a:endParaRPr b="1" lang="en-US" sz="2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93080" y="1341360"/>
            <a:ext cx="1487520" cy="2376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grpSp>
        <p:nvGrpSpPr>
          <p:cNvPr id="50" name=""/>
          <p:cNvGrpSpPr/>
          <p:nvPr/>
        </p:nvGrpSpPr>
        <p:grpSpPr>
          <a:xfrm>
            <a:off x="1547640" y="4076640"/>
            <a:ext cx="7272360" cy="1295640"/>
            <a:chOff x="1547640" y="4076640"/>
            <a:chExt cx="7272360" cy="1295640"/>
          </a:xfrm>
        </p:grpSpPr>
        <p:sp>
          <p:nvSpPr>
            <p:cNvPr id="51" name=""/>
            <p:cNvSpPr/>
            <p:nvPr/>
          </p:nvSpPr>
          <p:spPr>
            <a:xfrm>
              <a:off x="1547640" y="4076640"/>
              <a:ext cx="7272360" cy="1295640"/>
            </a:xfrm>
            <a:prstGeom prst="wedgeRoundRectCallout">
              <a:avLst>
                <a:gd name="adj1" fmla="val -28041"/>
                <a:gd name="adj2" fmla="val 45587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2268360" y="4148280"/>
              <a:ext cx="597708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2. Научимся различать основные дорожные знаки, 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необходимые пешеходу.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1736640" cy="1801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716360" y="404640"/>
            <a:ext cx="4248000" cy="6191280"/>
            <a:chOff x="4716360" y="404640"/>
            <a:chExt cx="4248000" cy="6191280"/>
          </a:xfrm>
        </p:grpSpPr>
        <p:sp>
          <p:nvSpPr>
            <p:cNvPr id="55" name=""/>
            <p:cNvSpPr/>
            <p:nvPr/>
          </p:nvSpPr>
          <p:spPr>
            <a:xfrm>
              <a:off x="4716360" y="404640"/>
              <a:ext cx="4248000" cy="6191280"/>
            </a:xfrm>
            <a:prstGeom prst="wedgeRoundRectCallout">
              <a:avLst>
                <a:gd name="adj1" fmla="val -7324"/>
                <a:gd name="adj2" fmla="val 38180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5076720" y="836280"/>
              <a:ext cx="3552840" cy="5329440"/>
            </a:xfrm>
            <a:prstGeom prst="rect">
              <a:avLst/>
            </a:prstGeom>
            <a:ln w="12600">
              <a:solidFill>
                <a:srgbClr val="ff6600"/>
              </a:solidFill>
              <a:miter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611280" y="1916280"/>
            <a:ext cx="3527280" cy="3958920"/>
            <a:chOff x="611280" y="1916280"/>
            <a:chExt cx="3527280" cy="3958920"/>
          </a:xfrm>
        </p:grpSpPr>
        <p:sp>
          <p:nvSpPr>
            <p:cNvPr id="58" name=""/>
            <p:cNvSpPr/>
            <p:nvPr/>
          </p:nvSpPr>
          <p:spPr>
            <a:xfrm>
              <a:off x="611280" y="1916280"/>
              <a:ext cx="3527280" cy="3958920"/>
            </a:xfrm>
            <a:prstGeom prst="wedgeRoundRectCallout">
              <a:avLst>
                <a:gd name="adj1" fmla="val -13810"/>
                <a:gd name="adj2" fmla="val 48606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042920" y="2203200"/>
              <a:ext cx="2761920" cy="3403440"/>
            </a:xfrm>
            <a:prstGeom prst="rect">
              <a:avLst/>
            </a:prstGeom>
            <a:ln w="25560">
              <a:solidFill>
                <a:srgbClr val="ff9900"/>
              </a:solidFill>
              <a:miter/>
            </a:ln>
          </p:spPr>
        </p:pic>
      </p:grpSp>
      <p:sp>
        <p:nvSpPr>
          <p:cNvPr id="60" name=""/>
          <p:cNvSpPr txBox="1"/>
          <p:nvPr/>
        </p:nvSpPr>
        <p:spPr>
          <a:xfrm>
            <a:off x="1042920" y="404640"/>
            <a:ext cx="30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в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тофор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619280" y="274320"/>
            <a:ext cx="5905800" cy="5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0000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123920" cy="173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4897440" cy="324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1844640"/>
            <a:ext cx="3133440" cy="4175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916360" y="1484280"/>
            <a:ext cx="1655640" cy="503280"/>
            <a:chOff x="2916360" y="1484280"/>
            <a:chExt cx="1655640" cy="503280"/>
          </a:xfrm>
        </p:grpSpPr>
        <p:sp>
          <p:nvSpPr>
            <p:cNvPr id="66" name=""/>
            <p:cNvSpPr/>
            <p:nvPr/>
          </p:nvSpPr>
          <p:spPr>
            <a:xfrm>
              <a:off x="2916360" y="1484280"/>
              <a:ext cx="1655640" cy="503280"/>
            </a:xfrm>
            <a:prstGeom prst="wedgeRoundRectCallout">
              <a:avLst>
                <a:gd name="adj1" fmla="val -47601"/>
                <a:gd name="adj2" fmla="val 18768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3203640" y="1627200"/>
              <a:ext cx="1008000" cy="26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Козырёк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flipH="1">
            <a:off x="2700000" y="1916280"/>
            <a:ext cx="863640" cy="19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1916280"/>
            <a:ext cx="32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258560" y="404640"/>
            <a:ext cx="6716880" cy="721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0000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2250000" y="62280"/>
            <a:ext cx="4861080" cy="7993080"/>
          </a:xfrm>
          <a:prstGeom prst="wedgeRoundRectCallout">
            <a:avLst>
              <a:gd name="adj1" fmla="val -18259"/>
              <a:gd name="adj2" fmla="val 49185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9933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977080" cy="44830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763640" y="259920"/>
            <a:ext cx="5833080" cy="576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0000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635720" cy="347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48360" cy="5887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763640" y="259920"/>
            <a:ext cx="5833080" cy="576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0000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195640" y="404280"/>
            <a:ext cx="4248000" cy="576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0000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116000" y="1484280"/>
            <a:ext cx="1440000" cy="3889440"/>
            <a:chOff x="1116000" y="1484280"/>
            <a:chExt cx="1440000" cy="3889440"/>
          </a:xfrm>
        </p:grpSpPr>
        <p:sp>
          <p:nvSpPr>
            <p:cNvPr id="80" name=""/>
            <p:cNvSpPr/>
            <p:nvPr/>
          </p:nvSpPr>
          <p:spPr>
            <a:xfrm>
              <a:off x="1116000" y="1484280"/>
              <a:ext cx="1440000" cy="388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03280" y="1844640"/>
              <a:ext cx="936720" cy="792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03280" y="3860640"/>
              <a:ext cx="93672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03280" y="2852640"/>
              <a:ext cx="93672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924360" y="1484280"/>
            <a:ext cx="1439640" cy="3889440"/>
            <a:chOff x="3924360" y="1484280"/>
            <a:chExt cx="1439640" cy="3889440"/>
          </a:xfrm>
        </p:grpSpPr>
        <p:sp>
          <p:nvSpPr>
            <p:cNvPr id="85" name=""/>
            <p:cNvSpPr/>
            <p:nvPr/>
          </p:nvSpPr>
          <p:spPr>
            <a:xfrm>
              <a:off x="3924360" y="1484280"/>
              <a:ext cx="1439640" cy="388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11280" y="1844640"/>
              <a:ext cx="936360" cy="79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11280" y="3860640"/>
              <a:ext cx="93636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1280" y="2852640"/>
              <a:ext cx="936360" cy="79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588000" y="1484280"/>
            <a:ext cx="1440000" cy="388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5640" y="1844640"/>
            <a:ext cx="93636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5640" y="3860640"/>
            <a:ext cx="936360" cy="7923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5640" y="2852640"/>
            <a:ext cx="93636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5661000"/>
            <a:ext cx="7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5661000"/>
            <a:ext cx="7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661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32360" y="2276640"/>
            <a:ext cx="4896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Остановись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Осмотрись со всех сторон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Убедись в безопасности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Начинай переход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260280"/>
            <a:ext cx="59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Unicode MS"/>
              </a:rPr>
              <a:t>Переход проезжей части по обозначенному пешеходному перех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608360" cy="3127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78920" y="404280"/>
            <a:ext cx="3024720" cy="1080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0000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4:52:45Z</dcterms:created>
  <dc:creator>Nastja</dc:creator>
  <dc:description/>
  <dc:language>en-US</dc:language>
  <cp:lastModifiedBy>112</cp:lastModifiedBy>
  <dcterms:modified xsi:type="dcterms:W3CDTF">2016-02-24T06:17:45Z</dcterms:modified>
  <cp:revision>15</cp:revision>
  <dc:subject/>
  <dc:title>Слайд 1</dc:title>
</cp:coreProperties>
</file>