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CF4-CC49-4F31-AC15-6B52072B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FF2-ABCC-4D54-A1B8-A8F02D91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9E1-7F3A-4636-A3A4-04E415AC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92D-C358-4051-8141-C4F300F7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722C-140D-4EC5-9371-229C7F0F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B436-F558-4307-AE7C-78FEA7B3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6064-B3E1-442A-9BE2-4559C6FE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E715-5F5A-4C9F-BF80-DE07BCA5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B910-C06E-4C89-B0AA-100F88E4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F305-9EA8-4186-A11D-1D68ED8B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E8D3-E9D5-413A-8762-18BA03AD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950-7A6E-49A3-8702-5E88ECDD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DDA3-1C54-44EF-96DF-37B0DE9C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11C8-62FA-4826-9746-421C3627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65D6-AF09-449E-9377-3F2EF15A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5707-DAA2-412F-92D4-DD04A0C2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B2FD-0386-450C-A95B-88F3CCD3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1E3-552D-426D-A70A-491DE254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27E-DC2B-42BE-BE9B-711C7E7E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3C0-CFB2-4147-ADBC-ABE8D9AC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A82-FAE5-4CDC-BA0F-F9A18ED9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5A3-749A-40A1-A0BB-3650A799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AD3-1077-451D-8154-383AA579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ADE-5C2C-4E53-A253-953BE928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3366"/>
                  </a:solidFill>
                  <a:latin typeface="Monotype Corsiva"/>
                </a:endParaRPr>
              </a:p>
            </p:txBody>
          </p:sp>
          <p:sp>
            <p:nvSpPr>
              <p:cNvPr id="3" name="Freeform 24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3366"/>
                  </a:solidFill>
                  <a:latin typeface="Monotype Corsiva"/>
                </a:endParaRPr>
              </a:p>
            </p:txBody>
          </p:sp>
        </p:grpSp>
        <p:grpSp>
          <p:nvGrpSpPr>
            <p:cNvPr id="4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3366"/>
                  </a:solidFill>
                  <a:latin typeface="Monotype Corsiva"/>
                </a:endParaRPr>
              </a:p>
            </p:txBody>
          </p:sp>
          <p:sp>
            <p:nvSpPr>
              <p:cNvPr id="6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3366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3366"/>
              </a:solidFill>
              <a:latin typeface="Monotype Corsiv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3366"/>
              </a:solidFill>
              <a:latin typeface="Monotype Corsiv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3FB8-C473-4C42-913D-2F23977BA67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1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3366"/>
                </a:solidFill>
                <a:latin typeface="Monotype Corsiva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3366"/>
                </a:solidFill>
                <a:latin typeface="Monotype Corsiva"/>
              </a:endParaRPr>
            </a:p>
          </p:txBody>
        </p:sp>
      </p:grpSp>
      <p:grpSp>
        <p:nvGrpSpPr>
          <p:cNvPr id="51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3366"/>
                </a:solidFill>
                <a:latin typeface="Monotype Corsiva"/>
              </a:endParaRPr>
            </a:p>
          </p:txBody>
        </p:sp>
        <p:sp>
          <p:nvSpPr>
            <p:cNvPr id="53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3366"/>
                </a:solidFill>
                <a:latin typeface="Monotype Corsiva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3366"/>
              </a:solidFill>
              <a:latin typeface="Monotype Corsiv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3366"/>
              </a:solidFill>
              <a:latin typeface="Monotype Corsiv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3E24-421C-4871-AF44-20781D0AA7F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smiles.rc-mir.com/smile.99419.html" TargetMode="External"/><Relationship Id="rId4" Type="http://schemas.openxmlformats.org/officeDocument/2006/relationships/image" Target="../media/image2.gi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5" descr="rose021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rose02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468360" y="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Отгадай загадки, напиши отгадки.</a:t>
            </a:r>
            <a:endParaRPr b="1" lang="en-US" sz="40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Объясни их правописание.</a:t>
            </a:r>
            <a:endParaRPr b="1" lang="en-US" sz="4000" spc="-1" strike="noStrike">
              <a:solidFill>
                <a:srgbClr val="003366"/>
              </a:solidFill>
              <a:latin typeface="Monotype Corsiva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0" y="1268280"/>
            <a:ext cx="54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Под соснами, под ёлками лежит мешок с иголками.</a:t>
            </a:r>
            <a:endParaRPr b="1" lang="en-US" sz="3200" spc="-1" strike="noStrike">
              <a:solidFill>
                <a:srgbClr val="003366"/>
              </a:solidFill>
              <a:latin typeface="Monotype Corsiv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0" y="2421000"/>
            <a:ext cx="507672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Драчун и забияка, </a:t>
            </a:r>
            <a:endParaRPr b="1" lang="en-US" sz="32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знает страха,</a:t>
            </a:r>
            <a:endParaRPr b="1" lang="en-US" sz="32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ивет в воде, </a:t>
            </a:r>
            <a:endParaRPr b="1" lang="en-US" sz="32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сит иглы на спин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Monotype Corsiva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0" y="450864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Умный Ивашка, красная рубашка, Где пройдет –коснётся, </a:t>
            </a:r>
            <a:endParaRPr b="1" lang="en-US" sz="3200" spc="-1" strike="noStrike">
              <a:solidFill>
                <a:srgbClr val="003366"/>
              </a:solidFill>
              <a:latin typeface="Monotype Corsiva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0" y="5589720"/>
            <a:ext cx="47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ам след остаётся.</a:t>
            </a:r>
            <a:endParaRPr b="1" lang="en-US" sz="3200" spc="-1" strike="noStrike">
              <a:solidFill>
                <a:srgbClr val="003366"/>
              </a:solidFill>
              <a:latin typeface="Monotype Corsiva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6084720" y="14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Ёж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580000" y="2565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ёрш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536400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рандаш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</p:txBody>
      </p:sp>
      <p:pic>
        <p:nvPicPr>
          <p:cNvPr id="108" name="Picture 22" descr="52700f890651dc92124920441652bb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6000" y="1268280"/>
            <a:ext cx="1028520" cy="981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" descr="karanda34"/>
          <p:cNvPicPr/>
          <p:nvPr/>
        </p:nvPicPr>
        <p:blipFill>
          <a:blip r:embed="rId5"/>
          <a:stretch/>
        </p:blipFill>
        <p:spPr>
          <a:xfrm>
            <a:off x="7238880" y="5300640"/>
            <a:ext cx="1905120" cy="1238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6" descr="erch"/>
          <p:cNvPicPr/>
          <p:nvPr/>
        </p:nvPicPr>
        <p:blipFill>
          <a:blip r:embed="rId6"/>
          <a:stretch/>
        </p:blipFill>
        <p:spPr>
          <a:xfrm>
            <a:off x="6540480" y="2565360"/>
            <a:ext cx="26035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Picture 5" descr="rose021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rose02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2695320" cy="1390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2627280" y="633240"/>
            <a:ext cx="65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ак запомним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—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род мужской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Гонит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ягкий Знак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метлой.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Женский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род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—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оборот,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ягкий Знак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в друзья берёт.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5" descr="rose021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rose021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Замени словосочетание одним словом.</a:t>
            </a:r>
            <a:endParaRPr b="1" lang="en-US" sz="40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Объясни написание слов.</a:t>
            </a:r>
            <a:endParaRPr b="1" lang="en-US" sz="4000" spc="-1" strike="noStrike">
              <a:solidFill>
                <a:srgbClr val="003366"/>
              </a:solidFill>
              <a:latin typeface="Monotype Corsiv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50920" y="1773360"/>
            <a:ext cx="8893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Близкий приятель, друг.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Часть суток от вечера до утра.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Двенадцать часов ночи, середина ночи.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Молодые люди.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Человек, лечащий больных.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2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5" descr="rose021"/>
          <p:cNvPicPr/>
          <p:nvPr/>
        </p:nvPicPr>
        <p:blipFill>
          <a:blip r:embed="rId1"/>
          <a:stretch/>
        </p:blipFill>
        <p:spPr>
          <a:xfrm>
            <a:off x="0" y="0"/>
            <a:ext cx="385128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rose021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2268360" y="260280"/>
            <a:ext cx="41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Проверка.</a:t>
            </a:r>
            <a:endParaRPr b="1" lang="en-US" sz="4400" spc="-1" strike="noStrike">
              <a:solidFill>
                <a:srgbClr val="003366"/>
              </a:solidFill>
              <a:latin typeface="Monotype Corsiva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484360" y="1052640"/>
            <a:ext cx="5473800" cy="81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оварищ (м.р.),</a:t>
            </a:r>
            <a:endParaRPr b="1" lang="en-US" sz="40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оч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(ж.р.),</a:t>
            </a:r>
            <a:endParaRPr b="1" lang="en-US" sz="40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лноч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ь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ж.р.),</a:t>
            </a:r>
            <a:endParaRPr b="1" lang="en-US" sz="40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олодеж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(ж.р.),</a:t>
            </a:r>
            <a:endParaRPr b="1" lang="en-US" sz="40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рач          (м.р.).</a:t>
            </a:r>
            <a:endParaRPr b="1" lang="en-US" sz="40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endParaRPr b="1" lang="en-US" sz="40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5" descr="rose021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rose021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2268360" y="0"/>
            <a:ext cx="41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Вывод</a:t>
            </a:r>
            <a:endParaRPr b="1" lang="en-US" sz="4400" spc="-1" strike="noStrike">
              <a:solidFill>
                <a:srgbClr val="003366"/>
              </a:solidFill>
              <a:latin typeface="Monotype Corsiv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24000" y="620640"/>
            <a:ext cx="8820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конце существительных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женского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да  после шипящих 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ишется Ь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к.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конце существительных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мужского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да после шипящих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Ь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к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не пишется.</a:t>
            </a:r>
            <a:endParaRPr b="1" lang="en-US" sz="3600" spc="-1" strike="noStrike">
              <a:solidFill>
                <a:srgbClr val="003366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5:11:50Z</dcterms:created>
  <dc:creator>User</dc:creator>
  <dc:description/>
  <dc:language>en-US</dc:language>
  <cp:lastModifiedBy>Олег</cp:lastModifiedBy>
  <dcterms:modified xsi:type="dcterms:W3CDTF">2020-01-29T23:43:58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50000000000010243100207f6000400038000</vt:lpwstr>
  </property>
  <property fmtid="{D5CDD505-2E9C-101B-9397-08002B2CF9AE}" pid="3" name="Version">
    <vt:r8>4</vt:r8>
  </property>
</Properties>
</file>