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FD44A-A6D2-454B-9575-DF1B8B52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1B34BA-DBD4-462B-B566-5E69CB88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6D213-6CB5-46B3-BCEE-F4FCC56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CE240-253D-4D82-834A-825378D5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339DB-BF73-4476-A075-2C98B4D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31556A-20F0-48D5-9102-647B3FE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71C3DB-B1BE-4061-BB65-316D32D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E2D5F-6C91-48E8-BE66-364A451D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2577CE-1CC2-423B-BB6E-AA988FBC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E383B-9CBA-4177-957D-E885DB22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E1E952-5C47-4F4A-8933-73434098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96E65-1D55-4E2E-B281-F4FD67D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21C46A-0ECD-4D81-A27A-9258DD4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EBA693-95F8-47D2-94FA-E801363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F95AB-CD3E-49A8-8A2E-4C41F5A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897F97-6815-4BFE-9131-5B1E877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CDCF0-4FF3-4FEB-9F52-C3C70B7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B849B8-519F-4A34-AA13-92B67C0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429F8D-41F7-448B-A9F3-A3BD27D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E6F25-2EC9-4973-BC0D-7DE50430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71976-DDBC-4818-A0A3-673D3390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D8E19-2C86-48B4-9906-6EFB8556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09CFC-4F66-47B4-A7D7-324446E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66D8C-3688-47E6-8CDB-AA624925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6538E-8186-4C98-AF1E-A7F62E8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5A4B5-166C-429C-A6F5-963781A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33B2D-2C54-47E4-8E22-1821C0C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34E9D-A0CF-4CEE-B0A5-19083F3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D4D3A-A526-4A5B-97F9-7A7093E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F22C-28E5-4E8F-87EE-DD763A1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99957-8FE6-4E07-BA49-834077DE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78E14-2A7A-4484-A0CB-DF1F0022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77672-3915-4231-A4F1-D2448716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3F762-39AA-4BC1-924B-FCB989B7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9ABEB-C867-4B47-9611-75F4E5F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1F964-F737-40FC-958F-2561ED3F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4EAB7-3A59-4192-A677-6860AAA4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F5A3B-F8C6-4CF1-80DF-6FDF6F5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E34C8-D26F-4D1A-BD1A-E252197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7FC8B-C832-416C-AD77-6D81630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D00E8-10A1-4465-B843-1C61AEB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BB7F2-84C4-41AB-8B85-5706990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DE5F6-B998-49A0-B173-C75B4C2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4FB1A-00CC-45B5-BC7D-570F9309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EACA3-C7BA-4C3D-9971-8083D965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3E4E77-1EE1-435E-9F1F-4381E1EC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0FC3B6-E4FD-4206-AB51-2D473CEE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12426-1395-437F-94E4-284F9C32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B6A8AD-EA03-46B2-9FDD-28A6B89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F564A1-2B0A-4406-9FD6-4674CE3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14FD02-70CC-4615-8ED0-5D866E54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7B07C9-AE75-49FF-8498-EDF1939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8DBE91-24A4-4C65-AD92-3B12E94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E52912-D0C6-4547-A567-CC81F73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26A9A-48E4-470B-A15A-04D2F0B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830D66-AD1D-445C-B3A3-94720693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2F064D-942E-4B83-9971-A0456218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B0D22-09D5-484A-B898-73C0CDE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3A48C-0C3B-470F-A354-6A0197A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2C837-3FC8-4EDA-AEBA-90E570B8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DEB24-44A7-4CD3-B839-01E5D2E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BF580-B2BE-463E-8BA7-EC7ED766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87720-9E89-4DB7-8E9D-C5B6DBB3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58975-386E-4F4B-9B65-46B6461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FC2F6-7EBC-451A-B5A9-E65F64A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7FA03-B721-4961-BFA7-FA55D60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C8B8A-989F-454C-A4A0-75ECB44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4D0AC-CD5F-4519-827E-76149738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EBEFA-3FC2-4CEB-8F64-4E9934AE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96D279-9EAE-48ED-A35D-438D2844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160C23-1A2F-4EA5-A7BD-B48B8681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F7E90E-7D8B-4D24-BB8E-AB6399C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D904A2-545F-4810-B1D4-2724EDF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6B183-5408-4442-B0E7-E150293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7296A-DDA9-4B0A-A7F2-AA6A9A1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27EE4D-9EDE-457A-B86C-336822A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B75A8F-5BD3-47D1-9732-14729AD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0D1176-56CE-48F9-AD86-294CDDC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2E5C96-6C13-4391-B095-30AA873A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5BB32E-31CC-46D3-87B1-0FCA823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E70B68-A217-454B-AFFB-746626F4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E7B56B-2C38-492D-8575-4331F775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A8CC06-7FE4-4914-9E3F-2B96D39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021F4D-4DD8-431C-A2AB-FC02E63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B57581-D264-4B7A-906F-3903B53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D7615B-1D44-4105-9279-8474D0C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CD3024-AEA3-4CA4-BEDF-3FBF7CF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EC8A9B-E37D-4A34-8B7A-C7B049F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0F3F97-DEE7-4E44-A3FD-B2D05F4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5C726B-4AFE-4CEC-849C-6B0F28A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C06D57-69A2-44FB-9FD0-569F4486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CB9028-75C7-4706-BD8C-561CEE5A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DFDEB7-DBC9-48C1-897B-40508DB4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B3C9D-2267-4DE7-9FD5-3DAC0FE5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1FC11-6A53-414A-8F29-662FFFE4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4A6B2-4E3E-41D6-9FFB-6AA02FB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DBD6E-1FE2-4031-A847-A352236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4565-45F6-479E-91A8-5CF7BA8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DF57B-5C06-4ECB-9703-88A05A5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5BD78-8907-4261-AB82-E1D610B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2C4E-4705-4963-AFF3-12B84FA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E4212-8DA7-45D2-8EE1-BBFB1F7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6443-9366-46B1-892C-E1A7C21D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23BB-B4AC-4B81-9FE4-035B19F4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CADC-78A8-438F-91AA-8A26AF4A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EFA1F-E5DA-4DBA-A51E-30865FD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36351-BF04-447C-9CE2-B9CB5C8E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EE89D-ABF1-42DC-B863-3B79FA09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53157-7320-4BDD-9115-7FA76940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51778-FBD3-409B-A0BC-CD5AA8EE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4EC29-0E0A-4BCF-B02E-B381913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A06DD-6FEA-43C4-831C-7D72CD5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DAFFC-B2E7-4545-AD5E-19874FA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16EE5-25FE-4614-9C41-0B72A90C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070BC-4A08-4642-8A9E-12AB5957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DE899-6E4F-4D95-9090-829F3423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DE8B4-401F-4E86-88CA-C2870DCF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FFD91-DC4D-4AAF-862B-77B04B49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EC889-DA19-4260-B037-82BB7F6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A6829-226A-4BC9-99DD-5C34D40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9B1E4-2920-4C61-8A0C-9CC2A072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3C0EC-59FB-477D-9DE2-668133B8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EF814-9EE4-4A81-A951-16CEC1E7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F09F3-68FF-4410-BCC1-AE6A7DC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B1A51-D450-4BF7-BD82-0039035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9A3E3-FB0F-4B70-A116-B6A43F2A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2A939-397C-4DE9-83F3-5BE22ACF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CDF57-C686-4290-9B1C-4DE9BB04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70395-05C7-4153-B399-27BE6CE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8F33A-64B1-476F-8D47-566BDF0B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0E8B2-AB59-4A82-9761-37EBD77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07786-466B-478E-8994-D6DA234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3B655-0954-492F-9BDC-965ADC8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5E30A-2263-4B13-ACB2-851D49FA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F52D1-2674-4AE6-86D1-3B4EC679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4CFEC7-39F4-4C4D-BD3C-ED58F96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B2E5C-8302-4167-9FE3-C6B8B09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F8A80-05C1-46DF-9070-79DC974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11B834-C478-4584-9EAE-491BCF9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29A10-5525-4730-ABC1-0B167D1F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FA11A-D377-49A3-801F-82CC7AD2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885D5-1B6B-4207-8CE2-1E50010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44F8A-9431-47E8-B3B0-6467934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B38A8-56ED-47E2-AF0A-1EBA96D5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2F83D-F6E8-4261-9FB9-49448DD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4A374-4012-4B5B-B51A-AB254FDF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E7EE32-B635-464D-A608-E97ACFB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C9FD7-7CEA-42F3-879B-7C49E86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687C4E-BEC3-4BEA-AFDA-7425F24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6D9014-F6D2-4D98-924C-05FA540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78C05-EBD3-41E0-A7BF-9F5DB56C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048B5-FBE2-4C2E-94CD-5AC44FA0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EFE45-4D73-4234-B0D4-9D3F9BE7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2AE92-DAD1-41DF-9940-7DB5C99B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08ADE0-76F1-4B13-AEBE-F53D972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B5897-FF1D-45D1-865D-8D3C80AC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10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1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0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1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2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B7A412-8EB1-474E-9701-B58C0F39450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3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4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5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E399B3-9164-4955-B0CC-7F793BB8327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6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7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8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D3C200-D0EA-4ADB-AFB5-61187C8957D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9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0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B844CA-6E9F-4682-B439-CE3C0A8C35F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2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3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4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F34BAA-CD4D-476A-9C02-F72E9AD3180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7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5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6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37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2786CB-FCEC-4EFC-BB6F-6E2B533997A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7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7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38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39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0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2058D4-ABF7-4543-8AFE-DB49FE00959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85"/>
          <p:cNvSpPr/>
          <p:nvPr/>
        </p:nvSpPr>
        <p:spPr>
          <a:xfrm>
            <a:off x="8096400" y="2590920"/>
            <a:ext cx="1047600" cy="2209680"/>
          </a:xfrm>
          <a:custGeom>
            <a:avLst/>
            <a:gdLst/>
            <a:ahLst/>
            <a:rect l="l" t="t" r="r" b="b"/>
            <a:pathLst>
              <a:path w="770" h="1392">
                <a:moveTo>
                  <a:pt x="0" y="190"/>
                </a:moveTo>
                <a:lnTo>
                  <a:pt x="770" y="0"/>
                </a:lnTo>
                <a:lnTo>
                  <a:pt x="770" y="1392"/>
                </a:lnTo>
                <a:lnTo>
                  <a:pt x="0" y="1116"/>
                </a:lnTo>
                <a:lnTo>
                  <a:pt x="0" y="190"/>
                </a:lnTo>
                <a:close/>
              </a:path>
            </a:pathLst>
          </a:custGeom>
          <a:gradFill rotWithShape="0">
            <a:gsLst>
              <a:gs pos="0">
                <a:srgbClr val="b1deff"/>
              </a:gs>
              <a:gs pos="100000">
                <a:srgbClr val="1d9eff">
                  <a:alpha val="7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6" descr="Picture11"/>
          <p:cNvPicPr/>
          <p:nvPr/>
        </p:nvPicPr>
        <p:blipFill>
          <a:blip r:embed="rId2"/>
          <a:srcRect l="4635" t="0" r="0" b="6420"/>
          <a:stretch/>
        </p:blipFill>
        <p:spPr>
          <a:xfrm>
            <a:off x="8229600" y="3419640"/>
            <a:ext cx="68112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78"/>
          <p:cNvSpPr/>
          <p:nvPr/>
        </p:nvSpPr>
        <p:spPr>
          <a:xfrm>
            <a:off x="3575160" y="1878120"/>
            <a:ext cx="4538520" cy="4190760"/>
          </a:xfrm>
          <a:custGeom>
            <a:avLst/>
            <a:gdLst/>
            <a:ahLst/>
            <a:rect l="l" t="t" r="r" b="b"/>
            <a:pathLst>
              <a:path w="2740" h="2636">
                <a:moveTo>
                  <a:pt x="4" y="0"/>
                </a:moveTo>
                <a:lnTo>
                  <a:pt x="2740" y="634"/>
                </a:lnTo>
                <a:lnTo>
                  <a:pt x="2740" y="1577"/>
                </a:lnTo>
                <a:lnTo>
                  <a:pt x="0" y="2636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f0a22e"/>
              </a:gs>
              <a:gs pos="100000">
                <a:srgbClr val="f9dc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3"/>
          <p:cNvSpPr/>
          <p:nvPr/>
        </p:nvSpPr>
        <p:spPr>
          <a:xfrm rot="1529400">
            <a:off x="5143320" y="4243320"/>
            <a:ext cx="368280" cy="1752840"/>
          </a:xfrm>
          <a:prstGeom prst="upArrow">
            <a:avLst>
              <a:gd name="adj1" fmla="val 47852"/>
              <a:gd name="adj2" fmla="val 8930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5"/>
          <p:cNvSpPr/>
          <p:nvPr/>
        </p:nvSpPr>
        <p:spPr>
          <a:xfrm rot="1529400">
            <a:off x="4592160" y="3126960"/>
            <a:ext cx="533520" cy="3048120"/>
          </a:xfrm>
          <a:prstGeom prst="upArrow">
            <a:avLst>
              <a:gd name="adj1" fmla="val 47852"/>
              <a:gd name="adj2" fmla="val 107202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44"/>
          <p:cNvSpPr/>
          <p:nvPr/>
        </p:nvSpPr>
        <p:spPr>
          <a:xfrm rot="1529400">
            <a:off x="4950000" y="3795840"/>
            <a:ext cx="398160" cy="2016000"/>
          </a:xfrm>
          <a:prstGeom prst="upArrow">
            <a:avLst>
              <a:gd name="adj1" fmla="val 47852"/>
              <a:gd name="adj2" fmla="val 95007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7"/>
          <p:cNvSpPr/>
          <p:nvPr/>
        </p:nvSpPr>
        <p:spPr>
          <a:xfrm rot="1529400">
            <a:off x="5600880" y="4371840"/>
            <a:ext cx="257040" cy="1067040"/>
          </a:xfrm>
          <a:prstGeom prst="upArrow">
            <a:avLst>
              <a:gd name="adj1" fmla="val 47852"/>
              <a:gd name="adj2" fmla="val 77894"/>
            </a:avLst>
          </a:prstGeom>
          <a:solidFill>
            <a:srgbClr val="f0a22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8"/>
          <p:cNvSpPr/>
          <p:nvPr/>
        </p:nvSpPr>
        <p:spPr>
          <a:xfrm rot="1529400">
            <a:off x="6111360" y="4209840"/>
            <a:ext cx="381240" cy="1087200"/>
          </a:xfrm>
          <a:prstGeom prst="upArrow">
            <a:avLst>
              <a:gd name="adj1" fmla="val 47852"/>
              <a:gd name="adj2" fmla="val 53510"/>
            </a:avLst>
          </a:prstGeom>
          <a:solidFill>
            <a:srgbClr val="ffc42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9"/>
          <p:cNvSpPr/>
          <p:nvPr/>
        </p:nvSpPr>
        <p:spPr>
          <a:xfrm rot="1529400">
            <a:off x="5761080" y="4819320"/>
            <a:ext cx="252360" cy="466560"/>
          </a:xfrm>
          <a:prstGeom prst="upArrow">
            <a:avLst>
              <a:gd name="adj1" fmla="val 43972"/>
              <a:gd name="adj2" fmla="val 9219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66"/>
          <p:cNvGrpSpPr/>
          <p:nvPr/>
        </p:nvGrpSpPr>
        <p:grpSpPr>
          <a:xfrm>
            <a:off x="6200640" y="2413080"/>
            <a:ext cx="1465920" cy="1452960"/>
            <a:chOff x="6200640" y="2413080"/>
            <a:chExt cx="1465920" cy="1452960"/>
          </a:xfrm>
        </p:grpSpPr>
        <p:sp>
          <p:nvSpPr>
            <p:cNvPr id="58" name="AutoShape 51"/>
            <p:cNvSpPr/>
            <p:nvPr/>
          </p:nvSpPr>
          <p:spPr>
            <a:xfrm flipH="1" flipV="1" rot="1529400">
              <a:off x="6484680" y="2432160"/>
              <a:ext cx="409320" cy="1414440"/>
            </a:xfrm>
            <a:prstGeom prst="upArrow">
              <a:avLst>
                <a:gd name="adj1" fmla="val 47852"/>
                <a:gd name="adj2" fmla="val 64840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AutoShape 52"/>
            <p:cNvSpPr/>
            <p:nvPr/>
          </p:nvSpPr>
          <p:spPr>
            <a:xfrm flipH="1" flipV="1" rot="1529400">
              <a:off x="6939360" y="2504520"/>
              <a:ext cx="308520" cy="990000"/>
            </a:xfrm>
            <a:prstGeom prst="upArrow">
              <a:avLst>
                <a:gd name="adj1" fmla="val 47852"/>
                <a:gd name="adj2" fmla="val 60552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AutoShape 53"/>
            <p:cNvSpPr/>
            <p:nvPr/>
          </p:nvSpPr>
          <p:spPr>
            <a:xfrm flipH="1" flipV="1" rot="1529400">
              <a:off x="7283160" y="2643480"/>
              <a:ext cx="303120" cy="442080"/>
            </a:xfrm>
            <a:prstGeom prst="upArrow">
              <a:avLst>
                <a:gd name="adj1" fmla="val 38870"/>
                <a:gd name="adj2" fmla="val 5223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54"/>
            <p:cNvSpPr/>
            <p:nvPr/>
          </p:nvSpPr>
          <p:spPr>
            <a:xfrm flipH="1" flipV="1" rot="1529400">
              <a:off x="6400800" y="2501640"/>
              <a:ext cx="303120" cy="442080"/>
            </a:xfrm>
            <a:prstGeom prst="upArrow">
              <a:avLst>
                <a:gd name="adj1" fmla="val 38870"/>
                <a:gd name="adj2" fmla="val 5223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Rectangle 31"/>
          <p:cNvSpPr/>
          <p:nvPr/>
        </p:nvSpPr>
        <p:spPr>
          <a:xfrm>
            <a:off x="0" y="1878120"/>
            <a:ext cx="3594240" cy="4195800"/>
          </a:xfrm>
          <a:prstGeom prst="rect">
            <a:avLst/>
          </a:prstGeom>
          <a:gradFill rotWithShape="0">
            <a:gsLst>
              <a:gs pos="0">
                <a:srgbClr val="ffc42f"/>
              </a:gs>
              <a:gs pos="100000">
                <a:srgbClr val="ffe7a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4" descr="Picture11"/>
          <p:cNvPicPr/>
          <p:nvPr/>
        </p:nvPicPr>
        <p:blipFill>
          <a:blip r:embed="rId3"/>
          <a:srcRect l="4633" t="0" r="0" b="6304"/>
          <a:stretch/>
        </p:blipFill>
        <p:spPr>
          <a:xfrm>
            <a:off x="0" y="252396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71"/>
          <p:cNvSpPr/>
          <p:nvPr/>
        </p:nvSpPr>
        <p:spPr>
          <a:xfrm rot="1529400">
            <a:off x="1787040" y="3822840"/>
            <a:ext cx="636840" cy="2442960"/>
          </a:xfrm>
          <a:prstGeom prst="upArrow">
            <a:avLst>
              <a:gd name="adj1" fmla="val 47852"/>
              <a:gd name="adj2" fmla="val 71979"/>
            </a:avLst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114800" y="6095880"/>
            <a:ext cx="1098720" cy="4291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88"/>
          <p:cNvSpPr/>
          <p:nvPr/>
        </p:nvSpPr>
        <p:spPr>
          <a:xfrm rot="1529400">
            <a:off x="3687480" y="5288040"/>
            <a:ext cx="263520" cy="876240"/>
          </a:xfrm>
          <a:prstGeom prst="upArrow">
            <a:avLst>
              <a:gd name="adj1" fmla="val 47852"/>
              <a:gd name="adj2" fmla="val 62392"/>
            </a:avLst>
          </a:prstGeom>
          <a:solidFill>
            <a:srgbClr val="ffc42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42"/>
          <p:cNvSpPr/>
          <p:nvPr/>
        </p:nvSpPr>
        <p:spPr>
          <a:xfrm rot="1529400">
            <a:off x="4025520" y="4506480"/>
            <a:ext cx="441360" cy="1600200"/>
          </a:xfrm>
          <a:prstGeom prst="upArrow">
            <a:avLst>
              <a:gd name="adj1" fmla="val 47852"/>
              <a:gd name="adj2" fmla="val 680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82"/>
          <p:cNvSpPr/>
          <p:nvPr/>
        </p:nvSpPr>
        <p:spPr>
          <a:xfrm>
            <a:off x="-11160" y="4368960"/>
            <a:ext cx="9155160" cy="2484360"/>
          </a:xfrm>
          <a:custGeom>
            <a:avLst/>
            <a:gdLst/>
            <a:ahLst/>
            <a:rect l="l" t="t" r="r" b="b"/>
            <a:pathLst>
              <a:path w="5767" h="1565">
                <a:moveTo>
                  <a:pt x="2263" y="1065"/>
                </a:moveTo>
                <a:lnTo>
                  <a:pt x="5118" y="0"/>
                </a:lnTo>
                <a:lnTo>
                  <a:pt x="5760" y="269"/>
                </a:lnTo>
                <a:lnTo>
                  <a:pt x="5767" y="1565"/>
                </a:lnTo>
                <a:lnTo>
                  <a:pt x="0" y="1565"/>
                </a:lnTo>
                <a:lnTo>
                  <a:pt x="7" y="1065"/>
                </a:lnTo>
                <a:lnTo>
                  <a:pt x="2263" y="10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http://eduraion.irk.ru/media/upload/mon_C6r07bf.jpg"/>
          <p:cNvPicPr/>
          <p:nvPr/>
        </p:nvPicPr>
        <p:blipFill>
          <a:blip r:embed="rId4"/>
          <a:stretch/>
        </p:blipFill>
        <p:spPr>
          <a:xfrm>
            <a:off x="5364000" y="4076640"/>
            <a:ext cx="326232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2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3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4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79E746-17A8-4A74-844F-3373D0461F8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5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6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7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ECAC2C-D372-415D-9661-D68D6B40B23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8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9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51FEAA-C74F-4BA0-A8E7-0227538F00E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A0C8F9-9CB1-4B55-9A65-4DA2A6F07D1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4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5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6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A74E9C-7195-4AE7-BD7A-1C3B5F5E226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/>
            <a:ahLst/>
            <a:rect l="l" t="t" r="r" b="b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7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8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9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1B59A1-E9FD-49B3-8774-259DD34DE54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  <a:ea typeface="Aharoni"/>
              </a:rPr>
              <a:t>Работа с предметными и метапредметными дефицитами обучающихся и педагогов начальных классов</a:t>
            </a:r>
            <a:endParaRPr b="1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7" name="Подзаголовок 2"/>
          <p:cNvSpPr/>
          <p:nvPr/>
        </p:nvSpPr>
        <p:spPr>
          <a:xfrm>
            <a:off x="90360" y="5516640"/>
            <a:ext cx="47530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12e"/>
                </a:solidFill>
                <a:latin typeface="Times New Roman"/>
                <a:ea typeface="Droid Sans Fallback"/>
              </a:rPr>
              <a:t>Манькова Н.С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12e"/>
                </a:solidFill>
                <a:latin typeface="Times New Roman"/>
                <a:ea typeface="Droid Sans Fallback"/>
              </a:rPr>
              <a:t>руководитель РМО учителей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ниж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50" name="Диаграмма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4981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ниж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900000" y="1989000"/>
          <a:ext cx="7344000" cy="2737080"/>
        </p:xfrm>
        <a:graphic>
          <a:graphicData uri="http://schemas.openxmlformats.org/drawingml/2006/table">
            <a:tbl>
              <a:tblPr/>
              <a:tblGrid>
                <a:gridCol w="4079880"/>
                <a:gridCol w="3264120"/>
              </a:tblGrid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низ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ружающий ми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выш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54" name="Объект 3" descr=""/>
          <p:cNvPicPr/>
          <p:nvPr/>
        </p:nvPicPr>
        <p:blipFill>
          <a:blip r:embed="rId1"/>
          <a:stretch/>
        </p:blipFill>
        <p:spPr>
          <a:xfrm>
            <a:off x="57240" y="1001880"/>
            <a:ext cx="8813880" cy="5573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выш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900000" y="1989000"/>
          <a:ext cx="7344000" cy="2737080"/>
        </p:xfrm>
        <a:graphic>
          <a:graphicData uri="http://schemas.openxmlformats.org/drawingml/2006/table">
            <a:tbl>
              <a:tblPr/>
              <a:tblGrid>
                <a:gridCol w="4079880"/>
                <a:gridCol w="3264120"/>
              </a:tblGrid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с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ружающий ми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етодики выявления необъективного оценивания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79280" y="1989000"/>
            <a:ext cx="8640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ониторинг результатов процедуры оценки по года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(сравнение результа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дних и тех же дете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ониторинг результатов процедуры оценки по годам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61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2" name=""/>
          <p:cNvGraphicFramePr/>
          <p:nvPr/>
        </p:nvGraphicFramePr>
        <p:xfrm>
          <a:off x="223920" y="1844640"/>
          <a:ext cx="8596080" cy="2165400"/>
        </p:xfrm>
        <a:graphic>
          <a:graphicData uri="http://schemas.openxmlformats.org/drawingml/2006/table">
            <a:tbl>
              <a:tblPr/>
              <a:tblGrid>
                <a:gridCol w="1279440"/>
                <a:gridCol w="1279440"/>
                <a:gridCol w="1265400"/>
                <a:gridCol w="1265040"/>
                <a:gridCol w="1265400"/>
                <a:gridCol w="1265040"/>
                <a:gridCol w="976320"/>
              </a:tblGrid>
              <a:tr h="36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 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 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класс 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9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1,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7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,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3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ониторинг результатов процедуры оценки по годам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64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324000" y="1916280"/>
          <a:ext cx="8351640" cy="1888920"/>
        </p:xfrm>
        <a:graphic>
          <a:graphicData uri="http://schemas.openxmlformats.org/drawingml/2006/table">
            <a:tbl>
              <a:tblPr/>
              <a:tblGrid>
                <a:gridCol w="1439640"/>
                <a:gridCol w="1871640"/>
                <a:gridCol w="1728720"/>
                <a:gridCol w="1872000"/>
                <a:gridCol w="1439640"/>
              </a:tblGrid>
              <a:tr h="36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 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 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1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3,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ониторинг результатов процедуры оценки по годам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67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8" name=""/>
          <p:cNvGraphicFramePr/>
          <p:nvPr/>
        </p:nvGraphicFramePr>
        <p:xfrm>
          <a:off x="223920" y="1844640"/>
          <a:ext cx="8596080" cy="2165400"/>
        </p:xfrm>
        <a:graphic>
          <a:graphicData uri="http://schemas.openxmlformats.org/drawingml/2006/table">
            <a:tbl>
              <a:tblPr/>
              <a:tblGrid>
                <a:gridCol w="1279440"/>
                <a:gridCol w="1279440"/>
                <a:gridCol w="1265400"/>
                <a:gridCol w="1265040"/>
                <a:gridCol w="1265400"/>
                <a:gridCol w="1265040"/>
                <a:gridCol w="976320"/>
              </a:tblGrid>
              <a:tr h="36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 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 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класс 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9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-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9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0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ониторинг результатов процедуры оценки по годам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70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1" name=""/>
          <p:cNvGraphicFramePr/>
          <p:nvPr/>
        </p:nvGraphicFramePr>
        <p:xfrm>
          <a:off x="324000" y="1916280"/>
          <a:ext cx="8351640" cy="1888920"/>
        </p:xfrm>
        <a:graphic>
          <a:graphicData uri="http://schemas.openxmlformats.org/drawingml/2006/table">
            <a:tbl>
              <a:tblPr/>
              <a:tblGrid>
                <a:gridCol w="1439640"/>
                <a:gridCol w="1871640"/>
                <a:gridCol w="1728720"/>
                <a:gridCol w="1872000"/>
                <a:gridCol w="1439640"/>
              </a:tblGrid>
              <a:tr h="36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 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 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-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62,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1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5,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ониторинг результатов процедуры оценки по годам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73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4" name=""/>
          <p:cNvGraphicFramePr/>
          <p:nvPr/>
        </p:nvGraphicFramePr>
        <p:xfrm>
          <a:off x="223920" y="1844640"/>
          <a:ext cx="8596080" cy="2957400"/>
        </p:xfrm>
        <a:graphic>
          <a:graphicData uri="http://schemas.openxmlformats.org/drawingml/2006/table">
            <a:tbl>
              <a:tblPr/>
              <a:tblGrid>
                <a:gridCol w="1279440"/>
                <a:gridCol w="1279440"/>
                <a:gridCol w="1212840"/>
                <a:gridCol w="1224000"/>
                <a:gridCol w="1224000"/>
                <a:gridCol w="1297080"/>
                <a:gridCol w="1079280"/>
              </a:tblGrid>
              <a:tr h="36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 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класс 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класс 20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-ловская обл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бит-ское 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9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-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9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7,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6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  <a:tr h="79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50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54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2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a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ормативная база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1125000"/>
            <a:ext cx="8436240" cy="33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от 29.12.2012 N 273-ФЗ статьи 10, 11, 12, 28, 29, 30, 47, 55, 66 «Об образовании в Российской Федераци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е государственные образовательные стандарт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ениями ОО об оцен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407280" y="412128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етодики выявления необъективного оценивания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179280" y="1989000"/>
            <a:ext cx="8640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ценка «правдоподобности» распределения процентов выполнения заданий относительно  общей выборки или контрольной выбор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721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спределения процентов выполнения работы относительно общей выборки</a:t>
            </a:r>
            <a:endParaRPr b="1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79" name="Диаграмма 6" descr=""/>
          <p:cNvPicPr/>
          <p:nvPr/>
        </p:nvPicPr>
        <p:blipFill>
          <a:blip r:embed="rId1"/>
          <a:stretch/>
        </p:blipFill>
        <p:spPr>
          <a:xfrm>
            <a:off x="176040" y="1195560"/>
            <a:ext cx="8498160" cy="518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пользование результатов оценочных процедур </a:t>
            </a:r>
            <a:endParaRPr b="1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979280" y="1197000"/>
            <a:ext cx="71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ть и внедрить программы повышения эффективности преподавания и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узкие места деятельности педколлектива и разработать соответствующие рекомендации для каждого педаг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наименее подготовленных учащихся в целях предоставления им необходимой помо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ть соответствующую ресурсную, организационную и методическую поддержки неэффективно работающим учител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ть независимую оценку деятельности отдельного педагога, группы педагогов  для организации работы с педкад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Picture 8" descr="https://3.bp.blogspot.com/-GEBqRExgoDE/V9d3qpab32I/AAAAAAAAKDM/w-g9EEPyaqQC6ruZ-MJRKrkbPDURYTengCEw/s1600/Ocenka-bizneca.png"/>
          <p:cNvPicPr/>
          <p:nvPr/>
        </p:nvPicPr>
        <p:blipFill>
          <a:blip r:embed="rId1"/>
          <a:stretch/>
        </p:blipFill>
        <p:spPr>
          <a:xfrm>
            <a:off x="-396720" y="1916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азвитие качества образования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84" name="Группа 2"/>
          <p:cNvGrpSpPr/>
          <p:nvPr/>
        </p:nvGrpSpPr>
        <p:grpSpPr>
          <a:xfrm>
            <a:off x="2268360" y="1484280"/>
            <a:ext cx="4511880" cy="1057320"/>
            <a:chOff x="2268360" y="1484280"/>
            <a:chExt cx="4511880" cy="1057320"/>
          </a:xfrm>
        </p:grpSpPr>
        <p:sp>
          <p:nvSpPr>
            <p:cNvPr id="885" name="Скругленный прямоугольник 3"/>
            <p:cNvSpPr/>
            <p:nvPr/>
          </p:nvSpPr>
          <p:spPr>
            <a:xfrm>
              <a:off x="2268360" y="1484280"/>
              <a:ext cx="4511880" cy="10573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27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Скругленный прямоугольник 4"/>
            <p:cNvSpPr/>
            <p:nvPr/>
          </p:nvSpPr>
          <p:spPr>
            <a:xfrm>
              <a:off x="2304720" y="1515960"/>
              <a:ext cx="44391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совершенствование образовательных результат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Группа 5"/>
          <p:cNvGrpSpPr/>
          <p:nvPr/>
        </p:nvGrpSpPr>
        <p:grpSpPr>
          <a:xfrm>
            <a:off x="606600" y="3573360"/>
            <a:ext cx="2863800" cy="2141640"/>
            <a:chOff x="606600" y="3573360"/>
            <a:chExt cx="2863800" cy="2141640"/>
          </a:xfrm>
        </p:grpSpPr>
        <p:sp>
          <p:nvSpPr>
            <p:cNvPr id="888" name="Скругленный прямоугольник 6"/>
            <p:cNvSpPr/>
            <p:nvPr/>
          </p:nvSpPr>
          <p:spPr>
            <a:xfrm>
              <a:off x="606600" y="3573360"/>
              <a:ext cx="2863800" cy="21416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35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Скругленный прямоугольник 4"/>
            <p:cNvSpPr/>
            <p:nvPr/>
          </p:nvSpPr>
          <p:spPr>
            <a:xfrm>
              <a:off x="669960" y="3636720"/>
              <a:ext cx="2737080" cy="20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совершенствование организации образовательной деяте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по предмет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Группа 8"/>
          <p:cNvGrpSpPr/>
          <p:nvPr/>
        </p:nvGrpSpPr>
        <p:grpSpPr>
          <a:xfrm>
            <a:off x="5292720" y="3635280"/>
            <a:ext cx="3116160" cy="2133720"/>
            <a:chOff x="5292720" y="3635280"/>
            <a:chExt cx="3116160" cy="2133720"/>
          </a:xfrm>
        </p:grpSpPr>
        <p:sp>
          <p:nvSpPr>
            <p:cNvPr id="891" name="Скругленный прямоугольник 9"/>
            <p:cNvSpPr/>
            <p:nvPr/>
          </p:nvSpPr>
          <p:spPr>
            <a:xfrm>
              <a:off x="5292720" y="3635280"/>
              <a:ext cx="3116160" cy="2133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08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Скругленный прямоугольник 4"/>
            <p:cNvSpPr/>
            <p:nvPr/>
          </p:nvSpPr>
          <p:spPr>
            <a:xfrm>
              <a:off x="5354280" y="3697200"/>
              <a:ext cx="2992680" cy="20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повышение квалификации и профессионализма педаго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3" name="Группа 11"/>
          <p:cNvGrpSpPr/>
          <p:nvPr/>
        </p:nvGrpSpPr>
        <p:grpSpPr>
          <a:xfrm>
            <a:off x="2725560" y="2541960"/>
            <a:ext cx="919440" cy="1136520"/>
            <a:chOff x="2725560" y="2541960"/>
            <a:chExt cx="919440" cy="1136520"/>
          </a:xfrm>
        </p:grpSpPr>
        <p:sp>
          <p:nvSpPr>
            <p:cNvPr id="894" name="Двойная стрелка влево/вправо 12"/>
            <p:cNvSpPr/>
            <p:nvPr/>
          </p:nvSpPr>
          <p:spPr>
            <a:xfrm rot="18000000">
              <a:off x="2660400" y="2882160"/>
              <a:ext cx="1049400" cy="455760"/>
            </a:xfrm>
            <a:prstGeom prst="leftRightArrow">
              <a:avLst>
                <a:gd name="adj1" fmla="val 60000"/>
                <a:gd name="adj2" fmla="val 50037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Двойная стрелка влево/вправо 4"/>
            <p:cNvSpPr/>
            <p:nvPr/>
          </p:nvSpPr>
          <p:spPr>
            <a:xfrm rot="18000000">
              <a:off x="2796840" y="2972880"/>
              <a:ext cx="77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6" name="Группа 14"/>
          <p:cNvGrpSpPr/>
          <p:nvPr/>
        </p:nvGrpSpPr>
        <p:grpSpPr>
          <a:xfrm>
            <a:off x="5635080" y="2521440"/>
            <a:ext cx="921600" cy="1138680"/>
            <a:chOff x="5635080" y="2521440"/>
            <a:chExt cx="921600" cy="1138680"/>
          </a:xfrm>
        </p:grpSpPr>
        <p:sp>
          <p:nvSpPr>
            <p:cNvPr id="897" name="Двойная стрелка влево/вправо 15"/>
            <p:cNvSpPr/>
            <p:nvPr/>
          </p:nvSpPr>
          <p:spPr>
            <a:xfrm rot="3600000">
              <a:off x="5570280" y="2862000"/>
              <a:ext cx="1050840" cy="457200"/>
            </a:xfrm>
            <a:prstGeom prst="leftRightArrow">
              <a:avLst>
                <a:gd name="adj1" fmla="val 60000"/>
                <a:gd name="adj2" fmla="val 49948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Двойная стрелка влево/вправо 4"/>
            <p:cNvSpPr/>
            <p:nvPr/>
          </p:nvSpPr>
          <p:spPr>
            <a:xfrm rot="3600000">
              <a:off x="5706360" y="2953800"/>
              <a:ext cx="777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Группа 17"/>
          <p:cNvGrpSpPr/>
          <p:nvPr/>
        </p:nvGrpSpPr>
        <p:grpSpPr>
          <a:xfrm>
            <a:off x="3903840" y="4565520"/>
            <a:ext cx="1049040" cy="457200"/>
            <a:chOff x="3903840" y="4565520"/>
            <a:chExt cx="1049040" cy="457200"/>
          </a:xfrm>
        </p:grpSpPr>
        <p:sp>
          <p:nvSpPr>
            <p:cNvPr id="900" name="Двойная стрелка влево/вправо 18"/>
            <p:cNvSpPr/>
            <p:nvPr/>
          </p:nvSpPr>
          <p:spPr>
            <a:xfrm rot="10800000">
              <a:off x="3903840" y="4565520"/>
              <a:ext cx="1049040" cy="457200"/>
            </a:xfrm>
            <a:prstGeom prst="leftRightArrow">
              <a:avLst>
                <a:gd name="adj1" fmla="val 60000"/>
                <a:gd name="adj2" fmla="val 49862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Двойная стрелка влево/вправо 4"/>
            <p:cNvSpPr/>
            <p:nvPr/>
          </p:nvSpPr>
          <p:spPr>
            <a:xfrm>
              <a:off x="4040280" y="4657320"/>
              <a:ext cx="7761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Прямоугольник 2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72835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частники оценочных процедур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12" name="Группа 2"/>
          <p:cNvGrpSpPr/>
          <p:nvPr/>
        </p:nvGrpSpPr>
        <p:grpSpPr>
          <a:xfrm>
            <a:off x="1655640" y="1839960"/>
            <a:ext cx="5832720" cy="1057320"/>
            <a:chOff x="1655640" y="1839960"/>
            <a:chExt cx="5832720" cy="1057320"/>
          </a:xfrm>
        </p:grpSpPr>
        <p:sp>
          <p:nvSpPr>
            <p:cNvPr id="813" name="Скругленный прямоугольник 3"/>
            <p:cNvSpPr/>
            <p:nvPr/>
          </p:nvSpPr>
          <p:spPr>
            <a:xfrm>
              <a:off x="1655640" y="1839960"/>
              <a:ext cx="5832720" cy="10573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27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Скругленный прямоугольник 4"/>
            <p:cNvSpPr/>
            <p:nvPr/>
          </p:nvSpPr>
          <p:spPr>
            <a:xfrm>
              <a:off x="1702800" y="1871640"/>
              <a:ext cx="57384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Педагогические работники О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Группа 5"/>
          <p:cNvGrpSpPr/>
          <p:nvPr/>
        </p:nvGrpSpPr>
        <p:grpSpPr>
          <a:xfrm>
            <a:off x="606600" y="4221000"/>
            <a:ext cx="2863800" cy="1152720"/>
            <a:chOff x="606600" y="4221000"/>
            <a:chExt cx="2863800" cy="1152720"/>
          </a:xfrm>
        </p:grpSpPr>
        <p:sp>
          <p:nvSpPr>
            <p:cNvPr id="816" name="Скругленный прямоугольник 6"/>
            <p:cNvSpPr/>
            <p:nvPr/>
          </p:nvSpPr>
          <p:spPr>
            <a:xfrm>
              <a:off x="606600" y="4221000"/>
              <a:ext cx="2863800" cy="1152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35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Скругленный прямоугольник 4"/>
            <p:cNvSpPr/>
            <p:nvPr/>
          </p:nvSpPr>
          <p:spPr>
            <a:xfrm>
              <a:off x="669960" y="4254840"/>
              <a:ext cx="2737080" cy="10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Обучающиес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Группа 8"/>
          <p:cNvGrpSpPr/>
          <p:nvPr/>
        </p:nvGrpSpPr>
        <p:grpSpPr>
          <a:xfrm>
            <a:off x="5292720" y="4221000"/>
            <a:ext cx="3116160" cy="1152720"/>
            <a:chOff x="5292720" y="4221000"/>
            <a:chExt cx="3116160" cy="1152720"/>
          </a:xfrm>
        </p:grpSpPr>
        <p:sp>
          <p:nvSpPr>
            <p:cNvPr id="819" name="Скругленный прямоугольник 9"/>
            <p:cNvSpPr/>
            <p:nvPr/>
          </p:nvSpPr>
          <p:spPr>
            <a:xfrm>
              <a:off x="5292720" y="4221000"/>
              <a:ext cx="3116160" cy="1152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08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Скругленный прямоугольник 4"/>
            <p:cNvSpPr/>
            <p:nvPr/>
          </p:nvSpPr>
          <p:spPr>
            <a:xfrm>
              <a:off x="5354280" y="4254120"/>
              <a:ext cx="2992680" cy="10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Droid Sans Fallback"/>
                </a:rPr>
                <a:t>Родит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Группа 11"/>
          <p:cNvGrpSpPr/>
          <p:nvPr/>
        </p:nvGrpSpPr>
        <p:grpSpPr>
          <a:xfrm>
            <a:off x="2327040" y="2927880"/>
            <a:ext cx="919440" cy="1136520"/>
            <a:chOff x="2327040" y="2927880"/>
            <a:chExt cx="919440" cy="1136520"/>
          </a:xfrm>
        </p:grpSpPr>
        <p:sp>
          <p:nvSpPr>
            <p:cNvPr id="822" name="Двойная стрелка влево/вправо 12"/>
            <p:cNvSpPr/>
            <p:nvPr/>
          </p:nvSpPr>
          <p:spPr>
            <a:xfrm rot="18000000">
              <a:off x="2261880" y="3268080"/>
              <a:ext cx="1049400" cy="455760"/>
            </a:xfrm>
            <a:prstGeom prst="leftRightArrow">
              <a:avLst>
                <a:gd name="adj1" fmla="val 60000"/>
                <a:gd name="adj2" fmla="val 50037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Двойная стрелка влево/вправо 4"/>
            <p:cNvSpPr/>
            <p:nvPr/>
          </p:nvSpPr>
          <p:spPr>
            <a:xfrm rot="18000000">
              <a:off x="2398320" y="3358800"/>
              <a:ext cx="77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Группа 14"/>
          <p:cNvGrpSpPr/>
          <p:nvPr/>
        </p:nvGrpSpPr>
        <p:grpSpPr>
          <a:xfrm>
            <a:off x="5892480" y="2883600"/>
            <a:ext cx="921600" cy="1138680"/>
            <a:chOff x="5892480" y="2883600"/>
            <a:chExt cx="921600" cy="1138680"/>
          </a:xfrm>
        </p:grpSpPr>
        <p:sp>
          <p:nvSpPr>
            <p:cNvPr id="825" name="Двойная стрелка влево/вправо 15"/>
            <p:cNvSpPr/>
            <p:nvPr/>
          </p:nvSpPr>
          <p:spPr>
            <a:xfrm rot="3600000">
              <a:off x="5827680" y="3224160"/>
              <a:ext cx="1050840" cy="457200"/>
            </a:xfrm>
            <a:prstGeom prst="leftRightArrow">
              <a:avLst>
                <a:gd name="adj1" fmla="val 60000"/>
                <a:gd name="adj2" fmla="val 49948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Двойная стрелка влево/вправо 4"/>
            <p:cNvSpPr/>
            <p:nvPr/>
          </p:nvSpPr>
          <p:spPr>
            <a:xfrm rot="3600000">
              <a:off x="5963760" y="3315960"/>
              <a:ext cx="777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Группа 17"/>
          <p:cNvGrpSpPr/>
          <p:nvPr/>
        </p:nvGrpSpPr>
        <p:grpSpPr>
          <a:xfrm>
            <a:off x="3903840" y="4565520"/>
            <a:ext cx="1049040" cy="457200"/>
            <a:chOff x="3903840" y="4565520"/>
            <a:chExt cx="1049040" cy="457200"/>
          </a:xfrm>
        </p:grpSpPr>
        <p:sp>
          <p:nvSpPr>
            <p:cNvPr id="828" name="Двойная стрелка влево/вправо 18"/>
            <p:cNvSpPr/>
            <p:nvPr/>
          </p:nvSpPr>
          <p:spPr>
            <a:xfrm rot="10800000">
              <a:off x="3903840" y="4565520"/>
              <a:ext cx="1049040" cy="457200"/>
            </a:xfrm>
            <a:prstGeom prst="leftRightArrow">
              <a:avLst>
                <a:gd name="adj1" fmla="val 60000"/>
                <a:gd name="adj2" fmla="val 49862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Двойная стрелка влево/вправо 4"/>
            <p:cNvSpPr/>
            <p:nvPr/>
          </p:nvSpPr>
          <p:spPr>
            <a:xfrm>
              <a:off x="4040280" y="4657320"/>
              <a:ext cx="7761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0" name="Прямоугольник 2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417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нципы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ценочной деятельности  педагога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32" name="Схема 3" descr=""/>
          <p:cNvPicPr/>
          <p:nvPr/>
        </p:nvPicPr>
        <p:blipFill>
          <a:blip r:embed="rId1"/>
          <a:stretch/>
        </p:blipFill>
        <p:spPr>
          <a:xfrm>
            <a:off x="182520" y="944640"/>
            <a:ext cx="854712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сероссийски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верочные работы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34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407280" y="4121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6" descr="https://catalog.prosv.ru/images/big/62007c5c-3135-11e5-925a-0050569c7d18.jpg"/>
          <p:cNvPicPr/>
          <p:nvPr/>
        </p:nvPicPr>
        <p:blipFill>
          <a:blip r:embed="rId2"/>
          <a:stretch/>
        </p:blipFill>
        <p:spPr>
          <a:xfrm>
            <a:off x="6227640" y="1123920"/>
            <a:ext cx="2212920" cy="289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6" name="Picture 8" descr="https://minemshop.ru/images/1019888954.jpg"/>
          <p:cNvPicPr/>
          <p:nvPr/>
        </p:nvPicPr>
        <p:blipFill>
          <a:blip r:embed="rId3"/>
          <a:stretch/>
        </p:blipFill>
        <p:spPr>
          <a:xfrm>
            <a:off x="3708360" y="1268280"/>
            <a:ext cx="2232000" cy="303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7" name="Picture 12" descr="https://i.pinimg.com/originals/94/e1/f2/94e1f21416e1b5ac68d09baf646270ac.jpg"/>
          <p:cNvPicPr/>
          <p:nvPr/>
        </p:nvPicPr>
        <p:blipFill>
          <a:blip r:embed="rId4"/>
          <a:srcRect l="52726" t="2022" r="2156" b="51387"/>
          <a:stretch/>
        </p:blipFill>
        <p:spPr>
          <a:xfrm>
            <a:off x="108000" y="1125360"/>
            <a:ext cx="2220840" cy="29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8" name="Picture 10" descr="55615011 Готовимся к Всероссийской проверочной работе. Математика. Рабочая тетрадь 4 кл. (Просв.)"/>
          <p:cNvPicPr/>
          <p:nvPr/>
        </p:nvPicPr>
        <p:blipFill>
          <a:blip r:embed="rId5"/>
          <a:stretch/>
        </p:blipFill>
        <p:spPr>
          <a:xfrm>
            <a:off x="1835280" y="3328920"/>
            <a:ext cx="2305080" cy="30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етодики выявления необъективного оценивания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79280" y="1125360"/>
            <a:ext cx="84362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несение результатов оценивания с текущей успеваемостью обучающихся (подтверждаемост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иторинг результатов процедуры оценки по годам (сравнение результатов одних и тех же дете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«правдоподобности» распределения процентов выполнения заданий относительно  общей выборки или контрольной выборки (ОО, в которых соблюдены процедур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Методики выявления необъективного оценивания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9280" y="1988640"/>
            <a:ext cx="8640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отнесение результатов оцени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 текущей успеваемостью обучающихся (подтверждаем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6804000" y="4724280"/>
            <a:ext cx="2016000" cy="18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дтвержд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46" name="Диаграмма 7" descr=""/>
          <p:cNvPicPr/>
          <p:nvPr/>
        </p:nvPicPr>
        <p:blipFill>
          <a:blip r:embed="rId1"/>
          <a:stretch/>
        </p:blipFill>
        <p:spPr>
          <a:xfrm>
            <a:off x="176040" y="1054080"/>
            <a:ext cx="8571240" cy="554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формация 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дтвержден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отметк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 результатам ВПР относительно текущего оценивания</a:t>
            </a:r>
            <a:endParaRPr b="1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900000" y="1989000"/>
          <a:ext cx="7344000" cy="2737080"/>
        </p:xfrm>
        <a:graphic>
          <a:graphicData uri="http://schemas.openxmlformats.org/drawingml/2006/table">
            <a:tbl>
              <a:tblPr/>
              <a:tblGrid>
                <a:gridCol w="4079880"/>
                <a:gridCol w="3264120"/>
              </a:tblGrid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тверд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сски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ружающий ми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5c7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8:31:41Z</dcterms:created>
  <dc:creator>Admin</dc:creator>
  <dc:description/>
  <dc:language>en-US</dc:language>
  <cp:lastModifiedBy>Windows User</cp:lastModifiedBy>
  <dcterms:modified xsi:type="dcterms:W3CDTF">2019-11-12T18:28:09Z</dcterms:modified>
  <cp:revision>68</cp:revision>
  <dc:subject/>
  <dc:title>Для родителей будущих первоклассников</dc:title>
</cp:coreProperties>
</file>