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CAF-EF13-4089-81E8-43A7069B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099-EFF0-4FE9-A261-514DCE4D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2FE-438A-4915-8320-DEC880E8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752-56DA-4B7E-A4D0-C912E307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E02-0659-48C5-AAF8-43653E4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DE6-F2CD-478F-925A-C32EF52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854-1BCD-467C-AEE1-9A72653C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939-7A96-48AA-BB6C-D5B693A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1FB-D8AB-40DF-8095-987DEDA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98E-90FF-43E9-9681-6BCFCF5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4CA-8590-4085-9FC0-01543E2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57B-8A6F-4992-B38A-22904FE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431E-935A-41FA-9F26-6FB0C5854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home\Desktop\ba08dd946dc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home\Desktop\0733474.jpg"/>
          <p:cNvPicPr/>
          <p:nvPr/>
        </p:nvPicPr>
        <p:blipFill>
          <a:blip r:embed="rId3"/>
          <a:srcRect l="0" t="0" r="0" b="4914"/>
          <a:stretch/>
        </p:blipFill>
        <p:spPr>
          <a:xfrm>
            <a:off x="0" y="981000"/>
            <a:ext cx="4052880" cy="587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87440" y="469800"/>
            <a:ext cx="8265960" cy="166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3924360" y="59342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У СОШ №10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-конечная звезда 7">
            <a:hlinkClick r:id="" action="ppaction://hlinkshowjump?jump=nextslide"/>
          </p:cNvPr>
          <p:cNvSpPr/>
          <p:nvPr/>
        </p:nvSpPr>
        <p:spPr>
          <a:xfrm>
            <a:off x="7667640" y="5373720"/>
            <a:ext cx="1476360" cy="148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1.mp3" descr=""/>
          <p:cNvPicPr/>
          <p:nvPr/>
        </p:nvPicPr>
        <p:blipFill>
          <a:blip r:embed="rId2"/>
          <a:stretch/>
        </p:blipFill>
        <p:spPr>
          <a:xfrm>
            <a:off x="-612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38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41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44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6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: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i035.radikal.ru/0911/fa/ba08dd946dcd.gif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воч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0" y="292428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subscribe.ru/archive/culture.mystery.masterhappy/201101/04090525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ы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835200" y="365040"/>
            <a:ext cx="20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179280" y="450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oiskm.ru/song/336602-Sviridov-Metel-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50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53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оугольник 7"/>
            <p:cNvSpPr/>
            <p:nvPr/>
          </p:nvSpPr>
          <p:spPr>
            <a:xfrm>
              <a:off x="630684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56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8"/>
            <p:cNvSpPr/>
            <p:nvPr/>
          </p:nvSpPr>
          <p:spPr>
            <a:xfrm>
              <a:off x="774720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61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64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67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72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75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78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83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86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89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8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94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97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00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9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05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08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11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16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19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22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27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30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33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15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3:56:58Z</dcterms:created>
  <dc:creator>home</dc:creator>
  <dc:description/>
  <dc:language>en-US</dc:language>
  <cp:lastModifiedBy>home</cp:lastModifiedBy>
  <dcterms:modified xsi:type="dcterms:W3CDTF">2011-11-26T15:18:31Z</dcterms:modified>
  <cp:revision>11</cp:revision>
  <dc:subject/>
  <dc:title>Поймай снежинку</dc:title>
</cp:coreProperties>
</file>