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E01-AD3B-48E6-B66A-3652AD35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A32-85BF-46ED-8C06-156126A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837-4E43-4567-B9A1-761FEA96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AE7-DD11-4C4D-826F-3B65427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D527-39F7-4348-8845-7315F0A2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D715-FD67-4340-9647-A73B12C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8E4-2027-483D-91A1-5835E6B4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ECA1-897E-483E-A0A0-70B535A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452B-4F43-4CC7-802F-F1A8119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77F-91A8-4A33-A52C-899CF43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5861-AE40-4B21-AD4C-FE2657F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B2E-84E8-4EF7-BE36-D736B016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907-EB67-426D-9180-FFB8AFD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EDF-4824-4E31-8518-F0D52C7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9661-2718-4DE4-97EB-EF92D809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DA12-B65F-4AF5-BEE6-E04C2886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9555-043F-4DAA-9ED8-82F8B6E2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E994-6C45-4E13-A9E1-78D162D8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110A-395E-4AFB-843F-B3EE207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8765-5CF5-4433-BF90-2EAFA8F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3839-99BB-40C1-9203-B4BCF63C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BEAA-0973-49F7-98C8-2A5478C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515-3247-4FEB-B58E-4EB1E9A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2B0F-7711-43D0-9F8B-0D17671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AF5E-4650-4C4A-9B9B-E4E2633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3161-D72E-4D23-A6EF-6BF75ABD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1BF1-F761-49BF-B7DB-2D14F69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BECB-34F7-4B60-98FA-0C225C7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92C2-D289-43F0-B313-A7DC7BAB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8B3D-99D6-437D-B851-E443E026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75C-9CF1-46E6-826B-1DC60614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35D-9B86-46E5-993F-52B847DA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AEF-E098-45D3-8723-BB01F2F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D53-632F-4B0C-8D49-74BE3C3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9B1-D19D-44F6-A79E-7E648D2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C98-9957-45EF-B073-BD92C3A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4237-8383-4036-A132-FDEB138E4E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CCF-9051-4619-AFF6-B30637643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FEC-CCE9-402B-826A-9AF5B67EDD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040" y="4869000"/>
            <a:ext cx="6178680" cy="1069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900000" y="1989000"/>
            <a:ext cx="2880000" cy="1368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ягчает согласный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2720880" y="4149720"/>
            <a:ext cx="2881440" cy="136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003640" y="1989000"/>
            <a:ext cx="2881440" cy="1368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деляет согласный и 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8"/>
          <p:cNvCxnSpPr/>
          <p:nvPr/>
        </p:nvCxnSpPr>
        <p:spPr>
          <a:xfrm flipH="1">
            <a:off x="2555640" y="1196640"/>
            <a:ext cx="129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10"/>
          <p:cNvCxnSpPr/>
          <p:nvPr/>
        </p:nvCxnSpPr>
        <p:spPr>
          <a:xfrm>
            <a:off x="4284720" y="1125360"/>
            <a:ext cx="122472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12"/>
          <p:cNvCxnSpPr>
            <a:stCxn id="123" idx="2"/>
          </p:cNvCxnSpPr>
          <p:nvPr/>
        </p:nvCxnSpPr>
        <p:spPr>
          <a:xfrm flipH="1">
            <a:off x="4066920" y="1417320"/>
            <a:ext cx="48240" cy="258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AutoShape 4"/>
          <p:cNvCxnSpPr>
            <a:stCxn id="132" idx="1"/>
            <a:endCxn id="132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Ж, Ш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5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8dc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1" descr=""/>
          <p:cNvPicPr/>
          <p:nvPr/>
        </p:nvPicPr>
        <p:blipFill>
          <a:blip r:embed="rId2"/>
          <a:stretch/>
        </p:blipFill>
        <p:spPr>
          <a:xfrm>
            <a:off x="5651640" y="44280"/>
            <a:ext cx="3255840" cy="2497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1" descr=""/>
          <p:cNvPicPr/>
          <p:nvPr/>
        </p:nvPicPr>
        <p:blipFill>
          <a:blip r:embed="rId3"/>
          <a:stretch/>
        </p:blipFill>
        <p:spPr>
          <a:xfrm>
            <a:off x="0" y="0"/>
            <a:ext cx="3059280" cy="2421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4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5"/>
          <p:cNvSpPr/>
          <p:nvPr/>
        </p:nvSpPr>
        <p:spPr>
          <a:xfrm>
            <a:off x="1619280" y="620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8"/>
          <p:cNvSpPr/>
          <p:nvPr/>
        </p:nvSpPr>
        <p:spPr>
          <a:xfrm flipH="1">
            <a:off x="1116000" y="620640"/>
            <a:ext cx="50328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32"/>
          <p:cNvGrpSpPr/>
          <p:nvPr/>
        </p:nvGrpSpPr>
        <p:grpSpPr>
          <a:xfrm>
            <a:off x="7915320" y="5013360"/>
            <a:ext cx="1228680" cy="838080"/>
            <a:chOff x="7915320" y="5013360"/>
            <a:chExt cx="1228680" cy="838080"/>
          </a:xfrm>
        </p:grpSpPr>
        <p:pic>
          <p:nvPicPr>
            <p:cNvPr id="148" name="Picture 130" descr=""/>
            <p:cNvPicPr/>
            <p:nvPr/>
          </p:nvPicPr>
          <p:blipFill>
            <a:blip r:embed="rId4"/>
            <a:stretch/>
          </p:blipFill>
          <p:spPr>
            <a:xfrm>
              <a:off x="7915320" y="501336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31"/>
            <p:cNvSpPr/>
            <p:nvPr/>
          </p:nvSpPr>
          <p:spPr>
            <a:xfrm>
              <a:off x="8154000" y="51782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35"/>
          <p:cNvGrpSpPr/>
          <p:nvPr/>
        </p:nvGrpSpPr>
        <p:grpSpPr>
          <a:xfrm>
            <a:off x="2771640" y="5013360"/>
            <a:ext cx="1228680" cy="838080"/>
            <a:chOff x="2771640" y="5013360"/>
            <a:chExt cx="1228680" cy="838080"/>
          </a:xfrm>
        </p:grpSpPr>
        <p:pic>
          <p:nvPicPr>
            <p:cNvPr id="151" name="Picture 133" descr=""/>
            <p:cNvPicPr/>
            <p:nvPr/>
          </p:nvPicPr>
          <p:blipFill>
            <a:blip r:embed="rId5"/>
            <a:stretch/>
          </p:blipFill>
          <p:spPr>
            <a:xfrm>
              <a:off x="2771640" y="501336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34"/>
            <p:cNvSpPr/>
            <p:nvPr/>
          </p:nvSpPr>
          <p:spPr>
            <a:xfrm>
              <a:off x="2971080" y="51768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8"/>
          <p:cNvGrpSpPr/>
          <p:nvPr/>
        </p:nvGrpSpPr>
        <p:grpSpPr>
          <a:xfrm>
            <a:off x="1332000" y="5013360"/>
            <a:ext cx="1228680" cy="838080"/>
            <a:chOff x="1332000" y="5013360"/>
            <a:chExt cx="1228680" cy="838080"/>
          </a:xfrm>
        </p:grpSpPr>
        <p:pic>
          <p:nvPicPr>
            <p:cNvPr id="154" name="Picture 136" descr=""/>
            <p:cNvPicPr/>
            <p:nvPr/>
          </p:nvPicPr>
          <p:blipFill>
            <a:blip r:embed="rId6"/>
            <a:stretch/>
          </p:blipFill>
          <p:spPr>
            <a:xfrm>
              <a:off x="1332000" y="501336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7"/>
            <p:cNvSpPr/>
            <p:nvPr/>
          </p:nvSpPr>
          <p:spPr>
            <a:xfrm>
              <a:off x="1532160" y="527688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41"/>
          <p:cNvGrpSpPr/>
          <p:nvPr/>
        </p:nvGrpSpPr>
        <p:grpSpPr>
          <a:xfrm>
            <a:off x="3924360" y="6019920"/>
            <a:ext cx="1228680" cy="838080"/>
            <a:chOff x="3924360" y="6019920"/>
            <a:chExt cx="1228680" cy="838080"/>
          </a:xfrm>
        </p:grpSpPr>
        <p:pic>
          <p:nvPicPr>
            <p:cNvPr id="157" name="Picture 139" descr=""/>
            <p:cNvPicPr/>
            <p:nvPr/>
          </p:nvPicPr>
          <p:blipFill>
            <a:blip r:embed="rId7"/>
            <a:stretch/>
          </p:blipFill>
          <p:spPr>
            <a:xfrm>
              <a:off x="392436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0"/>
            <p:cNvSpPr/>
            <p:nvPr/>
          </p:nvSpPr>
          <p:spPr>
            <a:xfrm>
              <a:off x="4123800" y="618336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cc"/>
                  </a:solidFill>
                  <a:latin typeface="Arial"/>
                </a:rPr>
                <a:t>камы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44"/>
          <p:cNvGrpSpPr/>
          <p:nvPr/>
        </p:nvGrpSpPr>
        <p:grpSpPr>
          <a:xfrm>
            <a:off x="6659640" y="6019920"/>
            <a:ext cx="1228680" cy="838080"/>
            <a:chOff x="6659640" y="6019920"/>
            <a:chExt cx="1228680" cy="838080"/>
          </a:xfrm>
        </p:grpSpPr>
        <p:pic>
          <p:nvPicPr>
            <p:cNvPr id="160" name="Picture 142" descr=""/>
            <p:cNvPicPr/>
            <p:nvPr/>
          </p:nvPicPr>
          <p:blipFill>
            <a:blip r:embed="rId8"/>
            <a:stretch/>
          </p:blipFill>
          <p:spPr>
            <a:xfrm>
              <a:off x="665964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43"/>
            <p:cNvSpPr/>
            <p:nvPr/>
          </p:nvSpPr>
          <p:spPr>
            <a:xfrm>
              <a:off x="6856200" y="6183360"/>
              <a:ext cx="57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cc"/>
                  </a:solidFill>
                  <a:latin typeface="Arial"/>
                </a:rPr>
                <a:t>чи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7"/>
          <p:cNvGrpSpPr/>
          <p:nvPr/>
        </p:nvGrpSpPr>
        <p:grpSpPr>
          <a:xfrm>
            <a:off x="0" y="5013360"/>
            <a:ext cx="1228680" cy="838080"/>
            <a:chOff x="0" y="5013360"/>
            <a:chExt cx="1228680" cy="838080"/>
          </a:xfrm>
        </p:grpSpPr>
        <p:pic>
          <p:nvPicPr>
            <p:cNvPr id="163" name="Picture 145" descr=""/>
            <p:cNvPicPr/>
            <p:nvPr/>
          </p:nvPicPr>
          <p:blipFill>
            <a:blip r:embed="rId9"/>
            <a:stretch/>
          </p:blipFill>
          <p:spPr>
            <a:xfrm>
              <a:off x="0" y="501336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46"/>
            <p:cNvSpPr/>
            <p:nvPr/>
          </p:nvSpPr>
          <p:spPr>
            <a:xfrm>
              <a:off x="126000" y="517680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54"/>
          <p:cNvGrpSpPr/>
          <p:nvPr/>
        </p:nvGrpSpPr>
        <p:grpSpPr>
          <a:xfrm>
            <a:off x="7915320" y="6019920"/>
            <a:ext cx="1228680" cy="838080"/>
            <a:chOff x="7915320" y="6019920"/>
            <a:chExt cx="1228680" cy="838080"/>
          </a:xfrm>
        </p:grpSpPr>
        <p:pic>
          <p:nvPicPr>
            <p:cNvPr id="166" name="Picture 148" descr=""/>
            <p:cNvPicPr/>
            <p:nvPr/>
          </p:nvPicPr>
          <p:blipFill>
            <a:blip r:embed="rId10"/>
            <a:stretch/>
          </p:blipFill>
          <p:spPr>
            <a:xfrm>
              <a:off x="791532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149"/>
            <p:cNvSpPr/>
            <p:nvPr/>
          </p:nvSpPr>
          <p:spPr>
            <a:xfrm>
              <a:off x="8112600" y="62560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ё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59"/>
          <p:cNvGrpSpPr/>
          <p:nvPr/>
        </p:nvGrpSpPr>
        <p:grpSpPr>
          <a:xfrm>
            <a:off x="2771640" y="6019920"/>
            <a:ext cx="1228680" cy="838080"/>
            <a:chOff x="2771640" y="6019920"/>
            <a:chExt cx="1228680" cy="838080"/>
          </a:xfrm>
        </p:grpSpPr>
        <p:pic>
          <p:nvPicPr>
            <p:cNvPr id="169" name="Picture 155" descr=""/>
            <p:cNvPicPr/>
            <p:nvPr/>
          </p:nvPicPr>
          <p:blipFill>
            <a:blip r:embed="rId11"/>
            <a:stretch/>
          </p:blipFill>
          <p:spPr>
            <a:xfrm>
              <a:off x="277164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58"/>
            <p:cNvSpPr/>
            <p:nvPr/>
          </p:nvSpPr>
          <p:spPr>
            <a:xfrm>
              <a:off x="2897640" y="61833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cc"/>
                  </a:solidFill>
                  <a:latin typeface="Arial"/>
                </a:rPr>
                <a:t>вра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2"/>
          <p:cNvGrpSpPr/>
          <p:nvPr/>
        </p:nvGrpSpPr>
        <p:grpSpPr>
          <a:xfrm>
            <a:off x="5292720" y="6019920"/>
            <a:ext cx="1228680" cy="838080"/>
            <a:chOff x="5292720" y="6019920"/>
            <a:chExt cx="1228680" cy="838080"/>
          </a:xfrm>
        </p:grpSpPr>
        <p:pic>
          <p:nvPicPr>
            <p:cNvPr id="172" name="Picture 160" descr=""/>
            <p:cNvPicPr/>
            <p:nvPr/>
          </p:nvPicPr>
          <p:blipFill>
            <a:blip r:embed="rId12"/>
            <a:stretch/>
          </p:blipFill>
          <p:spPr>
            <a:xfrm>
              <a:off x="529272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61"/>
            <p:cNvSpPr/>
            <p:nvPr/>
          </p:nvSpPr>
          <p:spPr>
            <a:xfrm>
              <a:off x="5491440" y="62564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у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0"/>
          <p:cNvGrpSpPr/>
          <p:nvPr/>
        </p:nvGrpSpPr>
        <p:grpSpPr>
          <a:xfrm>
            <a:off x="1332000" y="6019920"/>
            <a:ext cx="1228680" cy="838080"/>
            <a:chOff x="1332000" y="6019920"/>
            <a:chExt cx="1228680" cy="838080"/>
          </a:xfrm>
        </p:grpSpPr>
        <p:pic>
          <p:nvPicPr>
            <p:cNvPr id="175" name="Picture 167" descr=""/>
            <p:cNvPicPr/>
            <p:nvPr/>
          </p:nvPicPr>
          <p:blipFill>
            <a:blip r:embed="rId13"/>
            <a:stretch/>
          </p:blipFill>
          <p:spPr>
            <a:xfrm>
              <a:off x="133200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69"/>
            <p:cNvSpPr/>
            <p:nvPr/>
          </p:nvSpPr>
          <p:spPr>
            <a:xfrm>
              <a:off x="1529640" y="611352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cc"/>
                  </a:solidFill>
                  <a:latin typeface="Arial"/>
                </a:rPr>
                <a:t>но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75"/>
          <p:cNvGrpSpPr/>
          <p:nvPr/>
        </p:nvGrpSpPr>
        <p:grpSpPr>
          <a:xfrm>
            <a:off x="0" y="6019920"/>
            <a:ext cx="1228680" cy="839520"/>
            <a:chOff x="0" y="6019920"/>
            <a:chExt cx="1228680" cy="839520"/>
          </a:xfrm>
        </p:grpSpPr>
        <p:pic>
          <p:nvPicPr>
            <p:cNvPr id="178" name="Picture 171" descr=""/>
            <p:cNvPicPr/>
            <p:nvPr/>
          </p:nvPicPr>
          <p:blipFill>
            <a:blip r:embed="rId14"/>
            <a:stretch/>
          </p:blipFill>
          <p:spPr>
            <a:xfrm>
              <a:off x="0" y="6019920"/>
              <a:ext cx="1228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74"/>
            <p:cNvSpPr/>
            <p:nvPr/>
          </p:nvSpPr>
          <p:spPr>
            <a:xfrm>
              <a:off x="2520" y="649116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cc"/>
                  </a:solidFill>
                  <a:latin typeface="Arial"/>
                </a:rPr>
                <a:t>помощ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81"/>
          <p:cNvGrpSpPr/>
          <p:nvPr/>
        </p:nvGrpSpPr>
        <p:grpSpPr>
          <a:xfrm>
            <a:off x="5219640" y="5229360"/>
            <a:ext cx="1249560" cy="936360"/>
            <a:chOff x="5219640" y="5229360"/>
            <a:chExt cx="1249560" cy="936360"/>
          </a:xfrm>
        </p:grpSpPr>
        <p:grpSp>
          <p:nvGrpSpPr>
            <p:cNvPr id="181" name="Group 166"/>
            <p:cNvGrpSpPr/>
            <p:nvPr/>
          </p:nvGrpSpPr>
          <p:grpSpPr>
            <a:xfrm>
              <a:off x="5240160" y="5229360"/>
              <a:ext cx="1229040" cy="838080"/>
              <a:chOff x="5240160" y="5229360"/>
              <a:chExt cx="1229040" cy="838080"/>
            </a:xfrm>
          </p:grpSpPr>
          <p:pic>
            <p:nvPicPr>
              <p:cNvPr id="182" name="Picture 163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40160" y="5229360"/>
                <a:ext cx="122904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165"/>
              <p:cNvSpPr/>
              <p:nvPr/>
            </p:nvSpPr>
            <p:spPr>
              <a:xfrm>
                <a:off x="5293440" y="5465880"/>
                <a:ext cx="70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66cc"/>
                    </a:solidFill>
                    <a:latin typeface="Arial"/>
                  </a:rPr>
                  <a:t>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180"/>
            <p:cNvSpPr/>
            <p:nvPr/>
          </p:nvSpPr>
          <p:spPr>
            <a:xfrm>
              <a:off x="5219640" y="57992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Номер слайда 4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F42-8816-4E8F-9B81-16A114950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L -0.90538 -0.36574 E">
                                      <p:cBhvr>
                                        <p:cTn id="11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5 -0.061 L 0.57865 -0.39649 E">
                                      <p:cBhvr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01664E-006 L 0.65364 -0.38794 E">
                                      <p:cBhvr>
                                        <p:cTn id="12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39556E-006 L -0.41736 -0.4926 E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7.92976E-006 L -0.63786 -0.50323 E">
                                      <p:cBhvr>
                                        <p:cTn id="13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01664E-006 L 0.68507 -0.35652 E">
                                      <p:cBhvr>
                                        <p:cTn id="13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92976E-006 L -0.72049 -0.50323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4843E-006 L -0.31493 -0.44663 E">
                                      <p:cBhvr>
                                        <p:cTn id="1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10536E-006 L -0.31493 -0.53443 E">
                                      <p:cBhvr>
                                        <p:cTn id="14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4.2329E-006 L -0.62204 -0.19917 E">
                                      <p:cBhvr>
                                        <p:cTn id="15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21996E-006 L 0.83472 -0.36691 E">
                                      <p:cBhvr>
                                        <p:cTn id="15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5.1756E-007 L 0.63785 -0.41913 E">
                                      <p:cBhvr>
                                        <p:cTn id="16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907560"/>
            <a:ext cx="8229600" cy="4753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36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36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3" descr="pr.jpg"/>
          <p:cNvPicPr/>
          <p:nvPr/>
        </p:nvPicPr>
        <p:blipFill>
          <a:blip r:embed="rId2"/>
          <a:stretch/>
        </p:blipFill>
        <p:spPr>
          <a:xfrm>
            <a:off x="171360" y="1768320"/>
            <a:ext cx="22114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1280" y="2060280"/>
            <a:ext cx="7715160" cy="4065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годня на уроке 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ым интересным был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получилось у мен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не получилось?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Прямоугольник 2" descr=""/>
          <p:cNvPicPr/>
          <p:nvPr/>
        </p:nvPicPr>
        <p:blipFill>
          <a:blip r:embed="rId2"/>
          <a:stretch/>
        </p:blipFill>
        <p:spPr>
          <a:xfrm>
            <a:off x="384120" y="579600"/>
            <a:ext cx="8369280" cy="1073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1</cp:lastModifiedBy>
  <dcterms:modified xsi:type="dcterms:W3CDTF">2020-02-07T05:54:13Z</dcterms:modified>
  <cp:revision>47</cp:revision>
  <dc:subject/>
  <dc:title>Сценарий  урока  русского  языка .   3  класс.</dc:title>
</cp:coreProperties>
</file>