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6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48A-CB07-46CE-B42C-B1C2C3EF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5A6-8A92-4724-B1FD-D88E8AB7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BC5-E03B-4F5A-BC0A-C81B4DB2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484-6D7C-48CB-900F-983C686C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EE7-3516-4554-822B-64AFEEB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F2F-48F3-49E0-8443-6E01DDE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684-8940-4840-A8D2-DAB52C54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B29-CCC8-4825-B4DB-029ACB6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ABC-FD88-4308-919C-D4E6E951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BCA-A5D1-4E65-BCBF-023AAD5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EBE-DDF6-48C9-94C1-36A893E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AB8-E2B7-4246-87E2-956FA3E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D346-81CB-445B-A6BE-E448DE9EB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щего и профессионального образования Свердловской обла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битское муниципально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Зайковская  средняя общеобразовательная  школа №2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санка и здоровье чело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и: ученики 4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Колмак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Геннадьев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ово,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302"/>
          <p:cNvPicPr/>
          <p:nvPr/>
        </p:nvPicPr>
        <p:blipFill>
          <a:blip r:embed="rId1"/>
          <a:stretch/>
        </p:blipFill>
        <p:spPr>
          <a:xfrm>
            <a:off x="1042920" y="2997360"/>
            <a:ext cx="244476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 младшего школьника. Значение осанки для здоровь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 и мышцы образуют опорно-двигательную сист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келета и мышц зависит осанка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81680" y="1704960"/>
            <a:ext cx="33717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 младшего школьника. Значение осанки для здоровь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охой осанке труднее дышать, хуже работают сердце и другие внутренние органы, нарушается зр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622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ие требования к школьному портфелю,  школьной мебели, обув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920" y="1196640"/>
            <a:ext cx="482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, полезнее и удобнее носить книги и тетради в школьном ранце или школьном рюкза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школьного «портфеля» также является серьезной причиной искривления позвоночни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F:\фото проект ДЭЦ\Фото4276.jpg"/>
          <p:cNvPicPr/>
          <p:nvPr/>
        </p:nvPicPr>
        <p:blipFill>
          <a:blip r:embed="rId1"/>
          <a:stretch/>
        </p:blipFill>
        <p:spPr>
          <a:xfrm>
            <a:off x="5435640" y="1484280"/>
            <a:ext cx="345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ребования к школьным ранц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ранца для обучающихся начальных классов не должен превышать 600-700 грамм. Заполненный портфель должен весить не более 10 % от веса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ц должен быть снабжен формоустойчивой спин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ни должны быть снабжены регулировочным устройством применительно к росту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ранца не должна превышать 60-100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анца не должна превышать 300-360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, из которого изготовлен ранец, должен быть прочным, с водоотталкивающими свойст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ответствуют л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раметры школьно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бели для  учащихс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шего  класс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гиеническим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ования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бель соответствует гигиеническим требо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F:\НПК ДЭЦ\для НПК\Фото3155.jpg"/>
          <p:cNvPicPr/>
          <p:nvPr/>
        </p:nvPicPr>
        <p:blipFill>
          <a:blip r:embed="rId1"/>
          <a:stretch/>
        </p:blipFill>
        <p:spPr>
          <a:xfrm>
            <a:off x="4500720" y="1341360"/>
            <a:ext cx="4174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268280"/>
            <a:ext cx="40384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ответствие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й мебел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сту ребё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яя мебель не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росту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фото проект ДЭЦ\IMG_20190124_211535.jpg"/>
          <p:cNvPicPr/>
          <p:nvPr/>
        </p:nvPicPr>
        <p:blipFill>
          <a:blip r:embed="rId1"/>
          <a:stretch/>
        </p:blipFill>
        <p:spPr>
          <a:xfrm>
            <a:off x="4788000" y="1413000"/>
            <a:ext cx="38876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404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Соответствуют ли параметры школьных портфелей учащихся начальных классов гигиеническим требо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ногих ребят нашего класса вес   школьного ранца  превышает норму, утвержденную в Сан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F:\фото проект ДЭЦ\Фото4275.jpg"/>
          <p:cNvPicPr/>
          <p:nvPr/>
        </p:nvPicPr>
        <p:blipFill>
          <a:blip r:embed="rId1"/>
          <a:stretch/>
        </p:blipFill>
        <p:spPr>
          <a:xfrm>
            <a:off x="4870440" y="1341360"/>
            <a:ext cx="3805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Соответствует  ли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кольная обувь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гиеническим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ования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классе тольк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-х девочек обув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м: каблук 2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, широкий но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484280"/>
            <a:ext cx="8353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роцессе работы над исследовательской работой  были изучены необходимые литературные и интернет – источники по данному вопрос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Мы определили  взаимосвязь осанки и здоровь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ли исследования школьной и домашней мебели, школьных   портфелей и второй (школьной) обу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работали  рекомендации для детей и родител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няли, что нужно уважительно относиться к своему здоровью уже с детских л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полнили все поставленные задачи:  узнали много интересного,  как мы можем сохранить и укрепить свое здоровье и оса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 исследованием мы подтвердили выдвинутую гипотезу: между осанкой и здоровьем существует прямая связь, правильная осанка – это не только залог красоты, но и крепкого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едложили свои способы решения проблемы  и разработали ряд рекомендаций для учащихся, создали лэпб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– тема для разговора достаточно актуальная. Сбережение и укрепление здоровья детей – одна из острых проблем современной жиз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заинтересовало: как мы соблюдаем рекомендации врачей, что мы делаем для укрепления и сохранения своего здоровья и осанк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ешили подробнее заняться  тем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доровь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хранения осанки.  Она представляется нам актуальной и интересной, так как касается каждого из н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F:\фоны для презент-й\фоны детские\фоны здоровье\img2.jpg"/>
          <p:cNvPicPr/>
          <p:nvPr/>
        </p:nvPicPr>
        <p:blipFill>
          <a:blip r:embed="rId1"/>
          <a:stretch/>
        </p:blipFill>
        <p:spPr>
          <a:xfrm>
            <a:off x="1116000" y="1916280"/>
            <a:ext cx="705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85840" y="-1124640"/>
            <a:ext cx="8643960" cy="75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влияния осанки на здоровье школьник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 литературу на данную тему, расшири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 о факторах, влияющих на оса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 взаимосвязь осанки и здоровь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исследования школьной и домашн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и, школьных  портфелей и второй  обуви 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 выявления  соответствия   гигиенически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работать  рекомендации для детей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.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что нужно делать для сохранения и укрепления здоровья и осан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х  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здоровья школьников от правильной осанки и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школьников зависит  от  правильной осанки и образа жизн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9280" y="115920"/>
            <a:ext cx="8785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е теоретического материала, наблюдение, анализ, анке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исследование в нашем классе   проводится вперв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вклад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аботы выявлены факторы, которые влияют на оса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е использов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х знаний в повседневной жизни, в просветительской работе по пропаганде культуры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группа   «Минздрав предупреждает»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98100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опро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«осанка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 жизни современног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орно-двигательны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ие осанки в  жизн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жнения для осан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мятка для учащих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F:\фото проект ДЭЦ\Фото4253.jpg"/>
          <p:cNvPicPr/>
          <p:nvPr/>
        </p:nvPicPr>
        <p:blipFill>
          <a:blip r:embed="rId1"/>
          <a:stretch/>
        </p:blipFill>
        <p:spPr>
          <a:xfrm>
            <a:off x="5076720" y="1268280"/>
            <a:ext cx="3818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группа «Медицинское обозрени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412640"/>
            <a:ext cx="4319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гиенические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школьному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ебования к школьно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и и обу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омендации  для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фото проект ДЭЦ\лэп.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76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сло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анк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С.И. Ожег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словар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нка,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ж. Внешность, манера держать себя (преимущ.о положении  корпуса, складе фигу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н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шний вид определённое положение тела, манера держ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 младшего школьника. Значение осанки для здоровь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подвижный образ жизни вредит здоровью.  Нужно больше двигаться. Полезен физический труд, занятия спортом: лыжная прогулка, катание на коньках и санках, хокк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6300720" y="2637000"/>
            <a:ext cx="2583000" cy="24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230508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9-01-25T17:35:05Z</dcterms:modified>
  <cp:revision>78</cp:revision>
  <dc:subject/>
  <dc:title>Слайд 1</dc:title>
</cp:coreProperties>
</file>