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6F1F-417C-4DAC-93C3-468C24F241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3AC9-8DCE-4F6B-B16A-69B22E037F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322E-FD62-426B-8F30-7B69F6D758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DC67-061B-44EF-8F36-BA33F96F61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862A-26C6-43BB-93B5-24D7BADC86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436-C825-4F12-9E7F-FE285C37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A3B-62A8-4BCA-A46B-B4587016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293-B520-411C-AA1C-B9AD6DE5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5E5F-61A9-4783-AAA7-48303821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88F7-80DF-4449-9F22-69AFEF7F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A3A2-8E97-4A29-A726-7A841F75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61F8-4165-424D-BB00-5E9E562C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76B2-84E1-4A74-8D61-0B50B251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5D73-064F-494E-846F-E4C34E28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39F0-FDF2-4C8D-A38D-F11B37C3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43AC-73C1-43C9-8721-41D34484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A90-F5C3-4647-B436-7776452A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64AF-4720-4807-BA29-347B8C0D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EC0A-2722-43B6-8084-C1D9738E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CF00-5F04-4901-BFFD-C5637289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6995-61BC-4479-9598-491CD5F0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4925-AE1C-42D1-BF82-B7F186D1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428F9-8B9F-4327-96E3-4DFB08EF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A9D64-8226-41D0-9273-043844CE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91DAB-FC1D-412C-AB5F-10B866BB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9E2B0-B895-4D23-82ED-A1D4BB81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6B180-6331-4F27-A6E3-AD9C58C4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F76-0F56-401B-B997-D142F6AB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B36EA-EDCD-4892-BE57-B046A6C0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555C1-4DC4-4711-9D77-A8BFF213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90BFA-59CE-4786-A408-E21AB37A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6BBBF-ED4D-4BBC-BA8D-89A41360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781B0-4F36-4548-8551-07208100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D33F3-5FE5-4B3A-B39B-5C5F3595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DCE0E-41DF-4876-B94C-6AC10F0E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41DA7-B666-40E7-9CFB-E5CE6B6F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AD6E9-60A3-4BCC-AF23-E4E742A6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ED8BB-A799-4C90-83CE-DC80C143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11C-7047-4CBF-8001-1BC154BF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6C45D-E806-4C24-B8F8-E1CBE863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B70CF-A86E-47D8-B6F3-74721EC6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1F6B0-E576-43B9-91F9-8141EF77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B01D7-E2E3-4911-9BE5-01F5B5CD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C6E9A-968F-43E3-8678-E47928BF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67E43-A320-413C-BB44-61A5080A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D105E-F3AE-4695-B835-12D7A638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18D25-B35A-4DF8-BAEF-D79C92C7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23A2B-B1ED-4A8D-8933-94E450B3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222-032B-4284-864F-FC534B71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7254-8F05-4876-BC08-49C00A21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942-9550-4E36-8AC6-D6B1D9F5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64CC-1A26-46C3-993D-427A26AF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2FA-D4E8-4CDA-8BED-16F34CD3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D919-F7D4-4268-942C-17170326E48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F7C9-D06F-43B6-AC29-92460010831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DD7B-8ECE-4F52-B471-BD0FCA1AA1F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CE06-E515-4881-875F-CD4A216C58C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s://www.google.com/url?q=https://multiurok.ru/goto.php?url%3Dhttp://www.eduniko.ru/&amp;sa=D&amp;ust=1528374395074000" TargetMode="External"/><Relationship Id="rId3" Type="http://schemas.openxmlformats.org/officeDocument/2006/relationships/hyperlink" Target="https://www.google.com/url?q=https://multiurok.ru/goto.php?url%3Dhttp://testedu.ru/&amp;sa=D&amp;ust=1528374395075000" TargetMode="External"/><Relationship Id="rId4" Type="http://schemas.openxmlformats.org/officeDocument/2006/relationships/hyperlink" Target="https://www.google.com/url?q=https://multiurok.ru/goto.php?url%3Dhttp://easyen.ru/&amp;sa=D&amp;ust=1528374395075000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420840" y="347760"/>
            <a:ext cx="8643960" cy="49194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j0354499.gif"/>
          <p:cNvPicPr/>
          <p:nvPr/>
        </p:nvPicPr>
        <p:blipFill>
          <a:blip r:embed="rId2"/>
          <a:stretch/>
        </p:blipFill>
        <p:spPr>
          <a:xfrm>
            <a:off x="1000080" y="4572000"/>
            <a:ext cx="192888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853920" y="665280"/>
            <a:ext cx="7461360" cy="117612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2"/>
          <p:cNvSpPr/>
          <p:nvPr/>
        </p:nvSpPr>
        <p:spPr>
          <a:xfrm>
            <a:off x="642960" y="1571760"/>
            <a:ext cx="76438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№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едставление о строении тела человека, системы органов были указаны не вер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 7 учащихся верно выполнили 3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 6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яет у обучающихся умение различать в описании опыта его цель, ход опыта и выводы,  проверить умение устанавливать причинно-следственные связи этапов осуществления определенной деятельности. Затруднения у ребят вызвал 3 пункт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описание опыта или эксперимен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 7 учащихся верно выполнила 1 учащаяс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Диаграмма 3" descr=""/>
          <p:cNvPicPr/>
          <p:nvPr/>
        </p:nvPicPr>
        <p:blipFill>
          <a:blip r:embed="rId1"/>
          <a:stretch/>
        </p:blipFill>
        <p:spPr>
          <a:xfrm>
            <a:off x="200160" y="138240"/>
            <a:ext cx="874368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Диаграмма 1" descr=""/>
          <p:cNvPicPr/>
          <p:nvPr/>
        </p:nvPicPr>
        <p:blipFill>
          <a:blip r:embed="rId1"/>
          <a:stretch/>
        </p:blipFill>
        <p:spPr>
          <a:xfrm>
            <a:off x="200160" y="282600"/>
            <a:ext cx="874368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785880" y="378000"/>
            <a:ext cx="7675560" cy="84132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2"/>
          <p:cNvSpPr/>
          <p:nvPr/>
        </p:nvSpPr>
        <p:spPr>
          <a:xfrm>
            <a:off x="571680" y="1000080"/>
            <a:ext cx="7929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Думаю над вопросом, на который надо ответи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 Составляю тезис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Составляю доказательство, использую слова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ак как, потому что, во первых, во вторы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 Составляю вывод, использую слова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этому ,значит, следовательно, вот за эт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 Записываю текс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 Проверя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Маша и медведь."/>
          <p:cNvPicPr/>
          <p:nvPr/>
        </p:nvPicPr>
        <p:blipFill>
          <a:blip r:embed="rId2"/>
          <a:stretch/>
        </p:blipFill>
        <p:spPr>
          <a:xfrm>
            <a:off x="7572240" y="5643720"/>
            <a:ext cx="952560" cy="952200"/>
          </a:xfrm>
          <a:prstGeom prst="rect">
            <a:avLst/>
          </a:prstGeom>
          <a:ln cap="sq" w="38160">
            <a:solidFill>
              <a:srgbClr val="81d31a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920880" y="371520"/>
            <a:ext cx="7869240" cy="92088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2"/>
          <p:cNvSpPr/>
          <p:nvPr/>
        </p:nvSpPr>
        <p:spPr>
          <a:xfrm>
            <a:off x="357120" y="1857240"/>
            <a:ext cx="82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14124"/>
                </a:solidFill>
                <a:latin typeface="Arial"/>
              </a:rPr>
              <a:t>1. Неуверенность в себ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Arial"/>
              </a:rPr>
              <a:t>2. Волн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гативные эмо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250920" y="1138320"/>
            <a:ext cx="65358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4124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f14124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6715080" y="357120"/>
            <a:ext cx="2103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3500280" cy="22860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395280" y="3214800"/>
            <a:ext cx="8583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кажи мне - и я забуду, учи меня - и я могу запомнить, вовлекай меня - и я научусь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Б. Франкл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993600" y="201600"/>
            <a:ext cx="7321680" cy="634536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3" descr="018.gif"/>
          <p:cNvPicPr/>
          <p:nvPr/>
        </p:nvPicPr>
        <p:blipFill>
          <a:blip r:embed="rId2"/>
          <a:stretch/>
        </p:blipFill>
        <p:spPr>
          <a:xfrm>
            <a:off x="7772400" y="5214960"/>
            <a:ext cx="12492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2"/>
          <p:cNvSpPr/>
          <p:nvPr/>
        </p:nvSpPr>
        <p:spPr>
          <a:xfrm>
            <a:off x="3095640" y="1857240"/>
            <a:ext cx="3168720" cy="19591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3286080" y="2000160"/>
            <a:ext cx="26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трелка влево 5"/>
          <p:cNvSpPr/>
          <p:nvPr/>
        </p:nvSpPr>
        <p:spPr>
          <a:xfrm>
            <a:off x="1943280" y="2419200"/>
            <a:ext cx="1152360" cy="57636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трелка вправо 6"/>
          <p:cNvSpPr/>
          <p:nvPr/>
        </p:nvSpPr>
        <p:spPr>
          <a:xfrm>
            <a:off x="6264360" y="2373480"/>
            <a:ext cx="1079280" cy="576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трелка вниз 7"/>
          <p:cNvSpPr/>
          <p:nvPr/>
        </p:nvSpPr>
        <p:spPr>
          <a:xfrm>
            <a:off x="4340160" y="3816360"/>
            <a:ext cx="647640" cy="9367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95400" y="2198520"/>
            <a:ext cx="194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9"/>
          <p:cNvSpPr/>
          <p:nvPr/>
        </p:nvSpPr>
        <p:spPr>
          <a:xfrm>
            <a:off x="7236000" y="2243160"/>
            <a:ext cx="169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-м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3095640" y="47973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0"/>
          <p:cNvSpPr/>
          <p:nvPr/>
        </p:nvSpPr>
        <p:spPr>
          <a:xfrm>
            <a:off x="642960" y="214200"/>
            <a:ext cx="828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Arial"/>
              </a:rPr>
              <a:t>Подготовка к ВПР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систематизированное повторение учеб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993600" y="201600"/>
            <a:ext cx="7480440" cy="156672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2"/>
          <p:cNvSpPr/>
          <p:nvPr/>
        </p:nvSpPr>
        <p:spPr>
          <a:xfrm>
            <a:off x="500040" y="15001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добрала  тренировочные задания, которые ежедневно включала в урок. Совершенствовала методы и приёмы работы с текстовой информ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 рамках дополнительных консультаций по подготовке к ВПР проводила блочные задания «Мини-работа», состоящие из 3-4 упражнений и рассчитанные на 10-15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ела занятия во время внеурочной деятельности в рамках курса общеинтеллектуальной направленности  по программе «Почемучк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амостоятельная подготовка обучающихся дома в выходные или каникулярные д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993600" y="201600"/>
            <a:ext cx="10198440" cy="15667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2"/>
          <p:cNvSpPr/>
          <p:nvPr/>
        </p:nvSpPr>
        <p:spPr>
          <a:xfrm>
            <a:off x="500040" y="135720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а сайте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pr.statgrad.or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можно найти демоверсии ВПР по всем предмет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 сайте </a:t>
            </a:r>
            <a:r>
              <a:rPr b="0" lang="ru-RU" sz="2400" spc="-1" strike="noStrike" u="sng">
                <a:solidFill>
                  <a:srgbClr val="56c7aa"/>
                </a:solidFill>
                <a:uFillTx/>
                <a:latin typeface="Arial"/>
                <a:hlinkClick r:id="rId2"/>
              </a:rPr>
              <a:t>НИКО (Национальные исследования качества образования)</a:t>
            </a:r>
            <a:r>
              <a:rPr b="1" lang="ru-RU" sz="2400" spc="-1" strike="noStrike">
                <a:solidFill>
                  <a:srgbClr val="21274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s://www.eduniko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щен «Банк заданий» — образцы заданий по всем трём предме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еплохо помогли в подготовке тестовые задания на сайте </a:t>
            </a:r>
            <a:r>
              <a:rPr b="0" lang="ru-RU" sz="2400" spc="-1" strike="noStrike" u="sng">
                <a:solidFill>
                  <a:srgbClr val="56c7aa"/>
                </a:solidFill>
                <a:uFillTx/>
                <a:latin typeface="Arial"/>
                <a:hlinkClick r:id="rId3"/>
              </a:rPr>
              <a:t>«Образовательные тесты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testedu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Здесь можно проверить ученика на знания по всем предметам и выявить «слабые места», над которыми стоит поработать тщатель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также различные тестовые задания по всем предметам можно найти на </a:t>
            </a:r>
            <a:r>
              <a:rPr b="0" lang="ru-RU" sz="2400" spc="-1" strike="noStrike" u="sng">
                <a:solidFill>
                  <a:srgbClr val="56c7aa"/>
                </a:solidFill>
                <a:uFillTx/>
                <a:latin typeface="Arial"/>
                <a:hlinkClick r:id="rId4"/>
              </a:rPr>
              <a:t>Современном учительском портал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993600" y="201600"/>
            <a:ext cx="7321680" cy="107784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2"/>
          <p:cNvSpPr/>
          <p:nvPr/>
        </p:nvSpPr>
        <p:spPr>
          <a:xfrm>
            <a:off x="500040" y="1071720"/>
            <a:ext cx="8001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новка проблемных вопр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вижение гипот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«мозговой штур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ая работа (в том числе проведение реальных экспериментов, направленных на установление причинно- следственных связе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куссия, бес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ние мини-сочи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781200" y="450720"/>
            <a:ext cx="7551720" cy="11764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2"/>
          <p:cNvSpPr/>
          <p:nvPr/>
        </p:nvSpPr>
        <p:spPr>
          <a:xfrm>
            <a:off x="500040" y="1643040"/>
            <a:ext cx="8286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3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о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ет умение работать с географической картой/схемой, на которой обучающиеся должны определить выделенную территорию, а после указать типичных ее обитателей из числа изображенных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Arial"/>
              </a:rPr>
              <a:t>Из 7 учащихся выполнили верно только – 2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2"/>
          <p:cNvSpPr/>
          <p:nvPr/>
        </p:nvSpPr>
        <p:spPr>
          <a:xfrm>
            <a:off x="642960" y="285840"/>
            <a:ext cx="764388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-работа № 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. Перед тобой названия четырёх частей земной поверх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фрика, Австралия, Антарктида, Евра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пиши общее название этой группы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_______________________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ля выполнения следующих двух заданий, воспользуйся картой в учеб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 Найди на полуострове Камчатка Ключевскую сопку. Определи, что означает указанное возле неё число – 4688. Обведи букву с верным отв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Число людей, побывавших на соп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Запасы полезных ископаемых в этой соп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Расстояние от сопки до Северного полю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 Высота сопки над уровнем моря в мет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.  Представь, что ты летишь на самолёте из города Салехарда в Санкт-Петербург. Какие объекты (равнины, горы, реки, озёра, города) ты сможешь увидеть в иллюминатор во время полёта? Запиши названия четырёх объ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___________________________        3.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___________________________        4. 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Сверь свой результат по карточке самопровер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2:45:29Z</dcterms:created>
  <dc:creator>Helen</dc:creator>
  <dc:description/>
  <dc:language>en-US</dc:language>
  <cp:lastModifiedBy>Пользователь Windows</cp:lastModifiedBy>
  <cp:lastPrinted>2017-04-05T16:07:32Z</cp:lastPrinted>
  <dcterms:modified xsi:type="dcterms:W3CDTF">2019-10-31T19:23:58Z</dcterms:modified>
  <cp:revision>172</cp:revision>
  <dc:subject/>
  <dc:title>Слайд 1</dc:title>
</cp:coreProperties>
</file>