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091-F345-4FA2-B3DE-042F2983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464-42FB-4279-A5C6-23109A06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51F-4A25-43E5-8D1D-5C91425C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356-3DCF-4662-BF83-62D89439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4D6-2C9A-4F42-9DB9-AA646E1A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CA2-7BA0-40F4-B078-98AB75B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281-C0AE-49B5-ACF2-10FB9C55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4D8-214E-4C09-BA8E-A649FF18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5AB-EDE2-4B3C-9496-F54EE154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FA8-1278-44A1-A174-48B8E559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B7A-4BCD-44D8-B0A4-51FE506F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3DA-AF44-4204-9036-25780C9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2A1-F4B8-4C9E-BE3C-F9B2C08F87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>
            <a:hlinkClick r:id="rId2" action="ppaction://hlinksldjump"/>
          </p:cNvPr>
          <p:cNvSpPr/>
          <p:nvPr/>
        </p:nvSpPr>
        <p:spPr>
          <a:xfrm>
            <a:off x="1187280" y="765000"/>
            <a:ext cx="655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ём  ит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D:\лена\выпускной\школа++++\вордарт+рисунки\рис мелом буквы.png"/>
          <p:cNvPicPr/>
          <p:nvPr/>
        </p:nvPicPr>
        <p:blipFill>
          <a:blip r:embed="rId3"/>
          <a:stretch/>
        </p:blipFill>
        <p:spPr>
          <a:xfrm rot="1102200">
            <a:off x="7024320" y="2989440"/>
            <a:ext cx="144000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D:\лена\выпускной\школа++++\вордарт+рисунки\рисунки мелом.png"/>
          <p:cNvPicPr/>
          <p:nvPr/>
        </p:nvPicPr>
        <p:blipFill>
          <a:blip r:embed="rId4"/>
          <a:srcRect l="68115" t="33936" r="15349" b="48112"/>
          <a:stretch/>
        </p:blipFill>
        <p:spPr>
          <a:xfrm rot="1130400">
            <a:off x="7635600" y="1871640"/>
            <a:ext cx="998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2"/>
          <p:cNvSpPr/>
          <p:nvPr/>
        </p:nvSpPr>
        <p:spPr>
          <a:xfrm>
            <a:off x="2050920" y="223020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сё получилос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C:\Users\дом\Desktop\Фото5098 — копия.jpg"/>
          <p:cNvPicPr/>
          <p:nvPr/>
        </p:nvPicPr>
        <p:blipFill>
          <a:blip r:embed="rId1"/>
          <a:stretch/>
        </p:blipFill>
        <p:spPr>
          <a:xfrm>
            <a:off x="3564000" y="428760"/>
            <a:ext cx="183024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C:\Users\дом\Desktop\Фото5098 — копия (3).jpg"/>
          <p:cNvPicPr/>
          <p:nvPr/>
        </p:nvPicPr>
        <p:blipFill>
          <a:blip r:embed="rId2"/>
          <a:stretch/>
        </p:blipFill>
        <p:spPr>
          <a:xfrm>
            <a:off x="1652760" y="2884320"/>
            <a:ext cx="1911240" cy="194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C:\Users\дом\Desktop\Фото5098 — копия (2).jpg"/>
          <p:cNvPicPr/>
          <p:nvPr/>
        </p:nvPicPr>
        <p:blipFill>
          <a:blip r:embed="rId3"/>
          <a:stretch/>
        </p:blipFill>
        <p:spPr>
          <a:xfrm>
            <a:off x="5580000" y="2852640"/>
            <a:ext cx="1890720" cy="19684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16000" y="5229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были 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4356000" y="484812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 ничего не получилось, я постараюсь науч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33405" r="4060" b="0"/>
          <a:stretch/>
        </p:blipFill>
        <p:spPr>
          <a:xfrm>
            <a:off x="5305320" y="1611360"/>
            <a:ext cx="865440" cy="21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rcRect l="0" t="30889" r="4537" b="0"/>
          <a:stretch/>
        </p:blipFill>
        <p:spPr>
          <a:xfrm>
            <a:off x="2987640" y="3701880"/>
            <a:ext cx="863640" cy="204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rcRect l="0" t="0" r="27542" b="14803"/>
          <a:stretch/>
        </p:blipFill>
        <p:spPr>
          <a:xfrm>
            <a:off x="3643200" y="3463920"/>
            <a:ext cx="234468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rcRect l="0" t="0" r="27542" b="14803"/>
          <a:stretch/>
        </p:blipFill>
        <p:spPr>
          <a:xfrm>
            <a:off x="5900760" y="1400040"/>
            <a:ext cx="2676600" cy="716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4992840" y="5054760"/>
            <a:ext cx="3611520" cy="51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781200" cy="1258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6"/>
          <a:stretch/>
        </p:blipFill>
        <p:spPr>
          <a:xfrm>
            <a:off x="7020000" y="352440"/>
            <a:ext cx="78084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7"/>
          <a:stretch/>
        </p:blipFill>
        <p:spPr>
          <a:xfrm>
            <a:off x="765000" y="4468680"/>
            <a:ext cx="781200" cy="125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8"/>
          <a:srcRect l="0" t="0" r="27542" b="14803"/>
          <a:stretch/>
        </p:blipFill>
        <p:spPr>
          <a:xfrm>
            <a:off x="1125360" y="5376960"/>
            <a:ext cx="25257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47640" y="549000"/>
            <a:ext cx="676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сегодня   я     узнал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было  интересно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было   трудно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я понял,   что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теперь  я  могу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я   научился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я   смог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 я   попробую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 мне   захотелось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Елена\Downloads\солнце.png"/>
          <p:cNvPicPr/>
          <p:nvPr/>
        </p:nvPicPr>
        <p:blipFill>
          <a:blip r:embed="rId1"/>
          <a:stretch/>
        </p:blipFill>
        <p:spPr>
          <a:xfrm>
            <a:off x="2395440" y="11430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2"/>
          <a:stretch/>
        </p:blipFill>
        <p:spPr>
          <a:xfrm>
            <a:off x="1262160" y="639720"/>
            <a:ext cx="6460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7:32:14Z</dcterms:created>
  <dc:creator>Елена</dc:creator>
  <dc:description/>
  <dc:language>en-US</dc:language>
  <cp:lastModifiedBy>дом</cp:lastModifiedBy>
  <dcterms:modified xsi:type="dcterms:W3CDTF">2020-02-06T17:32:45Z</dcterms:modified>
  <cp:revision>103</cp:revision>
  <dc:subject/>
  <dc:title>Слайд 1</dc:title>
</cp:coreProperties>
</file>