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5E7-1C5B-4E18-9132-0DB35784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BF3-E70D-4D41-85BE-274CE2A4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A51-7C11-4658-BF5C-894BC486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469-E7DF-458B-AA60-B26896CD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78B-B037-4D38-9CBF-2060B134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381-E1E2-4ADD-83E7-687777D9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C29-29DB-4081-92CE-064EAFC6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5D1-E3D6-4C55-93DB-F444446D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E36-891B-4AE2-B8F8-C04321AF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3C5-0DA8-4FDA-89C8-4CB2A53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F45-7CB0-4901-971A-B990F39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58D-E97C-4643-9995-93C743A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E29F-6303-437F-B9C0-070635E26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Проектная деятельность на уроках русского языка </a:t>
            </a:r>
            <a:br>
              <a:rPr sz="3200"/>
            </a:br>
            <a:r>
              <a:rPr b="1" i="1" lang="ru-RU" sz="32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(Из опыта работы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8120" y="228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733920" y="449568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Яшина Марина Васильевна, учитель русского языка и литературМАОУ Зайковская СОШ № 2, вк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Французские мастерские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Мастерская письма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Мастерская построения знаний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Мастерская ценностных ориентаций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Мастерская сотрудничества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Мастерская проект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888\Downloads\галочка.png"/>
          <p:cNvPicPr/>
          <p:nvPr/>
        </p:nvPicPr>
        <p:blipFill>
          <a:blip r:embed="rId1"/>
          <a:stretch/>
        </p:blipFill>
        <p:spPr>
          <a:xfrm>
            <a:off x="7467480" y="857160"/>
            <a:ext cx="8384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Мини-проект - создание собственного уникального текста и публичная защита на уроке</a:t>
            </a:r>
            <a:br>
              <a:rPr sz="2400"/>
            </a:br>
            <a:r>
              <a:rPr b="0" lang="ru-RU" sz="2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(технология французских мастерск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888\Downloads\работы ребят.jpg"/>
          <p:cNvPicPr/>
          <p:nvPr/>
        </p:nvPicPr>
        <p:blipFill>
          <a:blip r:embed="rId1"/>
          <a:stretch/>
        </p:blipFill>
        <p:spPr>
          <a:xfrm>
            <a:off x="533520" y="1905120"/>
            <a:ext cx="803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Учебно-исследователь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Орфографические ошибки в нашей жизни,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к чему приводит неграмотное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8120" y="228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МАОУ Зайковская СОШ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43200" y="449568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Составители:  Могилевич Арсений, ученик  5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Сидоров Кирилл, ученик  5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Руководитель: Яшина Марина Васильевна, учитель русского языка и литературы, выс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 определение причин неграмотного письма среди школьников и его последствия в дальнейше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мы определили для достижения цели, и объект исследования вы видите на слай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блюдать за общением в социальной сети Интернет «ВКонтакте», «бегущей строкой»  на ТВ,  рекламой и ценниками в торговых сет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 среди 5-11 классов об отношении к орфографическим ошиб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ть результаты анкетирования и создать про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ить проект на школьной НП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фографические ошибки при общении в социальных сетях, «бегущей строке» на ТВ, рекламе и торговых се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. Анализ наблюд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. Анализ и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облемы в различных источниках: социальная сеть Интернет «ВКонтакте», «бегущая строка» на ТВ, реклама и торговые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информационных источ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Вы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Наблюдение за слов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Лермонтов, «Бородино», фрагмент, 28 ст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ЖИ-ка», «ворЧАли», «ЧУЖИе», «молЧА», «наШИ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на, ДОсталась, ОТступали, ПОстроили, Освети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удь, не отдали б, не сме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 – скАз, 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т – гОвор,поговОрка, п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я – плОхо, б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шое – бОльше, 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хушки – в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304920" y="2133720"/>
          <a:ext cx="846432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6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Результаты наблюдения за общением в «ВКонтак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8840" y="49528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g-180116142906-001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97160"/>
          <a:ext cx="8305920" cy="40161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2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не замечают, что слова и предложения в текстах – это изученные правила орфографии и пунктуации на уроках русского я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без орфографических правил невозможно написание  простейших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отношение к правильному орфографическому письму у сверстников оказалось неоднознач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часть школьников убеждена, что грамотное письмо им совсем не пригодится в будущей жизни, изучение языка – это лиш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неуважение  большинства учащихся к орфографическим правилам может привести к тому, что в недалёком будущем можно будет наблюдать неграмотное письмо везде: в книгах, по телевидению, в магазинах и других общественных мес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это может привести к утрате ценности русского языка как части нашей 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2042640"/>
            <a:ext cx="60948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5791320"/>
            <a:ext cx="763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DSC_0012"/>
          <p:cNvPicPr/>
          <p:nvPr/>
        </p:nvPicPr>
        <p:blipFill>
          <a:blip r:embed="rId1"/>
          <a:stretch/>
        </p:blipFill>
        <p:spPr>
          <a:xfrm>
            <a:off x="228600" y="3809880"/>
            <a:ext cx="4495680" cy="231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DSC_0051"/>
          <p:cNvPicPr/>
          <p:nvPr/>
        </p:nvPicPr>
        <p:blipFill>
          <a:blip r:embed="rId2"/>
          <a:stretch/>
        </p:blipFill>
        <p:spPr>
          <a:xfrm>
            <a:off x="4191120" y="1905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DSC_0002"/>
          <p:cNvPicPr/>
          <p:nvPr/>
        </p:nvPicPr>
        <p:blipFill>
          <a:blip r:embed="rId3"/>
          <a:stretch/>
        </p:blipFill>
        <p:spPr>
          <a:xfrm>
            <a:off x="228600" y="228600"/>
            <a:ext cx="5689440" cy="3556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57200" y="6324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шибки в «бегущей строке» на Первом канале 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095880" y="5335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эфир на Первом канале от 01.11.17 и 15.11.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952880" y="5410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эфир на НТВ от 16.12.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888</cp:lastModifiedBy>
  <dcterms:modified xsi:type="dcterms:W3CDTF">2020-11-19T18:03:3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