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348-27B3-4DBB-A223-06DBA699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FE5-EE51-486A-87A4-96FE1E19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AC5-CDA0-4485-B542-6F646B3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5A2-E573-4FE3-8CA9-8AAF332B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CA64-1F35-4903-A6D1-4D17BB8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CBCA-ACBC-48EE-A653-1954D73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C9E-6D3A-40A2-9B3E-F913C2C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EB1-20AE-42DD-B04E-32453820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1B2-E471-4E2D-B1D3-D9F088B8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E340-3BC7-4290-97B6-1C8E693E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13B8-E397-4A4E-B2B6-D078662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928-A8EB-43F6-B121-F9ECFE3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EFB1-4047-4E26-B9BE-1A793AA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8D15-5241-40B4-B1C1-D10687A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1D4-0F09-4B14-BF1B-8D57D82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501E-051D-493F-9416-4453CAF5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D99-943E-41AE-91F3-2632F615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856-AEBD-4DBA-A80F-DEDDFEB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6C3-37D5-434C-A929-968286F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4A5-130F-4C60-93D2-F4DA8F7A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A29-D6F3-4F9D-90C9-45E512C3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DF6-FEE1-4E19-B6E6-687C45D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9A2-116F-448F-8416-C398DC6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1D7-3793-4285-89B1-525021B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6ab94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E620-72C1-48A2-B858-6ABF445B9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6ab94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2D8-0295-4FC7-8FCA-35C44E8A4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1778040" y="476280"/>
            <a:ext cx="62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О учителей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08000" y="19162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очное заседание РМ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жиме дистанционного общения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нализ деятельности учителей математик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3527280" y="567216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11.09.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5"/>
          <p:cNvSpPr/>
          <p:nvPr/>
        </p:nvSpPr>
        <p:spPr>
          <a:xfrm>
            <a:off x="468360" y="4653000"/>
            <a:ext cx="374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кадровым условиям реал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ОП среднего 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674640"/>
          <a:ext cx="8373960" cy="6183360"/>
        </p:xfrm>
        <a:graphic>
          <a:graphicData uri="http://schemas.openxmlformats.org/drawingml/2006/table">
            <a:tbl>
              <a:tblPr/>
              <a:tblGrid>
                <a:gridCol w="4187880"/>
                <a:gridCol w="4186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Квалификация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педагогических работников образовательных  организаций  должна отраж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 педагогического работника, должны быть сформированы </a:t>
                      </a:r>
                      <a:r>
                        <a:rPr b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основные компетенции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в том числе ум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етентность в соответствующих предметных областях знания и методах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ивать условия для успешной деятельности</a:t>
                      </a: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, позитивной мотивации, а также самомотивировани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формированность </a:t>
                      </a:r>
                      <a:r>
                        <a:rPr b="0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гуманистическ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зиции, позитивной направленности на педагогическую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ять поиск и анализ информации с помощью </a:t>
                      </a: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общую культур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пределяющую характер и стиль педагогической деятельности, влияющую на успешность педагогического 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разрабатыват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граммы, методические материалы</a:t>
                      </a: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,  рекомендовать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мся дополнительные источники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рганизованность, эмоциональную устойч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овывать и сопровождать </a:t>
                      </a: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бно-исследовательскую и проектную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 обучающих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5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овывать </a:t>
                      </a:r>
                      <a:r>
                        <a:rPr b="1" lang="ru-RU" sz="1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педагогическое оценив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и обучающихся в соответствии с требованиями Станд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ть стандартизированные и нестандартизированные работы; проводить интерпретацию результатов достижений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8" name="Скругленный прямоугольник 10" descr=""/>
          <p:cNvPicPr/>
          <p:nvPr/>
        </p:nvPicPr>
        <p:blipFill>
          <a:blip r:embed="rId1"/>
          <a:stretch/>
        </p:blipFill>
        <p:spPr>
          <a:xfrm>
            <a:off x="-189000" y="-262080"/>
            <a:ext cx="1285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80629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обенности требований к материально-технически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информационным услов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6516720" y="2637000"/>
            <a:ext cx="2448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реализации ООП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стижения требова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2050920" y="765000"/>
            <a:ext cx="655344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e1a16"/>
                </a:solidFill>
                <a:latin typeface="Arial"/>
              </a:rPr>
              <a:t>Усилены требования к школьной инфраструктуре, оборудован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e1a16"/>
                </a:solidFill>
                <a:latin typeface="Arial"/>
              </a:rPr>
              <a:t>информационной образовательной среде</a:t>
            </a:r>
            <a:r>
              <a:rPr b="0" lang="ru-RU" sz="1400" spc="-1" strike="noStrike">
                <a:solidFill>
                  <a:srgbClr val="ae1a1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 rot="5400000">
            <a:off x="7101360" y="378360"/>
            <a:ext cx="1079640" cy="300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ло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спеч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5400000">
            <a:off x="2185560" y="126720"/>
            <a:ext cx="576360" cy="30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У долж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368280" y="4005360"/>
            <a:ext cx="20160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цифр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бразова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ресурсы, И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борудова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коммуникацио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каналы,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250920" y="2133720"/>
            <a:ext cx="216036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блиоте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ы с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едиате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2843280" y="3645000"/>
            <a:ext cx="288108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лные компл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снащения и обору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сех предметных обл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и внеурочной деятельност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916360" y="2060640"/>
            <a:ext cx="2376360" cy="15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r>
              <a:rPr b="1" lang="ru-RU" sz="1400" spc="-1" strike="noStrike">
                <a:solidFill>
                  <a:srgbClr val="ae1a1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 А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чителя и учени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мещения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роектной, учеб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исследовательской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неуро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деятель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rot="5089200">
            <a:off x="4637880" y="5878080"/>
            <a:ext cx="576360" cy="1141560"/>
          </a:xfrm>
          <a:custGeom>
            <a:avLst/>
            <a:gdLst>
              <a:gd name="textAreaLeft" fmla="*/ 0 w 576360"/>
              <a:gd name="textAreaRight" fmla="*/ 208080 w 576360"/>
              <a:gd name="textAreaTop" fmla="*/ 29520 h 1141560"/>
              <a:gd name="textAreaBottom" fmla="*/ 1112040 h 11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16"/>
                </a:lnTo>
                <a:cubicBezTo>
                  <a:pt x="10800" y="8816"/>
                  <a:pt x="16200" y="9716"/>
                  <a:pt x="21600" y="9716"/>
                </a:cubicBezTo>
                <a:cubicBezTo>
                  <a:pt x="16200" y="9716"/>
                  <a:pt x="10800" y="10616"/>
                  <a:pt x="10800" y="115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6659640" y="3429000"/>
            <a:ext cx="22334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ущес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заимодейств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ониторинг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анализ, план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79280" y="3141720"/>
            <a:ext cx="2484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боратории, мастерск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ха в соответств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 профилями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кругленный прямоугольник 15" descr=""/>
          <p:cNvPicPr/>
          <p:nvPr/>
        </p:nvPicPr>
        <p:blipFill>
          <a:blip r:embed="rId1"/>
          <a:stretch/>
        </p:blipFill>
        <p:spPr>
          <a:xfrm>
            <a:off x="-201600" y="-255600"/>
            <a:ext cx="1755720" cy="1730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9"/>
          <p:cNvSpPr/>
          <p:nvPr/>
        </p:nvSpPr>
        <p:spPr>
          <a:xfrm>
            <a:off x="3132000" y="4653000"/>
            <a:ext cx="237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товые, спортивны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ореографические з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ортивные сооруж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Скругленный прямоугольник 19"/>
          <p:cNvGrpSpPr/>
          <p:nvPr/>
        </p:nvGrpSpPr>
        <p:grpSpPr>
          <a:xfrm>
            <a:off x="-6480" y="5529240"/>
            <a:ext cx="6175440" cy="932040"/>
            <a:chOff x="-6480" y="5529240"/>
            <a:chExt cx="6175440" cy="932040"/>
          </a:xfrm>
        </p:grpSpPr>
        <p:pic>
          <p:nvPicPr>
            <p:cNvPr id="124" name="Скругленный 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-6480" y="5529240"/>
              <a:ext cx="61754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33200" y="5668920"/>
              <a:ext cx="58896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Ориентиры: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профильное образование, ре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индивидуальных учебных планов, дистанционное, сетевое 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C:\Users\Admin\Pictures\thCAYZAFCP.jpg"/>
          <p:cNvPicPr/>
          <p:nvPr/>
        </p:nvPicPr>
        <p:blipFill>
          <a:blip r:embed="rId3"/>
          <a:stretch/>
        </p:blipFill>
        <p:spPr>
          <a:xfrm>
            <a:off x="5964120" y="5084640"/>
            <a:ext cx="324324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7164360" y="4581360"/>
            <a:ext cx="13683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3500000" blurRad="0" rotWithShape="0">
              <a:srgbClr val="ffffe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анП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684360" y="213372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570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дивидуальный проект представляет собой особую форму организации деятельности обучающихся (учебное исследование или учебный прое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1628280"/>
            <a:ext cx="403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Calibri"/>
              </a:rPr>
              <a:t>Индивидуальный проект выполняетс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амостоятельно под руководством учителя (тьютора) по выбранной теме в рамках </a:t>
            </a:r>
            <a:r>
              <a:rPr b="0" lang="ru-RU" sz="1700" spc="-1" strike="noStrike">
                <a:solidFill>
                  <a:srgbClr val="a50021"/>
                </a:solidFill>
                <a:latin typeface="Calibri"/>
              </a:rPr>
              <a:t>одного или нескольких изучаемых учебных предметов, кур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течение </a:t>
            </a:r>
            <a:r>
              <a:rPr b="0" lang="ru-RU" sz="1700" spc="-1" strike="noStrike">
                <a:solidFill>
                  <a:srgbClr val="a50021"/>
                </a:solidFill>
                <a:latin typeface="Calibri"/>
              </a:rPr>
              <a:t>одного или двух лет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амках учебного времени, специально отведённого учебным планом, и должен быть представлен в виде </a:t>
            </a:r>
            <a:r>
              <a:rPr b="0" lang="ru-RU" sz="1700" spc="-1" strike="noStrike">
                <a:solidFill>
                  <a:srgbClr val="a50021"/>
                </a:solidFill>
                <a:latin typeface="Calibri"/>
              </a:rPr>
              <a:t>завершённого учебного исследования или разработанного проек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3280" y="980640"/>
            <a:ext cx="4042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результа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3280" y="1557000"/>
            <a:ext cx="4321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Calibri"/>
              </a:rPr>
              <a:t>Результаты выполнения индивидуального проекта должны отража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формированность навыков коммуникативной, учебно-исследовательской, проектной  деятельности,  критического мыш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особность к </a:t>
            </a:r>
            <a:r>
              <a:rPr b="0" lang="ru-RU" sz="1400" spc="-1" strike="noStrike">
                <a:solidFill>
                  <a:srgbClr val="a50021"/>
                </a:solidFill>
                <a:latin typeface="Calibri"/>
              </a:rPr>
              <a:t>инновационной, аналитической, творческой, интеллектуальной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формированность навыков самостоятельного применения приобретённых </a:t>
            </a:r>
            <a:r>
              <a:rPr b="0" lang="ru-RU" sz="1400" spc="-1" strike="noStrike">
                <a:solidFill>
                  <a:srgbClr val="a50021"/>
                </a:solidFill>
                <a:latin typeface="Calibri"/>
              </a:rPr>
              <a:t>знаний и способов действий при решении различных зада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особность </a:t>
            </a:r>
            <a:r>
              <a:rPr b="0" lang="ru-RU" sz="1400" spc="-1" strike="noStrike">
                <a:solidFill>
                  <a:srgbClr val="a50021"/>
                </a:solidFill>
                <a:latin typeface="Calibri"/>
              </a:rPr>
              <a:t>постановки цели и формулирования гипотезы исследования, планирования работы, отбора и интерпретации необходимой информации, структурирования аргументаци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ов исследования на основе собранных данных, презентации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-171360" y="-237960"/>
            <a:ext cx="1439640" cy="148716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ый прямоугольник 7"/>
          <p:cNvSpPr/>
          <p:nvPr/>
        </p:nvSpPr>
        <p:spPr>
          <a:xfrm>
            <a:off x="684360" y="5300640"/>
            <a:ext cx="7991280" cy="576360"/>
          </a:xfrm>
          <a:prstGeom prst="roundRect">
            <a:avLst>
              <a:gd name="adj" fmla="val 439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Calibri"/>
              </a:rPr>
              <a:t>Области проектной деятельности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знавательная, практическая, учебно-исследовательская, социальная, художественно-творческая, и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755640" y="6021360"/>
            <a:ext cx="799308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Calibri"/>
              </a:rPr>
              <a:t>Примерные виды проектов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ционный, творческий, социальный, прикладной, инновационный, конструкторский, инжене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ведение ФГОС средне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324000" y="177336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изация темы повышения качества образования в системе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ведение ФГОС средне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103320" y="549360"/>
            <a:ext cx="88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реднее общее образование направлено на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альнейшее становление и формирование личности обучающего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азвитие интереса к познанию и творческих способностей обучающих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формирование навыков самостоятельной учебной деятельности на основе </a:t>
            </a:r>
            <a:r>
              <a:rPr b="1" i="1" lang="ru-RU" sz="2800" spc="-1" strike="noStrike">
                <a:solidFill>
                  <a:srgbClr val="ff0000"/>
                </a:solidFill>
                <a:latin typeface="Palatino Linotype"/>
              </a:rPr>
              <a:t>индивидуализации профессиональной ориентации содержания среднего общего образования, подготовку обучающегося к жизни в обществе, самостоятельному жизненному выбору, продолжению обучения и началу профессиональной деятельности</a:t>
            </a:r>
            <a:r>
              <a:rPr b="0" lang="ru-RU" sz="2800" spc="-1" strike="noStrike">
                <a:solidFill>
                  <a:srgbClr val="4a6717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324000" y="260280"/>
            <a:ext cx="86407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76b4"/>
                </a:solidFill>
                <a:latin typeface="Arial Black"/>
                <a:ea typeface="Arial"/>
              </a:rPr>
              <a:t>Методологическая основа Стандарта -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Arial"/>
              </a:rPr>
              <a:t>системно-деятельностный подход</a:t>
            </a:r>
            <a:r>
              <a:rPr b="1" lang="ru-RU" sz="2800" spc="-1" strike="noStrike">
                <a:solidFill>
                  <a:srgbClr val="6076b4"/>
                </a:solidFill>
                <a:latin typeface="Arial Black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оторый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формирование готовности обучающихся к саморазвитию и непрерывному 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роектирование и конструирование развивающей образовательной среды организации, осуществляющей образовательн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ктивную учебно-познавательную деятельность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строение образовательной деятельности с учетом индивидуальных, возрастных, психологических, физиологических особенностей и здоровья 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ые результаты освоения основной образователь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рограммы  должны отражать: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хема 6" descr=""/>
          <p:cNvPicPr/>
          <p:nvPr/>
        </p:nvPicPr>
        <p:blipFill>
          <a:blip r:embed="rId1"/>
          <a:stretch/>
        </p:blipFill>
        <p:spPr>
          <a:xfrm>
            <a:off x="237960" y="749160"/>
            <a:ext cx="87408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28680" y="206064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ФГОС Н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280680" y="184464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ФГОС О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160680" y="162864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ФГОС С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12600" y="-469800"/>
            <a:ext cx="12668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хема 4" descr=""/>
          <p:cNvPicPr/>
          <p:nvPr/>
        </p:nvPicPr>
        <p:blipFill>
          <a:blip r:embed="rId1"/>
          <a:stretch/>
        </p:blipFill>
        <p:spPr>
          <a:xfrm>
            <a:off x="237960" y="749160"/>
            <a:ext cx="874080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предметные  результаты освоения основной образовательн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ы  должны отражать: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9080" y="-463680"/>
            <a:ext cx="1255680" cy="2121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471600" y="2133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ФГОС 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135600" y="1557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087600" y="8366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ФГОС С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67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 освоения основной образовательной программы устанавливаются для учебных предметов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на базовом и углубленном уровнях 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-171360" y="-237960"/>
            <a:ext cx="1439640" cy="1487160"/>
          </a:xfrm>
          <a:prstGeom prst="rect">
            <a:avLst/>
          </a:prstGeom>
          <a:ln w="0">
            <a:noFill/>
          </a:ln>
        </p:spPr>
      </p:pic>
      <p:pic>
        <p:nvPicPr>
          <p:cNvPr id="103" name="Схема 14" descr=""/>
          <p:cNvPicPr/>
          <p:nvPr/>
        </p:nvPicPr>
        <p:blipFill>
          <a:blip r:embed="rId2"/>
          <a:stretch/>
        </p:blipFill>
        <p:spPr>
          <a:xfrm>
            <a:off x="0" y="96984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Объект 2"/>
          <p:cNvSpPr/>
          <p:nvPr/>
        </p:nvSpPr>
        <p:spPr>
          <a:xfrm>
            <a:off x="611280" y="907920"/>
            <a:ext cx="822960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Специфика ФГОС старше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Профильный принцип образовани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. Акцент на развитие</a:t>
            </a:r>
            <a:r>
              <a:rPr b="0" lang="ru-RU" sz="2800" spc="-1" strike="noStrike">
                <a:solidFill>
                  <a:srgbClr val="31859c"/>
                </a:solidFill>
                <a:latin typeface="Arial"/>
                <a:ea typeface="Calibri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индивидуального образовательного маршрута каждого школьник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3:21:34Z</dcterms:created>
  <dc:creator>Admin</dc:creator>
  <dc:description/>
  <dc:language>en-US</dc:language>
  <cp:lastModifiedBy>director_cro</cp:lastModifiedBy>
  <dcterms:modified xsi:type="dcterms:W3CDTF">2021-08-27T08:00:06Z</dcterms:modified>
  <cp:revision>984</cp:revision>
  <dc:subject/>
  <dc:title>Слайд 1</dc:title>
</cp:coreProperties>
</file>