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1.jpeg" ContentType="image/jpeg"/>
  <Override PartName="/ppt/media/image21.gif" ContentType="image/gif"/>
  <Override PartName="/ppt/media/image19.gif" ContentType="image/gif"/>
  <Override PartName="/ppt/media/image4.gif" ContentType="image/gif"/>
  <Override PartName="/ppt/media/image1.jpeg" ContentType="image/jpeg"/>
  <Override PartName="/ppt/media/image18.gif" ContentType="image/gif"/>
  <Override PartName="/ppt/media/image16.png" ContentType="image/png"/>
  <Override PartName="/ppt/media/image14.jpeg" ContentType="image/jpeg"/>
  <Override PartName="/ppt/media/image2.wmf" ContentType="image/x-wmf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85C-6859-4D3A-AAE1-EECB22DA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87E-C4C9-41E2-B38D-4AC83203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D13-7FAE-4616-BA40-8F36F8E1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03B-FEB9-45F4-8DA0-384D3618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4E5-B2F2-46E0-8213-0107FC83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FA3-4484-4E47-8C15-5953A733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48F-1371-474F-A192-79E22279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4B6-DFE1-40B6-A38A-77F77D16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FF0-A3B4-4C63-9B74-0BF1133C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129-CB28-4D48-ACDE-078D2D76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5FB-FE13-470F-949A-6E87CD49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4FC-F57B-4B5F-932F-519D136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55E8-4FBF-401E-914A-CE45DEE26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BORDR046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066680" y="1219320"/>
            <a:ext cx="71629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нтеллектуальные конкурс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ак одна из возможносте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ополнительного образования дет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276720" y="4495680"/>
            <a:ext cx="4952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J0286755"/>
          <p:cNvPicPr/>
          <p:nvPr/>
        </p:nvPicPr>
        <p:blipFill>
          <a:blip r:embed="rId2"/>
          <a:stretch/>
        </p:blipFill>
        <p:spPr>
          <a:xfrm>
            <a:off x="1295280" y="4572000"/>
            <a:ext cx="13716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838080" y="838080"/>
          <a:ext cx="7696440" cy="6040440"/>
        </p:xfrm>
        <a:graphic>
          <a:graphicData uri="http://schemas.openxmlformats.org/drawingml/2006/table">
            <a:tbl>
              <a:tblPr/>
              <a:tblGrid>
                <a:gridCol w="1100160"/>
                <a:gridCol w="1098720"/>
                <a:gridCol w="1100160"/>
                <a:gridCol w="1098360"/>
                <a:gridCol w="1100160"/>
                <a:gridCol w="1098720"/>
                <a:gridCol w="1100160"/>
              </a:tblGrid>
              <a:tr h="955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б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олотой ключ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рта сокрови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томки Пифаг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ла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следники Евкл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граждение, поощ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ы победителям, лауреатам гарантированы 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ы участникам; пр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ы победителям, лауреатам гарантирован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ы участникам; пр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ы победителям, лауреатам гарантирован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ы участникам; пр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ы победителям, лауреатам гарантирован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ы участни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ы победителям, лауреатам гарантирован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ы участни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ы победителям, лауреатам гарантирован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ы участни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38080" y="685800"/>
          <a:ext cx="7696440" cy="5692680"/>
        </p:xfrm>
        <a:graphic>
          <a:graphicData uri="http://schemas.openxmlformats.org/drawingml/2006/table">
            <a:tbl>
              <a:tblPr/>
              <a:tblGrid>
                <a:gridCol w="1100160"/>
                <a:gridCol w="1098720"/>
                <a:gridCol w="1100160"/>
                <a:gridCol w="1098360"/>
                <a:gridCol w="1100160"/>
                <a:gridCol w="1098720"/>
                <a:gridCol w="110016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Реб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Золотой ключ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Карта сокрови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Потомки Пифаг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Сила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Наследники Евкл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ценка действий координа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моты за эффективное взаимодейст-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детельство о подготовке призеров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уре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тификат ОУ – лауреа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ые пись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ые пись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ые письма, свидетель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ые пись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2133720" y="22860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Анкетирова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дет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1066680"/>
          <a:ext cx="8458200" cy="5578560"/>
        </p:xfrm>
        <a:graphic>
          <a:graphicData uri="http://schemas.openxmlformats.org/drawingml/2006/table">
            <a:tbl>
              <a:tblPr/>
              <a:tblGrid>
                <a:gridCol w="4343400"/>
                <a:gridCol w="41148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чему ты участвуешь в дистанционных конкурсах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равится, получаю удовольствие, интерес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ю больше знани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люсь умн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ные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ожу в интерн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кой конкурс тебе нравится больше всего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ила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олотой клю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акие задания тебе нравятся больш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Будешь ли ты советовать друзьям участвовать в конкурсах и по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будут больше зна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ое разви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 компьюте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111" descr="74"/>
          <p:cNvPicPr/>
          <p:nvPr/>
        </p:nvPicPr>
        <p:blipFill>
          <a:blip r:embed="rId1"/>
          <a:stretch/>
        </p:blipFill>
        <p:spPr>
          <a:xfrm>
            <a:off x="7620120" y="228600"/>
            <a:ext cx="10666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5"/>
          <p:cNvSpPr txBox="1"/>
          <p:nvPr/>
        </p:nvSpPr>
        <p:spPr>
          <a:xfrm>
            <a:off x="1846440" y="531720"/>
            <a:ext cx="5448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Monotype Corsiva"/>
              </a:rPr>
              <a:t>Результат учас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Monotype Corsiva"/>
              </a:rPr>
              <a:t>дет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Monotype Corsiva"/>
              <a:ea typeface="Monotype Corsiva"/>
            </a:endParaRPr>
          </a:p>
        </p:txBody>
      </p:sp>
      <p:pic>
        <p:nvPicPr>
          <p:cNvPr id="79" name="Picture 6" descr="J0283646"/>
          <p:cNvPicPr/>
          <p:nvPr/>
        </p:nvPicPr>
        <p:blipFill>
          <a:blip r:embed="rId1"/>
          <a:stretch/>
        </p:blipFill>
        <p:spPr>
          <a:xfrm>
            <a:off x="7162920" y="5334120"/>
            <a:ext cx="1752480" cy="1290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533520" y="1519560"/>
            <a:ext cx="807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1890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нтеллектуальный рост учащих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90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глубление и расширение программного материа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90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сширение кругоз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90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звитие основных компетентностей и творческих      способнос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90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звитие умения работать с информацией, поиск информации в сети Интерн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90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овершенствование навыков работы с компьюте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90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также «переживание» ситуации успе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90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вышение мотивации и познавательного интере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189000"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езультативность учас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«Сделать серьёзное занятие для ребенка занимательны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первоначальная задача обуч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вест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никальный продукт. Возможность  введения  в  игру  разнообразных  заданий,  позволяет решать бесчисленное множество интеллектуальных и творческих задач. Квест дает возможнось создать  комфортные  условия  обучения,  при  которых  каждый  ребёнок чувствует свою успеш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333360"/>
            <a:ext cx="74674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 структуре сюжетов:</a:t>
            </a:r>
            <a:br>
              <a:rPr sz="4000"/>
            </a:br>
            <a:br>
              <a:rPr sz="32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иней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е содержание КВЕСТа выстроено по цепочке. Отгадаешь одн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– получишь следующее, и так, пока не дойдёшь до финиша.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Штурмов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аждый игрок решает свою цепочку загадок, чтобы в конце собрать и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дино.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льцев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тправляется по кольцевой траектории: выполняя определённые задания он вновь и вновь возвращается в пункт «А».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Подготовка к проведению кв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3810240" cy="4632120"/>
        </p:xfrm>
        <a:graphic>
          <a:graphicData uri="http://schemas.openxmlformats.org/drawingml/2006/table">
            <a:tbl>
              <a:tblPr/>
              <a:tblGrid>
                <a:gridCol w="409680"/>
                <a:gridCol w="2735280"/>
                <a:gridCol w="66528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я для кома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666 увеличить в 1,5 раза, не производя с ним никаких действ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пяти минут исполнить как можно больше песен, в которых звучат чис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ес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исовать при помощи геометрических фигур и математических символов «Царицу Математики»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фиг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029200" y="2649600"/>
          <a:ext cx="3809880" cy="3608280"/>
        </p:xfrm>
        <a:graphic>
          <a:graphicData uri="http://schemas.openxmlformats.org/drawingml/2006/table">
            <a:tbl>
              <a:tblPr/>
              <a:tblGrid>
                <a:gridCol w="479520"/>
                <a:gridCol w="2016000"/>
                <a:gridCol w="792360"/>
                <a:gridCol w="5220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ин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ус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олом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008680" y="1676520"/>
          <a:ext cx="3760560" cy="744480"/>
        </p:xfrm>
        <a:graphic>
          <a:graphicData uri="http://schemas.openxmlformats.org/drawingml/2006/table">
            <a:tbl>
              <a:tblPr/>
              <a:tblGrid>
                <a:gridCol w="3760560"/>
              </a:tblGrid>
              <a:tr h="744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шрутный л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Рисунок 10" descr="http://semenova-klass.moy.su/_si/0/49166071.jpg"/>
          <p:cNvPicPr/>
          <p:nvPr/>
        </p:nvPicPr>
        <p:blipFill>
          <a:blip r:embed="rId1"/>
          <a:stretch/>
        </p:blipFill>
        <p:spPr>
          <a:xfrm>
            <a:off x="1692360" y="2708280"/>
            <a:ext cx="1727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33360"/>
            <a:ext cx="775332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Действия учителя</a:t>
            </a:r>
            <a:br>
              <a:rPr sz="3600"/>
            </a:br>
            <a:br>
              <a:rPr sz="2400"/>
            </a:b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здание квеста или использование уже имеющегося ( подготовка заданий).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спределение учащихся по группам (6-10 человек).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структаж учащихся по технике безопасности, по использованию гаджетов в работе.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рганизация работы обучающихся в группах (оглашается легенда игры и командам вручается маршрутный лист.).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дведение итогов.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ценивание обучающихся</a:t>
            </a:r>
            <a:r>
              <a:rPr b="0" lang="ru-RU" sz="24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066680" y="1264680"/>
            <a:ext cx="739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ookman Old Style"/>
              </a:rPr>
              <a:t>Интеллектуальные конкурсы способствуют открытию учащимися качественно новых знаний, что говорит об обучающем характере таких зад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AG00154_"/>
          <p:cNvPicPr/>
          <p:nvPr/>
        </p:nvPicPr>
        <p:blipFill>
          <a:blip r:embed="rId1"/>
          <a:stretch/>
        </p:blipFill>
        <p:spPr>
          <a:xfrm>
            <a:off x="7010280" y="5029200"/>
            <a:ext cx="17290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1371600" y="251496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4600" indent="-44460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имулирование разностороннего образования дет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рганизация предметного дополнительного образо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вышение мотивации в ц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1447920" y="838080"/>
            <a:ext cx="66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ричины участ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 конкурсах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47" name="Picture 7" descr="j0286779"/>
          <p:cNvPicPr/>
          <p:nvPr/>
        </p:nvPicPr>
        <p:blipFill>
          <a:blip r:embed="rId1"/>
          <a:stretch/>
        </p:blipFill>
        <p:spPr>
          <a:xfrm>
            <a:off x="7543800" y="5410080"/>
            <a:ext cx="122400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[медвежонок.gif]"/>
          <p:cNvPicPr/>
          <p:nvPr/>
        </p:nvPicPr>
        <p:blipFill>
          <a:blip r:embed="rId1"/>
          <a:stretch/>
        </p:blipFill>
        <p:spPr>
          <a:xfrm>
            <a:off x="1260360" y="1828800"/>
            <a:ext cx="141948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http://www.schoolplus.ru/gui/common/keng.gif"/>
          <p:cNvPicPr/>
          <p:nvPr/>
        </p:nvPicPr>
        <p:blipFill>
          <a:blip r:embed="rId2"/>
          <a:stretch/>
        </p:blipFill>
        <p:spPr>
          <a:xfrm>
            <a:off x="3657600" y="1828800"/>
            <a:ext cx="195120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schoolplus.ru/gui/common/zr.jpg"/>
          <p:cNvPicPr/>
          <p:nvPr/>
        </p:nvPicPr>
        <p:blipFill>
          <a:blip r:embed="rId3"/>
          <a:stretch/>
        </p:blipFill>
        <p:spPr>
          <a:xfrm>
            <a:off x="6400800" y="1905120"/>
            <a:ext cx="1905120" cy="177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yperLink"/>
          <p:cNvPicPr/>
          <p:nvPr/>
        </p:nvPicPr>
        <p:blipFill>
          <a:blip r:embed="rId4"/>
          <a:stretch/>
        </p:blipFill>
        <p:spPr>
          <a:xfrm>
            <a:off x="6477120" y="41911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Британский Бульдог"/>
          <p:cNvPicPr/>
          <p:nvPr/>
        </p:nvPicPr>
        <p:blipFill>
          <a:blip r:embed="rId5"/>
          <a:stretch/>
        </p:blipFill>
        <p:spPr>
          <a:xfrm>
            <a:off x="1066680" y="4038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lis(3)"/>
          <p:cNvPicPr/>
          <p:nvPr/>
        </p:nvPicPr>
        <p:blipFill>
          <a:blip r:embed="rId6"/>
          <a:stretch/>
        </p:blipFill>
        <p:spPr>
          <a:xfrm>
            <a:off x="3962520" y="4114800"/>
            <a:ext cx="1566720" cy="1724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457200" y="4708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Электронная школа « Знаника»- дополнительное образование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C:\Users\учитель\Downloads\unnamed-1.jpg"/>
          <p:cNvPicPr/>
          <p:nvPr/>
        </p:nvPicPr>
        <p:blipFill>
          <a:blip r:embed="rId7"/>
          <a:stretch/>
        </p:blipFill>
        <p:spPr>
          <a:xfrm>
            <a:off x="1066680" y="1828800"/>
            <a:ext cx="179892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C:\Users\учитель\Downloads\kisspng-treasure-map-buried-treasure-piracy-clip-art-pirate-map-5ac8b8ba186df9.1821561115231039301001.jpg"/>
          <p:cNvPicPr/>
          <p:nvPr/>
        </p:nvPicPr>
        <p:blipFill>
          <a:blip r:embed="rId8"/>
          <a:stretch/>
        </p:blipFill>
        <p:spPr>
          <a:xfrm>
            <a:off x="3657600" y="1905120"/>
            <a:ext cx="187164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s://cdo-rzn.ru/upload/iblock/3c1/3c1d2e50413b3b19b346c9ce767ae7d3.PNG"/>
          <p:cNvPicPr/>
          <p:nvPr/>
        </p:nvPicPr>
        <p:blipFill>
          <a:blip r:embed="rId9"/>
          <a:stretch/>
        </p:blipFill>
        <p:spPr>
          <a:xfrm>
            <a:off x="1062000" y="4038480"/>
            <a:ext cx="204156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s://ds04.infourok.ru/uploads/ex/101c/000505a3-03126b5d/img8.jpg"/>
          <p:cNvPicPr/>
          <p:nvPr/>
        </p:nvPicPr>
        <p:blipFill>
          <a:blip r:embed="rId10"/>
          <a:stretch/>
        </p:blipFill>
        <p:spPr>
          <a:xfrm>
            <a:off x="3684600" y="4038480"/>
            <a:ext cx="193356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https://im0-tub-ru.yandex.net/i?id=7e2fc1a460e42735b5fd6bc5f4cfef02&amp;n=13&amp;exp=1"/>
          <p:cNvPicPr/>
          <p:nvPr/>
        </p:nvPicPr>
        <p:blipFill>
          <a:blip r:embed="rId11"/>
          <a:stretch/>
        </p:blipFill>
        <p:spPr>
          <a:xfrm>
            <a:off x="6353280" y="1905120"/>
            <a:ext cx="2000160" cy="1904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s://2.bp.blogspot.com/-YtcrIiHpkS4/Wnr8A1TeSJI/AAAAAAAAA_k/DaERwduRR9wbzkHpTItAIfF0CS0DzJK6gCLcBGAs/s1600/2018-02-07_16-14-39.png"/>
          <p:cNvPicPr/>
          <p:nvPr/>
        </p:nvPicPr>
        <p:blipFill>
          <a:blip r:embed="rId12"/>
          <a:stretch/>
        </p:blipFill>
        <p:spPr>
          <a:xfrm>
            <a:off x="6353280" y="4159080"/>
            <a:ext cx="20001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Monotype Corsiva"/>
                <a:ea typeface="Microsoft Himalaya"/>
              </a:rPr>
              <a:t>Цели конкурс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разовательная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овлечение каждого учащегося в активный познавательный процесс. Организация индивидуальной и групповой деятельности школьников, выявление умений и способностей работать самостоятельно и в группе по какой-либо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вающая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развитие интереса к предмету, творческих способностей, воображения учащихся; формирование навыков исследовательской деятельности, умений самостоятельной работы с информацией; расширение кругозора, эрудиции, мотивации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оспитательная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оспитание личной ответственности за выполнение задания, воспитание уважения к окружающим, культурным тради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Monotype Corsiva"/>
              </a:rPr>
              <a:t>Задачи конкур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овать разностороннему развитию личности обучающихся через повышение интереса к обучению, способствуя расширению кругозора и углублению знаний по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ить потребности обучающихся в продуктивной, интеллектуальной и творческой деятельности, через формирование положительной самооценки своих дост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800c8"/>
                </a:solidFill>
                <a:latin typeface="Monotype Corsiva"/>
              </a:rPr>
              <a:t>Участие в конкурсах  различного 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978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российский математический конкурс « Ребу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800c8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1800c8"/>
                </a:solidFill>
                <a:latin typeface="Arial"/>
              </a:rPr>
              <a:t>2012 – 2013                                                   2013 -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участников                                                               9 уча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рытков Дмитрий - побе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ушкарев Егор – победит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 баллов из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народная олимпиада УрФО по основным нау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0c8"/>
                </a:solidFill>
                <a:latin typeface="Arial"/>
              </a:rPr>
              <a:t>2010-2011   2011-2012  2012- 2013   2013-2014    2014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 участников      6 участников      5 участников         5 участников        10 уча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 тур                      1тур                     1 тур                      1 тур                      1 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участников         4 участника         3 участника           3 участника          5 уча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 тур                      2 тур                    2 тур                      2 тур                      2 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1 участник              2 участ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3 тур                      3 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российский математический конкурс « Золотой клю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1800c8"/>
                </a:solidFill>
                <a:latin typeface="Arial"/>
              </a:rPr>
              <a:t>2013 - 2014                                                           2014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участников                                                                                 12 уча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российский математический конкурс « Карта сокровищ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1800c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800c8"/>
                </a:solidFill>
                <a:latin typeface="Arial"/>
              </a:rPr>
              <a:t>2013-201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 участников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2 приз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800c8"/>
                </a:solidFill>
                <a:latin typeface="Monotype Corsiva"/>
              </a:rPr>
              <a:t>Участие в конкурсах различного 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российский математический конкурс « Потомки Пифаго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0c8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1800c8"/>
                </a:solidFill>
                <a:latin typeface="Arial"/>
              </a:rPr>
              <a:t>2015 – 2016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6 участников </a:t>
            </a:r>
            <a:r>
              <a:rPr b="0" lang="ru-RU" sz="2000" spc="-1" strike="noStrike">
                <a:solidFill>
                  <a:srgbClr val="1800c8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обе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2016 -20117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участник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1  побед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8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российский математический конкурс «Сила зн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800c8"/>
                </a:solidFill>
                <a:latin typeface="Arial"/>
              </a:rPr>
              <a:t>2017 - 2018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участников    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1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обе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российский математический конкурс «Наследники  Евклида»        </a:t>
            </a:r>
            <a:r>
              <a:rPr b="0" lang="ru-RU" sz="2000" spc="-1" strike="noStrike">
                <a:solidFill>
                  <a:srgbClr val="1800c8"/>
                </a:solidFill>
                <a:latin typeface="Arial"/>
              </a:rPr>
              <a:t>2018-2019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участников  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3 мес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80880" y="13510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рганизационные вопросы (оформление заявки, оплата участия, проверка работ на предмет соответствия техническим требованиям, отправка работ, объявление результатов, предоставление возможности сравнить свои ответы с правильны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нсультации (помощь в оформлении работ, проведение консультаций для детей и род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мпьютерн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905120" y="380880"/>
            <a:ext cx="5486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Monotype Corsiva"/>
              </a:rPr>
              <a:t>Деятельност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Monotype Corsiva"/>
              </a:rPr>
              <a:t>учит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Monotype Corsiva"/>
              <a:ea typeface="Monotype Corsiva"/>
            </a:endParaRPr>
          </a:p>
        </p:txBody>
      </p:sp>
      <p:pic>
        <p:nvPicPr>
          <p:cNvPr id="71" name="Picture 6" descr="j0195384"/>
          <p:cNvPicPr/>
          <p:nvPr/>
        </p:nvPicPr>
        <p:blipFill>
          <a:blip r:embed="rId1"/>
          <a:stretch/>
        </p:blipFill>
        <p:spPr>
          <a:xfrm>
            <a:off x="7391520" y="5273640"/>
            <a:ext cx="15508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28600" y="380880"/>
          <a:ext cx="8610480" cy="6461280"/>
        </p:xfrm>
        <a:graphic>
          <a:graphicData uri="http://schemas.openxmlformats.org/drawingml/2006/table">
            <a:tbl>
              <a:tblPr/>
              <a:tblGrid>
                <a:gridCol w="1828800"/>
                <a:gridCol w="2590920"/>
                <a:gridCol w="2209680"/>
                <a:gridCol w="1981080"/>
              </a:tblGrid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Реб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Золотой клю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Карта сокрови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Потомки Пифаг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Сила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</a:rPr>
                        <a:t>Наследники Евкл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4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Анализ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ылается рейтинг-лист (баллы за каждое задание) и избранные работы, с которыми можно сравнить свои отв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правильных ответов с примерами из детских раб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баллы, а с недавнего времени и правильные отв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ctor_cro</cp:lastModifiedBy>
  <dcterms:modified xsi:type="dcterms:W3CDTF">2021-08-27T08:04:37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