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B22-EBFD-4162-8801-29DBA949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B11-82B7-409C-8193-46540292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DAFE5-2781-4BDA-82B7-01C83827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93378-4A9E-4A34-AE19-81C043DD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B69B5-EB0D-4040-B757-2299D0EE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4CBAB-B789-4016-A873-C30B9B51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242A9-EF49-44E8-9230-1B236E2C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7223C-AD1D-434B-9B69-8406DC2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E8573-A57D-4E05-9350-F2432F57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A3993-A1F9-495E-80EB-83EA69DB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C9474-9EC6-4CC7-9176-0547F7C0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C15ED-D5DA-455B-AD3D-4B739A77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D98-A354-42BE-A8E9-E6578733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8F0AE-4B18-4203-B705-DEB414F2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AAD5E-2955-43C7-8E46-489E4CB4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4D663-2E1B-43ED-ACA0-8D2BFA6B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25DB5-58F2-4D3B-8E73-44D26786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3647A-8A87-4854-8A82-ECAE17E6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E7499-F3ED-4E28-BFAE-09B3B93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9FD95-2D47-4F82-8C72-DC08862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0D688-986F-4EE6-95C6-D1DA933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0FD12-FB90-4692-AFFE-D38821F6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93FED-4FFB-477F-AE55-D186A9BC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59B-0398-4A91-9300-65959710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74B6D-EF6C-4850-BF7A-C4ED923C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2755-D95C-4C6E-A300-9AFEC856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3729-8568-4FB5-AF42-C5570B91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5623-81D4-489A-B4C9-B751D189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671A-91D1-4B97-B86A-DFAE82AD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0C18-C55A-4248-902A-2FFE0F6E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30EF-0E06-4609-BBF5-03A72347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6185-CC43-4B8A-BBCB-B6364599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9BF-80A1-4A1F-B8F0-641DB9D8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AECB-D58E-4305-9484-F09178CF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1B44-8D33-42B1-A86B-71BF2A2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8D48-AD01-4179-9683-DB4922DB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69CB-B0D2-47CD-8CB3-3DE5A0B0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A435-4798-4144-81B1-E3736788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C885-A6C2-4A97-BE7B-1CA9F9BA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B1DA-042D-4A34-88F6-DC04BCE9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A6C3-ECEF-49FD-B747-87CE1272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5865A-2584-4E1D-8189-B3291A1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58F3-831B-4CF1-99E7-1FDDA645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E86-6996-4548-A212-32C5D0AA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C6CF-95BB-4DAA-8751-5C316518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F41D-F189-47F9-B4D4-DB82BB35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C265-821C-4416-B1C5-C07C8D20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03D1-5E90-49C8-AB30-FD66337D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3FFC-F4A1-48A7-921A-17207402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78F58-67D8-4B3C-9F40-91E55CE6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E738-9F6F-4F2A-B8C2-DE877C0D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9C247-2880-411E-A5CE-F3BFC8D9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F5AB-A510-404F-BD9B-7DF10EC0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FCFE-C6DE-4A23-8A23-4297F290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39E-15C1-408E-AEAC-AC543373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980D-81CD-4F41-AECA-BA98A992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6F151-1745-4BC1-9901-97AA56F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9158E-1EFD-4E59-BA79-3B8D7451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274E4-22B1-47C3-88E7-7B01E435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6D1D-BBA6-42C5-AD90-3D365007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D580-3090-4449-80F7-E34FE3D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D2613-435B-4783-AF12-3D2CAD7B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6577-327A-493E-9DEE-D0D4F2B4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5839-2DBC-44EE-9233-D673C946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248D7-CA82-4D7F-9053-B4F4242A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573-B457-4450-BF63-F73270B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C80D-1597-45CD-A625-AD11AF4F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95EE-2051-4F8B-8A57-F1DEAD98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C8E75-23C7-40DF-A52A-B8793A21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54C3-1C92-4212-8D70-B176CBDB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E85D8-2FDA-4C99-A9DE-D8835984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3E23-6C42-4628-8EF7-09341F41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EC93-5609-44AB-AB0E-A3B09EB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2B94-2C7E-4631-A8EA-EAFAF12D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243A3-AE64-48C7-95FF-E982B2E2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1AA0-3AAB-4559-B9F3-B0FE57A2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13E-3BAA-4230-96EB-4B1C4ACE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DFB6-4F6B-4A75-9162-03D0AC2F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01A23-829D-4FE8-84D0-898F1A5F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A284-5904-4334-BEE3-92D6B821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24700-8A82-422E-8D6B-00B6115A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21CEB-715A-4B7C-B032-EE96B8EE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CFE19-8FDC-4527-B76C-8051BF94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204A8-3C27-49EE-8E48-3FBC9B51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958FE-F073-44FC-8D56-6F6AC8A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8AFA3-875F-4034-958D-6CB41F8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127B-ABC9-46DC-BC3F-93CBC41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58F-714C-46DE-AE15-7058037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F7B10-9B4E-4536-BAD0-CE744391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5F6BD-CE3E-413A-9F32-55596384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A70C-32F9-4C9E-832A-51CEABC8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2F23-AA95-4F6A-934D-D7961306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EB2B7-C75E-4472-BC7C-B6DD070C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C72C2-8296-4880-BF46-D76D8B95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8B322-8EB1-444C-9BAC-A4560BFE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542DD-5758-4DC8-BD8E-C6CF95C0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A485-0349-42AD-8607-597160F5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2E29-5637-450F-BC6B-D2666FC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94E-2091-4939-B0DD-A9B8970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91FC-952E-44C5-A655-34931B69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32727-8DC6-4A34-8027-7027A7D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DC77A-A6B7-4CC6-938C-83B20192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715D8-EDF0-460E-8984-66275ACD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24ED8-DBA2-4A1A-B812-7B03E628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0AD02-5FD9-46AC-B329-FD82A702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72C57-3055-4DB0-9109-352806C0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C261A-7E03-4C72-ABF5-9BE7D9E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2FE4-6F5E-4B89-925E-721207E6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05F88-EB43-4971-87C6-A15E21AA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2B1-86E0-4398-98BD-1B0CAAAE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5977A-47A3-4032-8ED4-986B93E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C89BD-A46A-4C75-8209-0F62A481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EA46-66AB-4B77-BFD8-040554B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AE2B2-7CDC-433C-B2F4-49C79CD2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EDF55-27F6-4F88-95BB-ED0A07CF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2C022-30EF-40E5-B936-9256131D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435B6-8278-4585-959A-78FBDC4A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C301F-E09F-440A-B588-5F054E4E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AA23A-3726-4A5C-B0D7-6BB11A30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113AB-A46E-4B4A-BE19-A0EB9585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9D2-5F10-4E8C-B430-DC88B6BAB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r>
              <a:rPr b="0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B00997A2-3160-4E73-92EE-6F540CE209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4D7A-73E5-4D33-AF8E-5F9B2987F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r>
              <a:rPr b="0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D0923FCF-941F-4845-9A84-04E1799795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r>
              <a:rPr b="0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2FB05D9F-6EFD-4D28-B398-398A35C1C2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r>
              <a:rPr b="0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7D117412-4EB2-4BB5-8C87-2A9AE64CB3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r>
              <a:rPr b="0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8CB9FF98-CFFA-499A-9203-ABD2CF3F23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r>
              <a:rPr b="0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FDC019EC-A73E-4B81-B3CF-8E682A1EA2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r>
              <a:rPr b="0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762A1F9A-E720-4548-8E6C-A427CD78CB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r>
              <a:rPr b="0" lang="de-DE" sz="1200" spc="-1" strike="noStrike">
                <a:solidFill>
                  <a:srgbClr val="898989"/>
                </a:solidFill>
                <a:latin typeface="MS UI Gothic"/>
              </a:rPr>
              <a:t></a:t>
            </a: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28AC4980-4DFB-454F-AE79-295E8713BB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fipi.ru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math-oge.sdamgia.ru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lexlarin.net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interneturok.ru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vk.com/minprosvet?z=video-30558759_456239834%2Fpl_wall_-30558759" TargetMode="External"/><Relationship Id="rId2" Type="http://schemas.openxmlformats.org/officeDocument/2006/relationships/hyperlink" Target="https://vk.com/minprosvet?z=video-30558759_456239834%2Fpl_wall_-30558759" TargetMode="External"/><Relationship Id="rId3" Type="http://schemas.openxmlformats.org/officeDocument/2006/relationships/hyperlink" Target="https://vk.com/minprosvet?z=video-30558759_456239834%2Fpl_wall_-30558759" TargetMode="External"/><Relationship Id="rId4" Type="http://schemas.openxmlformats.org/officeDocument/2006/relationships/hyperlink" Target="https://vk.com/minprosvet?z=video-30558759_456239834%2Fpl_wall_-30558759" TargetMode="External"/><Relationship Id="rId5" Type="http://schemas.openxmlformats.org/officeDocument/2006/relationships/hyperlink" Target="https://vk.com/minprosvet?z=video-30558759_456239834%2Fpl_wall_-30558759" TargetMode="External"/><Relationship Id="rId6" Type="http://schemas.openxmlformats.org/officeDocument/2006/relationships/hyperlink" Target="https://vk.com/minprosvet?z=video-30558759_456239834%2Fpl_wall_-30558759" TargetMode="External"/><Relationship Id="rId7" Type="http://schemas.openxmlformats.org/officeDocument/2006/relationships/hyperlink" Target="https://vk.com/minprosvet?z=video-30558759_456239834%2Fpl_wall_-30558759" TargetMode="External"/><Relationship Id="rId8" Type="http://schemas.openxmlformats.org/officeDocument/2006/relationships/hyperlink" Target="https://vk.com/minprosvet?z=video-30558759_456239834%2Fpl_wall_-30558759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4ege.ru/index.php?do=download&amp;id=11876" TargetMode="External"/><Relationship Id="rId2" Type="http://schemas.openxmlformats.org/officeDocument/2006/relationships/hyperlink" Target="https://4ege.ru/index.php?do=download&amp;id=11878" TargetMode="External"/><Relationship Id="rId3" Type="http://schemas.openxmlformats.org/officeDocument/2006/relationships/hyperlink" Target="https://4ege.ru/index.php?do=download&amp;id=11879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bOYpP7djmY" TargetMode="External"/><Relationship Id="rId2" Type="http://schemas.openxmlformats.org/officeDocument/2006/relationships/hyperlink" Target="https://www.youtube.com/watch?v=DbOYpP7djmY" TargetMode="External"/><Relationship Id="rId3" Type="http://schemas.openxmlformats.org/officeDocument/2006/relationships/hyperlink" Target="http://doc.fipi.ru/o-nas/novosti/metodicheskiye-rekomendatsii-po-samostoyatelnoy-podgotovke-k-oge/matematika-oge.pdf" TargetMode="External"/><Relationship Id="rId4" Type="http://schemas.openxmlformats.org/officeDocument/2006/relationships/hyperlink" Target="http://doc.fipi.ru/o-nas/novosti/metodicheskiye-rekomendatsii-po-samostoyatelnoy-podgotovke-k-oge/matematika-oge.pdf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8497800" cy="19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«Методика подготовки к ОГЭ»»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7886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оветы ФИП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28560" y="836640"/>
            <a:ext cx="7886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пределить свой уровень подготов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формулировать цель сдачи экзаме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строить стратегию подготовки к экзамен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ыстроить график подготовки к экзаме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4" name="Объект 4" descr=""/>
          <p:cNvPicPr/>
          <p:nvPr/>
        </p:nvPicPr>
        <p:blipFill>
          <a:blip r:embed="rId1"/>
          <a:srcRect l="18227" t="18647" r="20876" b="20127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5"/>
          <p:cNvSpPr/>
          <p:nvPr/>
        </p:nvSpPr>
        <p:spPr>
          <a:xfrm>
            <a:off x="179280" y="6381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ea typeface="华文细黑"/>
                <a:hlinkClick r:id="rId2"/>
              </a:rPr>
              <a:t>http://fipi.ru/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7" name="Объект 4" descr=""/>
          <p:cNvPicPr/>
          <p:nvPr/>
        </p:nvPicPr>
        <p:blipFill>
          <a:blip r:embed="rId1"/>
          <a:srcRect l="15579" t="31883" r="16904" b="10198"/>
          <a:stretch/>
        </p:blipFill>
        <p:spPr>
          <a:xfrm>
            <a:off x="-28440" y="-30240"/>
            <a:ext cx="9172440" cy="62960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5"/>
          <p:cNvSpPr/>
          <p:nvPr/>
        </p:nvSpPr>
        <p:spPr>
          <a:xfrm>
            <a:off x="250920" y="638172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ea typeface="华文细黑"/>
                <a:hlinkClick r:id="rId2"/>
              </a:rPr>
              <a:t>https://math-oge.sdamgia.ru/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250920" y="638172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ea typeface="华文细黑"/>
                <a:hlinkClick r:id="rId1"/>
              </a:rPr>
              <a:t>http://alexlarin.net/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Объект 3" descr=""/>
          <p:cNvPicPr/>
          <p:nvPr/>
        </p:nvPicPr>
        <p:blipFill>
          <a:blip r:embed="rId2"/>
          <a:srcRect l="18227" t="28576" r="16904" b="2178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250920" y="638172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ea typeface="华文细黑"/>
                <a:hlinkClick r:id="rId1"/>
              </a:rPr>
              <a:t>https://interneturok.ru/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Объект 4" descr=""/>
          <p:cNvPicPr/>
          <p:nvPr/>
        </p:nvPicPr>
        <p:blipFill>
          <a:blip r:embed="rId2"/>
          <a:srcRect l="16904" t="16990" r="20876" b="28402"/>
          <a:stretch/>
        </p:blipFill>
        <p:spPr>
          <a:xfrm>
            <a:off x="-3240" y="0"/>
            <a:ext cx="914724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лезные ссылки для подготовки к ОГЭ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79280" y="16999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mathege.ru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/</a:t>
            </a: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https://yandex.ru/tutor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s://www.mathedu.ru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https://www.examen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vk.com/minprosvet?z=video-30558759_456239834%2Fpl_wall_-3055875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www.youtube.com/watch?v=-RkUdvitQYw&amp;feature=emb_log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www.youtube.com/channel/UChE2sc5N7PfdV-yN2_ctvt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23640" y="5490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ы проведения В 2021 году ОГЭ по математике выпускники 9-х классов смогут сдать в одном из трех периодов (досрочном, основном и сентябрьском). Календарь экзаменов резервирует за предметом «математика» такие да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154160" y="2421000"/>
          <a:ext cx="7056360" cy="3816360"/>
        </p:xfrm>
        <a:graphic>
          <a:graphicData uri="http://schemas.openxmlformats.org/drawingml/2006/table">
            <a:tbl>
              <a:tblPr/>
              <a:tblGrid>
                <a:gridCol w="3529080"/>
                <a:gridCol w="3527280"/>
              </a:tblGrid>
              <a:tr h="423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срочный период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ой де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апрел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рв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ма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3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ой период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ой де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июн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рв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август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23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енние пересдачи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ой де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сентябр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рв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сентябр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Формат экзамена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94920" y="907920"/>
            <a:ext cx="84978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ли эпидемиологическая ситуация в мире и в России в частности стабилизируется, будет возвращен формат ОГЭ, имевший место до 2020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аменационная работа состоит из двух частей, включающих в себя 25 заданий. Часть 1 содержит 19 заданий, часть 2 содержит 6 заданий с развёрнутым ответ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выполнение экзаменационной работы по математике отводится 3 часа 55 минут (235 минут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рохождения аттестационного порога необходимо набрать не менее 8 баллов, из которых не менее 2 баллов должны быть получены за решение заданий по геометрии (задания 15–19, 23–25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ускается использование участниками экзаменов следующих средств обучения: линейка, не содержащая справочной информ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 Light"/>
              </a:rPr>
              <a:t>Изменения в КИМ 2021 года по сравнению с 202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50560" y="765000"/>
            <a:ext cx="6769080" cy="55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мках усиления акцента на проверку применения математических знаний в различных ситуациях количество заданий уменьшилось на одно за счет объединения заданий на преобразование алгебраических (задание 13 в КИМ 2020 г.) и числовых выражений (задание 8 в КИМ 2020 г.) в одно задание на преобразование выражений на позиции 8 в КИМ 202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дание на работу с последовательностями и прогрессиями (задание 12 в КИМ 2020 г.) заменено на задание с практическим содержанием, направленное на проверку умения применять знания о последовательностях и прогрессиях в прикладных ситуациях (задание 14 в КИМ 2021 г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http://www.muromgym.ru/sites/default/files/inline-images/20170923164112.jpg"/>
          <p:cNvPicPr/>
          <p:nvPr/>
        </p:nvPicPr>
        <p:blipFill>
          <a:blip r:embed="rId1"/>
          <a:stretch/>
        </p:blipFill>
        <p:spPr>
          <a:xfrm>
            <a:off x="7020000" y="765000"/>
            <a:ext cx="20574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 Light"/>
              </a:rPr>
              <a:t>Изменения в КИМ 2021 года по сравнению с 202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50560" y="1052280"/>
            <a:ext cx="67690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ректирован порядок заданий в соответствии с тематикой и слож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альный первичный балл уменьшен с 32 до 3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моверсия: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math2021.pd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дификатор: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math-k.pd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фикация: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math-s.pd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3" descr="http://www.muromgym.ru/sites/default/files/inline-images/20170923164112.jpg"/>
          <p:cNvPicPr/>
          <p:nvPr/>
        </p:nvPicPr>
        <p:blipFill>
          <a:blip r:embed="rId4"/>
          <a:stretch/>
        </p:blipFill>
        <p:spPr>
          <a:xfrm>
            <a:off x="6472080" y="1989000"/>
            <a:ext cx="23860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Оценивание работ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105264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21 году результат ОГЭ по математике будет влиять на итоговый балл по предмету. Таким образом, сдав экзамен на 5 при годовой оценке 4, вы сможете повысить свой итоговый бал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ллы, полученные за выполнение І и ІІ частей, суммируются и интерпретируются в школьную оценку по 5-бальной шкале с использованием рекомендованной ФИПИ таблицы соответств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116000" y="4614840"/>
          <a:ext cx="6696000" cy="1371600"/>
        </p:xfrm>
        <a:graphic>
          <a:graphicData uri="http://schemas.openxmlformats.org/drawingml/2006/table">
            <a:tbl>
              <a:tblPr/>
              <a:tblGrid>
                <a:gridCol w="3348000"/>
                <a:gridCol w="3348000"/>
              </a:tblGrid>
              <a:tr h="2746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3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2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дал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886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оветы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50560" y="981000"/>
            <a:ext cx="588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ый секрет успешной сдачи ОГЭ по математике – это регулярное и систематическое изучение предмета на протяжении всего периода обучения в школе. Но, практика показывает, что многие учащиеся задумываются о важности данного предмета, только ощущая приближение ГИА или определившись с дальнейшим направлением обучения и понимая, что результат ОГЭ по математике имеет для их будущего ключевое значение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5" descr="https://2021god.com/wp-content/uploads/2020/06/ogeh-po-fizike-v-2021-godu-5.jpg"/>
          <p:cNvPicPr/>
          <p:nvPr/>
        </p:nvPicPr>
        <p:blipFill>
          <a:blip r:embed="rId1"/>
          <a:stretch/>
        </p:blipFill>
        <p:spPr>
          <a:xfrm>
            <a:off x="6229440" y="1054080"/>
            <a:ext cx="27385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886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оветы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28560" y="836640"/>
            <a:ext cx="7886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готовиться к экзамену по математике поможе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бор демоверсии ОГЭ по математике 2021 год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шение заданий из открытого банка ФИП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торение теоретических основ по специальным сборника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идео-уроки, доступные в сет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учше повторять темы, вынесенные на экзамен, по отдельным блокам, решая при этом задания, доступные на сайте ФИПИ, а после закрепить результат, решив одну из доступных демоверсий.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23640" y="1052640"/>
            <a:ext cx="83516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йти всю необходимую информацию можно в специализированных изданиях для подготовки к ОГЭ 2020 и 2021 года. Предлагаем попробовать решить демонстрационный КИМ самостоятельно, а потом посмотреть разбор материала на видео. Это поможет понять, какие из тем, вынесенных на экзамен, нуждаются в максимально тщательной проработ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</a:t>
            </a:r>
            <a:r>
              <a:rPr b="0" lang="en-US" sz="2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youtube.com/watch?v=DbOYpP7djmY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тодические рекомендации для обучающихся по самостоятельной подготовке к ОГЭ </a:t>
            </a:r>
            <a:r>
              <a:rPr b="0" lang="en-US" sz="26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26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doc.fipi.ru/o-nas/novosti/metodicheskiye-rekomendatsii-po-samostoyatelnoy-podgotovke-k-oge/matematika-oge.pdf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home</dc:creator>
  <dc:description/>
  <dc:language>en-US</dc:language>
  <cp:lastModifiedBy>director_cro</cp:lastModifiedBy>
  <cp:lastPrinted>1899-12-30T00:00:00Z</cp:lastPrinted>
  <dcterms:modified xsi:type="dcterms:W3CDTF">2021-08-27T08:05:14Z</dcterms:modified>
  <cp:revision>247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