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8E23-B34C-42D6-A4D9-E4583038ED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педаг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качества педагогов-математиков должна получить системное решение, включающе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ю и отбор школьников (учителя будут вырастать из школьников, обладающих высокой математической компетентностью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ную подготовку студентов (решение задач и работу с детьми уже на 1-2 кур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тестацию учителей по достигаемому ими приращению математической компетентности учеников, предложение альтернативной деятельности (например, занятия с отстающими, математический кружок для младших классов) педагогам с пониженными результатами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9441-E14A-40EE-AB4F-41040C0CC4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реализации концеп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ет преодолена тенденция последних десятилетий по снижению уровня математического образования, достигнуто лидирующее положение российского математического образования в мир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сится профессиональный уровень работающих и будущих педагогов-математик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тся доступность математического образ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сится математическая образованность различных категорий граждан в соответствии с общественной необходимостью и индивидуальной потребность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т поддержку лидеры математического образования: институты и отдельные педагоги, появятся новые активные и молодые лиде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сится уровень фундаментальных математических исследований, Россия вновь займет одну из ведущих позиций в мире,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прикладных математических исследований в промышленности и обороне будут обеспечены кадрами необходимой компетент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сится общественный престиж математики и интерес к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 развития отечественного образования акцентирует внимание на формировании всесторонне развитой личности, умеющей применять свои знания на практике, ориентироваться в огромном и постоянно растущем потоке информации, мыслить творчески. Не последнюю роль в формировании такой личности обеспечивает математическое образование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752F-9055-4CBA-AC23-5432514F03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Концепция  своевременна и актуальна, выступает как механизм повышения качества образования, уровня массовой математической культуры населения, развития науки и техники. Важными элементами в ней, несомненно, являются преемственность дошкольного и школьного, школьного и  вузовского математического образования, система подготовки, повышения квалификации и аттестации учителей математики, работа с одаренными детьми по повышению математической грамо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AA5A-4381-4E57-9D15-39BE19968C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ю системы массового математического просвещения являетс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ая поддержка и повышение уровня математических знаний, как в профессиональной сфере, так и для удовлетворения любознательности человека и его общекультурных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B3DA-4335-4E84-B6D7-A15C764785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атематического просвещения (в том числе – в форме занимательных задач, игр, головоломок, телеконкурсов) должны насыщать среду обитания, интегрироваться в массовую культуру (вплоть до настенных календарей, социальной рекламы и телешоу). Поддержание математической формы, интерес к последним достижениям в математике и ее приложениях должны быть столь же естественными, как и интерес к достижениям в технологии, культуре, спорте. Решение математической задачки, условие которой размещено на автобусной остановке или в вагоне метро, должно стать национальной особенностью. Форматы математических соревнований могут включать блиц-ответы по телефону, брейн-ринги, дистанционные командные турни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D6EC-3BAC-4291-B121-91C8037A7D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1DD-A020-47E7-8B17-F6420478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E2F-70EF-4EDD-B9BB-8E9A9065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9AE-1528-4F91-8411-AD011BA7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18B-F71C-47C7-868C-43144BE1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44E6-B099-41D5-B996-1C5B9E35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12C7-23E8-47E1-B81C-992C7065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CE5C-4E76-44AA-8F7C-CC3CC594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6EE2-E406-4BD2-848E-841287F9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6B3B-AD69-4FD2-90DE-EAE45F6C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8691-26BA-4C2C-959D-3F575150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F89A-8986-48B9-81C3-5CF732DB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0BF-150B-4D21-97E0-3F544980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2059-BE1B-4EBB-8333-88EC3796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E813-0291-4839-9567-C9EEF047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23D8-F80E-4181-97D5-F3135248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B6F8-EB23-4109-8B39-26E1F01D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6E1F-7937-4744-9DCB-8D677414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736E-383C-47BA-A305-ACD62949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2A439-F38E-4090-8BD2-2E17EC8E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FF78-0ACE-41D4-AA00-24CDEE51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2532-27B4-4B31-8C36-8EFCAE03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89C0-8B4B-49D0-B90A-E3369736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CB6-199F-43A8-B6A9-1F924465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C11C-2F33-4126-B1DB-E78E757D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B635-B45D-423B-8796-B2FE6125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9DCD0-0DC8-4FD9-B880-8C8C643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F40CB-E14A-49FB-80B0-DF64350A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C09D-6C4D-4B46-B539-D9456BD0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83E9-32C8-4BB3-ADAC-C7FC70D0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6AE3-9AD1-47D5-8638-064883CA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439E7-47ED-4316-A23E-DCEC529C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76C83-5DB4-45C5-9E1F-7F8E79F5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722E1-4CFD-4B0B-80FD-55F8742F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A05-29B7-4245-A9B4-57571E9D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E98AD-3A74-49BD-AE99-C4D5FBE7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01B2-8039-4E3F-9765-A3776F11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4E8EE-E202-47DD-8DAD-127F975B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C8E06-C286-4A70-AE01-DA4452A0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C143-3FF3-4200-8C6C-A17397AA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9C0AC-4524-4298-8163-E849AE24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DCBFE-EF57-413F-BE70-4F9BB407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B6F8-EB1A-4A41-9EE4-5FB66A62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C043-58B4-40A9-A162-829961A9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349-4A95-4DED-94A9-8F0B30B9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773-A290-4ACD-A307-BB6CCD7F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64D-54FD-4282-BA6F-C3C31CDE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5E6-DB3E-41EF-9B1B-D7E85B9D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892-24F9-46E4-AA11-67B15C84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4A0C-56C1-46CC-9CEF-1F3FA2BAD7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20F6-4277-4840-A9EB-545F92EE4F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47B9-180F-428F-B0FB-6D210B07EE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D7A4-B89B-42D4-82D4-A4AC11AB07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4280" y="928800"/>
            <a:ext cx="724392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6228"/>
                </a:solidFill>
                <a:latin typeface="Arial"/>
              </a:rPr>
              <a:t>КОНЦЕПЦИЯ РАЗВИТИЯ МАТЕМАТИЧЕСКОГО ОБРАЗОВАНИЯ В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142800" y="3886200"/>
            <a:ext cx="462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Times New Roman"/>
              </a:rPr>
              <a:t>Утвержден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Times New Roman"/>
              </a:rPr>
              <a:t>распоряжением Правительств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Times New Roman"/>
              </a:rPr>
              <a:t>Российской Федерац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Times New Roman"/>
              </a:rPr>
              <a:t>от 24 декабря 2013 г. N 2506-р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чество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5075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качества педагогов-математиков должна получить системное решение, включающее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иентацию и отбор школьников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деятельностную подготовку студентов,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ттестацию учителей по достигаемому ими приращению математической компетентности учеников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результате реализации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нцепци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000" y="1052280"/>
            <a:ext cx="8280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т преодолена тенденция последних десятилетий по снижению уровня математического образования, достигнуто лидирующее положение российского математического образования в мир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сится профессиональный уровень работающих и будущих педагогов-математиков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ится доступность математического образова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сится математическая образованность различных категорий граждан в соответствии с общественной необходимостью и индивидуальной потребностью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ат поддержку лидеры математического образования: институты и отдельные педагоги, появятся новые активные и молодые лидер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сится уровень фундаментальных математических исследований, Россия вновь займет одну из ведущих позиций в мире,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прикладных математических исследований в промышленности и обороне будут обеспечены кадрами необходимой компетент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сится общественный престиж математики и интерес к н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s://dop.pskovedu.ru/file/download/dop/35136D57CA1269B9EA3CCBB188D94FD0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блемы развития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ематического образова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95280" y="169992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блемы мотивационного харак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блемы содержательного харак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дровые пробл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Arial"/>
              </a:rPr>
              <a:t>Проблемы развития математического обра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890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мотивация школьников и студентов, которая связана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оценкой математического образ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груженностью программ техническими элемента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ревшим содержани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Содержание математического образования  продолжает устаревать и остается формальным и оторванным от жизни, нарушена его преемственность между уровнями обра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Кадровая. В России не хватает учителей и преподавателей вузов, которые могли бы качественно преподавать матема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714240" y="1571760"/>
            <a:ext cx="77868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вести российское математическое образование на лидирующее положение в мир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тематика в России должна стать передовой и привлекательной областью знания и деятельности, получение математических знаний - осознанным и внутренне мотивированным процесс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Arial"/>
              </a:rPr>
              <a:t>Цель Концеп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0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хранить достоинства советской системы математического образования и «преодолеть серьезные недостатки»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50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еспечить отсутствие пробелов в базовых знаниях для каждого обучающегося с применением современных технологий образовательного процесс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50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рнизировать содержание учебных программ, исходя из потребностей в специалистах различного профил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50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ысить качество работы преподавателей математики            (от школьных до институтских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50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илить материальную и социальную поддержку преподавателей математи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50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формировать у учеников и учителей установку: «нет неспособных к математике детей»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50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имулировать индивидуальные формы работы с отстающими обучающимися, привлекая к работе учителей с большим опытом работы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50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Times New Roman"/>
              </a:rPr>
              <a:t>Целью системы массового математического просвещения является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прерывная поддержка и повышение уровня математических знаний, как в профессиональной сфере, так 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удовлетворения любознательности человека и его общекультурных потребностей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318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Arial"/>
              </a:rPr>
              <a:t>Основные направления реализации Концеп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Дошкольное и начальное общее образование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дошкольном образовании – освоение воспитанниками форм деятельности, первичных математических представлений и образов, используемых в жизни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начальном общем образовании – обеспечение  математической активности  обучающихся как на уроках, так и во внеурочной деятельности (прежде всего решение логических и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арифметических задач, построение алгоритмов в визуальной и игровой среде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26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Основное общее и среднее общее образ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26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оставлять каждому обучающемуся возможность достижения уровня математических знаний, необходимого для дальнейшей успешной жизни в обществ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26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ть каждого обучающегося развивающей интеллектуальной деятельностью на доступном уровне, используя присущую математике красоту и увлекательн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26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ть необходимое стране число выпускников, математическая подготовка которых достаточна для продолжения образования в различных направлениях и для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26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сновном общем и среднем общем образовании необходимо предусмотреть подготовку обучающихся в соответствии с их запросами к уровню подготовки в сфере математического образ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26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стимулировать индивидуальный подход и индивидуальные формы работы с отстающими обучающимися, прежде всего привлекая педагогов с большим опытом работ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5280" y="90756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математического просвещения должны насыщать среду обитания, интегрироваться в массовую культуру. Поддержание математической формы, интерес к последним достижениям в математике и ее приложениях должны быть столь же естественными, как и интерес к достижениям в технологии, культуре, спор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 в общем образован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на</dc:creator>
  <dc:description/>
  <dc:language>en-US</dc:language>
  <cp:lastModifiedBy>Алена</cp:lastModifiedBy>
  <dcterms:modified xsi:type="dcterms:W3CDTF">2020-10-28T10:29:07Z</dcterms:modified>
  <cp:revision>25</cp:revision>
  <dc:subject/>
  <dc:title>КОНЦЕПЦИЯ РАЗВИТИЯ МАТЕМАТИЧЕСКОГО ОБРАЗОВАНИЯ В РОССИЙСКОЙ ФЕДЕРАЦИИ</dc:title>
</cp:coreProperties>
</file>