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9EF0-DD4A-4BA0-A885-FA3CB26F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6C6A-099E-4996-B459-F67B69DC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494C-87EA-4368-97C9-F9145A9C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80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136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424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80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136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67E4-C5BE-489C-9F46-1095C0F5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3474-C12C-4B49-AE01-FAB95C2C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6E45-6908-46D0-8686-60606673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E5B0-8A71-414E-9BBD-B8361C58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2336-A184-42DF-BEBD-470ED321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A221-1FD1-415A-A9DE-EC7099B3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474B-F3B0-47E9-9003-0490E5D7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4BF7-D2D1-439B-ACDB-ED6A13CB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A921-A69D-4B6A-BDAA-40BF2BC6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6CAC-4ECD-4CA3-B370-E6FD468F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AF2C-D438-48E0-84CE-58F9DA50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D902-09F7-440B-BC4B-D5618CCE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28AD-19A5-4679-AAF1-C8032416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80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136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424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80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136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2E0B-6652-4487-A9BE-9AE8894E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EB4-531F-4A59-9B1F-8C367BD4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DE3-C3BE-4BBC-A856-85C42A35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1713-3A1B-401F-9211-76AEB565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1683-1094-47B0-B673-73588B42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9F07-3DCF-4A7C-9AB7-DAEB2CC2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8B68-74E8-47F1-B294-17F9CF4E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C1A-05DB-459E-914B-28B7C1F2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77D0-BA8D-47CE-8B9A-80E5F3A47A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214800" y="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Calibri"/>
              </a:rPr>
              <a:t>Матем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DF5C-CFB3-486F-8F75-6D8DAAD87D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713880" y="1499760"/>
            <a:ext cx="76438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Математическая</a:t>
            </a:r>
            <a:r>
              <a:rPr b="1" i="1" lang="ru-RU" sz="8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i="1" lang="ru-RU" sz="6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грамотность</a:t>
            </a:r>
            <a:r>
              <a:rPr b="1" i="1" lang="ru-RU" sz="8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Задачи второго уровн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Три друга играют в игру: ведущий раздает 8 карточек, пронумерованных от 1 до 8 двум играющим. Первому – 3 карточки, второму -5 карточек. Оказалось, что сумма номеров карточек у них одинакова. Третий участник игры утверждает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три карточки с нечетными номерами у второго игрок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карточка с номером 2 у второго игрок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карточка с номером 1 не у первого игро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 ли он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Математик, свидетель дорожно-транспортного происшествия, запомнил, что номер машины виновника ДТП – четырехзначное число, которое делится на 19 и оканчивается на 19. Сколько машин должны проверить работники автоинспекции, чтобы установить виновника ДТП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1680" y="831600"/>
            <a:ext cx="79293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 третьего уровня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нк Х меняет рубли на тугрики по 3000 рублей за тугрик, и еще берет 7000 рублей за право обмена независимо от меняемой суммы. Банк У берет за тугрик 3020 рублей, а за право обмена берет 1 тугрик (тоже независимо от меняемой суммы). Турист установил, что ему все равно, в каком из банков менять деньги. Какую сумму он собирается меня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уемые образовательные технолог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 обуч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ее обуч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(контекстное) обу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е обуч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Обучение развитию критического  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Метод деба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Исследовательское обуч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14240" y="831600"/>
            <a:ext cx="7715520" cy="53118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Модель формирования и развития грамотности Дерево– функционально грамотная л..."/>
          <p:cNvPicPr/>
          <p:nvPr/>
        </p:nvPicPr>
        <p:blipFill>
          <a:blip r:embed="rId2"/>
          <a:srcRect l="7654" t="0" r="5941" b="9583"/>
          <a:stretch/>
        </p:blipFill>
        <p:spPr>
          <a:xfrm>
            <a:off x="642960" y="642960"/>
            <a:ext cx="77868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4240" y="831600"/>
            <a:ext cx="7715520" cy="53118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642960" y="857160"/>
            <a:ext cx="7500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развития математической грамотности, применимы через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практико-ориентированный подход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фференцированный подход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ющий и системно-деятельностный подходы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14240" y="831600"/>
            <a:ext cx="7715520" cy="53118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3"/>
          <p:cNvSpPr/>
          <p:nvPr/>
        </p:nvSpPr>
        <p:spPr>
          <a:xfrm>
            <a:off x="571680" y="642960"/>
            <a:ext cx="7929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, существуют проблемы, которые мешают развитию математической грамотност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Низкий уровень вычислительных навык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Отсутствие практической направленности в математике (дефицит практико-ориентированного подхода в обучении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Репродуктивный метод в преподавании (натаскивание на решение по аналогии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Неумение организовать свой домашний учебный труд, ответственность за выполнение д/з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Формальное изучение геометрии, как предмета формирующего пространственное мышлени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Не восприятие учащимися необходимости заучивания основ теоретических понятий (формул, правил, теорем и т.д.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28760" y="1214280"/>
          <a:ext cx="8358120" cy="4389480"/>
        </p:xfrm>
        <a:graphic>
          <a:graphicData uri="http://schemas.openxmlformats.org/drawingml/2006/table">
            <a:tbl>
              <a:tblPr/>
              <a:tblGrid>
                <a:gridCol w="1411200"/>
                <a:gridCol w="807840"/>
                <a:gridCol w="6139080"/>
              </a:tblGrid>
              <a:tr h="3661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класс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Учебник: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иленкин Н.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с различными единицами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о-в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ЯЙ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аких единицах лучше всего измерять массу яйц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ти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ллили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логра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4240" y="642960"/>
          <a:ext cx="7858440" cy="5429160"/>
        </p:xfrm>
        <a:graphic>
          <a:graphicData uri="http://schemas.openxmlformats.org/drawingml/2006/table">
            <a:tbl>
              <a:tblPr/>
              <a:tblGrid>
                <a:gridCol w="1325520"/>
                <a:gridCol w="760680"/>
                <a:gridCol w="5772240"/>
              </a:tblGrid>
              <a:tr h="542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с различными единицами измер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ющ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Б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я занимается футболом шесть дней в неделю. Три дня он занимается по 45 минут в день. Три дня занимается по 20 минут в день. Сколько всего времени в течение недели Женя занимается футболом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аса 20 мин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аса 55 мин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 5 мин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 15 минут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14240" y="1214280"/>
          <a:ext cx="7715520" cy="4986360"/>
        </p:xfrm>
        <a:graphic>
          <a:graphicData uri="http://schemas.openxmlformats.org/drawingml/2006/table">
            <a:tbl>
              <a:tblPr/>
              <a:tblGrid>
                <a:gridCol w="1301760"/>
                <a:gridCol w="746280"/>
                <a:gridCol w="5667480"/>
              </a:tblGrid>
              <a:tr h="4986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ранст-венные фигу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ющ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ЛИНД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ая из этих фигур является цилиндром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и 2       2) 1 и 3      3) 2 и 4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3 и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3357720" y="2643120"/>
            <a:ext cx="3786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4240" y="831600"/>
            <a:ext cx="7715520" cy="53118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642960" y="642960"/>
            <a:ext cx="7715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ческая грамотность 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это способность человека определять и понимать роль математики в мире, в котором он живёт, высказывать хорошо обоснованные математические суждения и использовать математику так, чтобы удовлетворять в настоящем и будущем потребности, присущие созидательному, заинтересованному и мыслящему граждан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71680" y="785880"/>
          <a:ext cx="8358120" cy="5337000"/>
        </p:xfrm>
        <a:graphic>
          <a:graphicData uri="http://schemas.openxmlformats.org/drawingml/2006/table">
            <a:tbl>
              <a:tblPr/>
              <a:tblGrid>
                <a:gridCol w="1109520"/>
                <a:gridCol w="1109520"/>
                <a:gridCol w="6139080"/>
              </a:tblGrid>
              <a:tr h="5337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с различными единицами измер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АМИ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бы двигать огромные камни для пирамид, древние египтяне подкладывали под них бревна. Допустим, одно такое бревно имеет длину окружности . Насколько сместится камень на таких бревнах, если учесть, что бревна сделают точно один оборот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50см        б)100см           в)200см 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это зависит от количества брёв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4240" y="831600"/>
            <a:ext cx="7715520" cy="5311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«Жить — вот ремесло, которому я хочу учить его (воспитанника)…и, как бы судьб..."/>
          <p:cNvPicPr/>
          <p:nvPr/>
        </p:nvPicPr>
        <p:blipFill>
          <a:blip r:embed="rId2"/>
          <a:stretch/>
        </p:blipFill>
        <p:spPr>
          <a:xfrm>
            <a:off x="571680" y="642960"/>
            <a:ext cx="8001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Теоретическое обоснование: Математическая грамотность «состоит» из двух основ..."/>
          <p:cNvPicPr/>
          <p:nvPr/>
        </p:nvPicPr>
        <p:blipFill>
          <a:blip r:embed="rId1"/>
          <a:srcRect l="5469" t="16669" r="7654" b="27087"/>
          <a:stretch/>
        </p:blipFill>
        <p:spPr>
          <a:xfrm>
            <a:off x="571680" y="50004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распознать пробл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математические средства ее реш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оценить полученный результат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ъявить его в подходящей форм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заданную практическую ситуац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лечь из текста задачи нужную информац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ь предложенный алгорит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857160" y="928800"/>
            <a:ext cx="621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Математическая грамотность включает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Умения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Учени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жен осуществлять математические рассужде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ть математические понят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дуры, факты и инструмент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описать, объяснить и предсказать явле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казывать хорошо обоснованные суждения и принимать реш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4240" y="831600"/>
            <a:ext cx="7715520" cy="53118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928800" y="881280"/>
            <a:ext cx="7358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годы участия в программе PISA за период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с 2003 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Calibri"/>
              </a:rPr>
              <a:t>по 2018 год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людается повышение результатов российских учащихся по математической грамотности на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26 б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2021 году основное направление исследования PISA - математическая грамот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400" y="831600"/>
            <a:ext cx="83581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 уровня математической компетентност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вый уровень включает воспроизведение математических фактов, методов и выполнение вычислен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установление связей и интеграцию материала из разных математических тем, необходимого для решения поставленной проблем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Третий – математические размышления, требующие обобщения и интуи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ы задач первого уровня: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магазине детских игрушек продают двухколесные и трехколесные велосипеды, причем тех и других поровну. Сколько колес может быть у всех велосипедов вместе? А) 16; В) 24; С) 25; D) 28; Е) 33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Сколько процентов сэкономит покупатель, если во время распродажи зимнюю куртку можно купить за 3 тыс. рублей, а в сезон эта же куртка стоила 7,5 тыс. рублей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60%; В) 150%; С) 90%; D) 87,5%; Е) 78,5%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Трое друзей собрались в поход. Сложились и купили палатку. Первый заплатил 60% от общей суммы, второй 40% оставшейся суммы, а третий последние 30 долларов. Сколько стоит палатка? Сколько заплатил каждый из друзей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120долл.; В) 150долл.; С) 90долл; D) 125долл; Е) 100 дол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8:45:39Z</dcterms:created>
  <dc:creator>Администратор</dc:creator>
  <dc:description/>
  <dc:language>en-US</dc:language>
  <cp:lastModifiedBy>компьютер</cp:lastModifiedBy>
  <dcterms:modified xsi:type="dcterms:W3CDTF">2020-10-27T19:18:26Z</dcterms:modified>
  <cp:revision>148</cp:revision>
  <dc:subject/>
  <dc:title>Вычислить</dc:title>
</cp:coreProperties>
</file>