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F387-FE67-488B-B61C-BDAF930C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DFDD-5B11-4DAF-901D-ABAA4C00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9A0E-5BCA-4613-92A4-B463A6BA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DABD-56C9-4E10-A610-4DC6986F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9757-E8D0-43EE-B225-F07D6D7E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C362-3382-4317-8A9B-125B3944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C404-C63D-4A23-AF32-8CD7B8C5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D910-E425-44F2-83EA-B78A7CDE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A980-90BF-4F6C-B46B-A707C181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6114-E508-406C-9DD4-5A8D7D23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A846-5EDC-4533-AFA3-EF0B5EAD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EDE9-DEAE-420C-874B-8A7A1E25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6ab94"/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D120-81B7-44DE-A096-A9FE44CEC1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"/>
          <p:cNvSpPr/>
          <p:nvPr/>
        </p:nvSpPr>
        <p:spPr>
          <a:xfrm>
            <a:off x="2406600" y="476280"/>
            <a:ext cx="62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МО учителей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108000" y="2349360"/>
            <a:ext cx="885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Профессиональная компетентность учителей математи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091760" y="119700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.10.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44280"/>
          <a:ext cx="9144000" cy="6697800"/>
        </p:xfrm>
        <a:graphic>
          <a:graphicData uri="http://schemas.openxmlformats.org/drawingml/2006/table">
            <a:tbl>
              <a:tblPr/>
              <a:tblGrid>
                <a:gridCol w="399960"/>
                <a:gridCol w="3433680"/>
                <a:gridCol w="5310360"/>
              </a:tblGrid>
              <a:tr h="560520">
                <a:tc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 выступл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О выступающ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46800" rIns="46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чественный анализ мониторинга профессиональных компетенций педагогов. КИМы для диагностики компетенций педагогов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щеретных Татьяна Владимировн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(Черновская СОШ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46800" rIns="46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из результатов  ОГЭ - 2021 муниципальных общеобразовательных учреждений Ирбитского МО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усовитина Нина Германовн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(Ницинская ООШ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46800" rIns="46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из результатов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ГЭ - 2021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муниципальных общеобразовательных учреждений Ирбитского МО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валухина Ирина Александровна (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ионерская СОШ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46800" rIns="46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из результатов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ПР - 2021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муниципальных общеобразовательных учреждений Ирбитского МО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авелина Марина Сергеевна (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йковская СОШ №1) (5 кл.)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росов Константин Александрович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(Гаевская ООШ)(6 кл.)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новских Ольга Владимировн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(Харловская СОШ)(7 кл.)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риллова Елена Анатольевн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(Килачевская СОШ) (8 кл.)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0320">
                <a:tc>
                  <a:txBody>
                    <a:bodyPr lIns="46800" rIns="46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из участия школ в проекте «500+». План мероприятий, направленных на повышение качества образования в рамках проекта «500+»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ыкова Екатерина Александровн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(Черновская СОШ)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умкова Алина Валерьевн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(Стриганская СОШ)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рокина Анна Васильевн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(Осинцевская ООШ)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дин Юрий Сергеевич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(Знаменская СОШ)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qFuKmNzstqxQQm1XT0mHfBDGgtQdUHK.mp4" descr=""/>
          <p:cNvPicPr/>
          <p:nvPr/>
        </p:nvPicPr>
        <p:blipFill>
          <a:blip r:embed="rId1"/>
          <a:stretch/>
        </p:blipFill>
        <p:spPr>
          <a:xfrm>
            <a:off x="0" y="797040"/>
            <a:ext cx="91440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13:21:34Z</dcterms:created>
  <dc:creator>Admin</dc:creator>
  <dc:description/>
  <dc:language>en-US</dc:language>
  <cp:lastModifiedBy>Любовь</cp:lastModifiedBy>
  <dcterms:modified xsi:type="dcterms:W3CDTF">2021-10-27T17:35:33Z</dcterms:modified>
  <cp:revision>993</cp:revision>
  <dc:subject/>
  <dc:title>Слайд 1</dc:title>
</cp:coreProperties>
</file>