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D40-CC47-4F87-B5F7-C247AC65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BA0-AE41-45ED-9D90-D443E600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DED-7C18-43B2-B1B4-5A0CE1D0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209-DE1C-4B95-BA27-99D1AED6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54A-C07B-4034-8488-5568BA7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4AB-14CE-48F9-AB7F-0FA3B266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B03-D693-4F3A-9AF8-A7C26D56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ED4-1FAA-4AAB-9F3B-A36BC6CB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A32-5E92-4592-8DF5-029DE7CF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461-9863-427F-8A49-F0FBBF3A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224-9552-4AB9-85F6-256A173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7A6-BBC3-42FC-9359-96A90D9C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05CF-730B-4AAD-B552-BE6099745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91440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«ШНОР 500+»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4643280"/>
            <a:ext cx="6400800" cy="17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У «Знаменская СО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дин Юрий Серг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840" y="214200"/>
            <a:ext cx="853452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исковый профиль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rcRect l="22217" t="14736" r="26525" b="22698"/>
          <a:stretch/>
        </p:blipFill>
        <p:spPr>
          <a:xfrm>
            <a:off x="468360" y="928800"/>
            <a:ext cx="77756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14720"/>
                <a:gridCol w="6929280"/>
              </a:tblGrid>
              <a:tr h="33804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оры рис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ткое описание м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0060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Недостаточная предметная и методическая компетентность педагогических работ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педагогических компетенций учителей. Анкетирование учителей. Участие в системе обмена опытом. Посещение уроков. Анализ проблем на ШМО. Использование современных педагогических технологий. Педсоветы по теме: «Современный урок - как основа эффективного и качественного образования», «Мотивация учебной деятельности учащихся и обеспечение её реализации». Семинары – практикумы, прохождение курсов повышения квалификации по вопросам формирующего и критериального  оценива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5001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Высокая доля обучающихся с 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ситуации успеха. Организация психолого-педагогического сопровождения учащихся. Индивидуальная образовательная программа. Консультирование учащихся и их родителей специалистами (педагог-психолог, логопед, дефектолог, социальный педагог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0192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 Высокая доля обучающихся с рисками учебной неуспеш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мотивации обучающихся учителями (анкетирование детей). Учет индивидуальных возможностей в учебном процессе обучающихся. Составление ИП со слабоуспевающими детьми. Дополнительные занятия с целью ликвидации отставания от учебной программы. Вовлечение обучающихся с рисками учебной неуспешности во внеурочную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по рис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оены ИОМ для педагог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о и проанализировано анкетирование для детей по мотив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 вовлечены во внеурочную деятельность и круж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ы ИОМ для детей с низкой учебной мотиваци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по рис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ы педсове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и прошли курсы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 детей и родителей со специалистами (педагог-психолог, логопед, дефектолог, социальный педаго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643040"/>
            <a:ext cx="91440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6T18:30:36Z</dcterms:created>
  <dc:creator>днс</dc:creator>
  <dc:description/>
  <dc:language>en-US</dc:language>
  <cp:lastModifiedBy>bomder@dnevnik.ru</cp:lastModifiedBy>
  <dcterms:modified xsi:type="dcterms:W3CDTF">2021-10-28T07:04:43Z</dcterms:modified>
  <cp:revision>19</cp:revision>
  <dc:subject/>
  <dc:title>Слайд 1</dc:title>
</cp:coreProperties>
</file>