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910-09EB-4697-A3C4-D1BBDC08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FEB-BC5E-475D-BD9A-8BA22B17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D95-D2C8-4483-AE8A-EE078DA3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671-7F73-4FF4-8BD2-489A9B5D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314E-9BAE-4E1D-8B6C-70F8B280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FE6F-F6B1-44FD-B666-502E9C47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61D2-6931-4E23-BF9A-FDB248C8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FB92-EF7A-4A28-89E6-E5929192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CF4B-E47D-4460-BA8F-F5AEF302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E30A-3183-44D9-9994-09EE75F2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9283-4917-40D5-93E8-3A1390DD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D8D-B035-462C-B217-8E10AF66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5AFC-DDBB-4709-92BF-95055D50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0580-351A-4E22-AB94-4CD568C3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E840-E60E-478D-A25C-B4FA5DA9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E39C-4C1D-4882-9594-FECD33EC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87DD-A06F-4E1C-ACFF-09CAB4CF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DC9-085E-408A-B5B3-25BD1764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135-61E4-4B60-AEE0-AAF55B9B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777-8BA1-4B93-91DE-8D7DDE6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081-9CC8-4697-9BC1-D56E4B46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431-AB86-4BDF-BAC0-2425F107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BE8-D64E-49C8-8393-9D110416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F31-1837-4A70-A381-F2474020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B1F1-6666-4A63-938E-265E481F837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0D3D-9929-4F42-82D3-1E741BF9AFC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Анализ участия школы в проекте «500+». Роль учителя-предметника: что изменилось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1640" y="4952520"/>
            <a:ext cx="3529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сина Татьяна Ивановна, учитель физики, информатики, математики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476360" y="40464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ирги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484440" y="624996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октября 2021 г.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www.astrobl.ru/sites/default/files/styles/news_full/public/images/teasers/79e068f3-80c3-4946-a6ed-8d2bcc24af13.jpg?itok=b3_Kgj5w"/>
          <p:cNvPicPr/>
          <p:nvPr/>
        </p:nvPicPr>
        <p:blipFill>
          <a:blip r:embed="rId3"/>
          <a:stretch/>
        </p:blipFill>
        <p:spPr>
          <a:xfrm>
            <a:off x="255600" y="26028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Факторы риск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749600"/>
          <a:ext cx="8713800" cy="3983040"/>
        </p:xfrm>
        <a:graphic>
          <a:graphicData uri="http://schemas.openxmlformats.org/drawingml/2006/table">
            <a:tbl>
              <a:tblPr/>
              <a:tblGrid>
                <a:gridCol w="716040"/>
                <a:gridCol w="7997760"/>
              </a:tblGrid>
              <a:tr h="90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 рис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оснащённости школ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 педагогических кадр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доля обучающихся с ОВ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 учебная мотивация обучающихс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646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доля обучающихся с рисками учебной неуспеш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 вовлечённости роди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Цели и задачи развития образовательной организации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920" y="549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фицит педагогических кадров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нить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2021 – 2022 учебному году   кадровый дефицит в МОУ «Киргинская СОШ» за счет прохождения профессиональной переподготовки по направлению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я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дефицита педагогических кадров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окая доля обучающихся с ОВЗ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в школе условия для обеспечения  психической коррекции недостатков в развитии детей с ОВЗ, оказание помощи детям этой категории в освоении образовательной программы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 и неуверенности педагогов ОУ при работе с обучающимися с ОВЗ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курсовой подготовки по теме «Организация работы с детьми с ОВЗ»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зкая учебная мотивация обучающихся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учебную мотивацию обучающихся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зработка и корректировка программ курсов внеурочной деятельности для обучающихся в соответствии с выявленными предпочтениями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ведение анкетирования обучающихся и их родителей (законных представителей) с целью выявления предпочтений в части курсов внеурочной деятельности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сокая доля обучающихся с рисками учебной неуспешности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изить долю обучающихся с рисками учебной неуспешности;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 текущей и итоговой успеваемости обучающихся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зкий уровень вовлеченности родителей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уровень вовлеченности родителей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: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ктивизация работы родительского комитета.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ведение совместных детско-родительских мероприятий. 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68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5897"/>
                </a:solidFill>
                <a:uFillTx/>
                <a:latin typeface="Times New Roman"/>
                <a:ea typeface="Times New Roman"/>
              </a:rPr>
              <a:t>«</a:t>
            </a:r>
            <a:r>
              <a:rPr b="1" lang="ru-RU" sz="2400" spc="-1" strike="noStrike" u="sng">
                <a:solidFill>
                  <a:srgbClr val="2f5897"/>
                </a:solidFill>
                <a:uFillTx/>
                <a:latin typeface="Times New Roman"/>
                <a:ea typeface="Times New Roman"/>
              </a:rPr>
              <a:t>Высокая доля обучающихся с ОВЗ»</a:t>
            </a:r>
            <a:r>
              <a:rPr b="1" lang="ru-RU" sz="2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5200" y="62064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педагогических работников с целью определения профессиональных дефицитов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ы повышения квалификации «Образовательная деятельность с обучающимися с ограниченными возможностями здоровья в школах с низкими результатами обучения и школах, функционирующих в неблагоприятных социальных условиях».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по самообразованию по направлению «Организация работы с обучающимися ЗПР»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2"/>
          <a:srcRect l="26749" t="28373" r="21053" b="15916"/>
          <a:stretch/>
        </p:blipFill>
        <p:spPr>
          <a:xfrm>
            <a:off x="539640" y="2565360"/>
            <a:ext cx="8136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f5897"/>
                </a:solidFill>
                <a:uFillTx/>
                <a:latin typeface="Times New Roman"/>
                <a:ea typeface="Times New Roman"/>
              </a:rPr>
              <a:t>«Низкая учебная мотивация обучающихся»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альтернативных форм оценивания, развивающей обратной связ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в практику преподавания проектной, исследовательской, творческой деятель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f5897"/>
                </a:solidFill>
                <a:uFillTx/>
                <a:latin typeface="Times New Roman"/>
                <a:ea typeface="Times New Roman"/>
              </a:rPr>
              <a:t>«Высокая доля обучающихся с рисками учебной неуспешности»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методическом объединении по теме «Технология тьюторства как инструмент поддержки обучающихся с трудностями в обучен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ы повышения квалификаци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ый урок физики в соответствии с требованиями ФГОС ООО и СОО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ременный урок математики в соответствии с ФГОС ООО И СОО)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держание и методика подготовки школьников к государственной итоговой аттестации в форме ОГЭ, ЕГЭ по физике в соответствии с ФГОС ОО (32 час.)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Технологии:</a:t>
            </a:r>
            <a:endParaRPr b="0" lang="en-US" sz="2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692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грированный урок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КТ (использование презентаций, онлайн тесты, виртуальных лабораторных работ и т. д.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ектная деятельнос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на уроках QR код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латформа «Якласс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ьюторское сопровожден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1452600" cy="1452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rcRect l="0" t="4291" r="0" b="0"/>
          <a:stretch/>
        </p:blipFill>
        <p:spPr>
          <a:xfrm>
            <a:off x="210960" y="4110120"/>
            <a:ext cx="4351680" cy="2343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rcRect l="0" t="4286" r="0" b="0"/>
          <a:stretch/>
        </p:blipFill>
        <p:spPr>
          <a:xfrm>
            <a:off x="4676760" y="3749760"/>
            <a:ext cx="4357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85690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Анализ участия школы в проекте «500+». Роль учителя-предметника: что изменилось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1640" y="4952520"/>
            <a:ext cx="3529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сина Татьяна Ивановна, учитель физики, информатики, математики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476360" y="40464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иргин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3484440" y="6249960"/>
            <a:ext cx="157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октября 2021 г.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7T10:24:48Z</dcterms:created>
  <dc:creator>Пользователь</dc:creator>
  <dc:description/>
  <dc:language>en-US</dc:language>
  <cp:lastModifiedBy>Татьяна</cp:lastModifiedBy>
  <dcterms:modified xsi:type="dcterms:W3CDTF">2021-10-27T13:06:13Z</dcterms:modified>
  <cp:revision>3</cp:revision>
  <dc:subject/>
  <dc:title>Анализ участия школы в проекте «500+». Роль учителя-предметника: что изменилось?</dc:title>
</cp:coreProperties>
</file>