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8BBD-ABBA-4D85-B53A-84EF5C36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427F-4EA6-4874-9620-69764822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22AF-7A0C-41FD-9DAC-FC9862CB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A128-C9BD-4F0A-8550-5568D723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DFE0-331A-4F5A-9AED-DDC2CE49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56B9-E728-49BD-BA0C-B2E67B90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2C1E-BA00-47E6-A5E2-51BF1B33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F035-6860-43B2-8563-021E8386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38F1-AD83-4BD3-848B-ADB53F51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67F1-EE69-498A-8624-5EC7A5A3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2068-7AEB-49F3-AADB-93D4E065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E286-72A0-424E-8FBD-F08E88D2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75A0-E506-4AA3-A64B-15CE78BFC4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1" descr="Описание: C:\Users\1\AppData\Local\Microsoft\Windows\Temporary Internet Files\Content.Word\logo.png"/>
          <p:cNvPicPr/>
          <p:nvPr/>
        </p:nvPicPr>
        <p:blipFill>
          <a:blip r:embed="rId1"/>
          <a:srcRect l="0" t="10341" r="0" b="19380"/>
          <a:stretch/>
        </p:blipFill>
        <p:spPr>
          <a:xfrm>
            <a:off x="3132000" y="765000"/>
            <a:ext cx="2692440" cy="1860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правление образования Ирбитского муниципального образовани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униципальное казенное учреждение «Центр развития образования»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1285920" y="2786040"/>
            <a:ext cx="678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йонное методическое объедин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чителей геогра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7.10.20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rcRect l="35687" t="19532" r="15995" b="30664"/>
          <a:stretch/>
        </p:blipFill>
        <p:spPr>
          <a:xfrm>
            <a:off x="0" y="500040"/>
            <a:ext cx="8875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rcRect l="36238" t="69341" r="15447" b="4296"/>
          <a:stretch/>
        </p:blipFill>
        <p:spPr>
          <a:xfrm>
            <a:off x="357120" y="1428840"/>
            <a:ext cx="86155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rcRect l="35139" t="39065" r="15447" b="21875"/>
          <a:stretch/>
        </p:blipFill>
        <p:spPr>
          <a:xfrm>
            <a:off x="0" y="285840"/>
            <a:ext cx="8680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сихолого – педагогическая компетентност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42960" y="92880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Различают виды универсальных учебных действия (несколько ответо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Коммуникативные 2. Системные 3. Познавательные 4. Регулятивные 5. Учебные 6. Личност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ознавательные УУД это – 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Совокупность способов действий учащегося, обеспечивающих самостоятельное усвоение новых знаний, формирование умений, включая организацию этого процес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Действия, обеспечивающие ценностно-смысловую ориентацию обучающихся (знание моральных норм, умение соотносить поступки и события с принятыми этическими принципам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Действия по постановке, формулированию и решению учебных проблем; анализу, синтезу и моделированию в ходе решения учебных зада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Действия, обеспечивающие организацию учебной деятельности обучаю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42560" y="214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 чего начинается урок согласно теории учебной  деятельност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мотив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постановка проблемной ситу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постановка учебной задач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4. На этапе урока «Мотивация к учебной деятельности» формируются УУД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коммуникатив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познаватель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личност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регулятив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5. Организация учебного процесса, при которой выбор способов, приемов, темпов обучения учитывает индивидуальные различия учащихся, уровень развития их способностей к учению, э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индивидуал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интегр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дифференци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информат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-360" y="214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омплекс основных характеристик образования (объем, содержание, планируемые результаты), организационно-педагогических условий, который представлен в виде учебного плана, календарного учебного графика, рабочих программ учебных предметов, курсов, дисциплин (модулей), иных компонентов, а также оценочных и методических материалов, - это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рабочая програм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учебный пл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образовательная програм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примерная основная образовательная програм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Единый целенаправленный процесс воспитания и обучения, являющийся общественно значимым благом и осуществляемый в интересах человека, семьи, общества и государства, а также совокупность приобретаемых знаний, умений, навыков, ценностных установок, опыта деятельности и компетенции определенных объема и сложности в целях интеллектуального, духовно-нравственного, творческого, физического и (или) профессионального развития человека, удовлетворения его образовательных потребностей и интересов, э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образование 2. обучение 3. развитие 4. воспит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2876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должаем работать с рабочей  программой педагога: раздел  «Источники географической информации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териалы разработаны в Институте стратегии развития образования по заказу Министерства просвещения Российской Федер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а: Как использовать различные источники информации на уроках географии (ОО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785880" y="5643720"/>
            <a:ext cx="67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edsoo.ru/Metodicheskie_videouroki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фессиональная компетентность педагогов 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 качества образовани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360" y="115560"/>
            <a:ext cx="82296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22"/>
                </a:solidFill>
                <a:latin typeface="Times New Roman"/>
              </a:rPr>
              <a:t>Компетенция</a:t>
            </a:r>
            <a:r>
              <a:rPr b="0" lang="ru-RU" sz="3200" spc="-1" strike="noStrike">
                <a:solidFill>
                  <a:srgbClr val="222222"/>
                </a:solidFill>
                <a:latin typeface="Times New Roman"/>
              </a:rPr>
              <a:t> – это  норма (требования) к образовательной подготовке педагога, позволяющая осуществлять успешную деятельность в определенной сфере. Компетентность педагога состоит из трех составляющих: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ptk-zht.minsk.edu.by/ru/sm_full.aspx?guid=7103"/>
          <p:cNvPicPr/>
          <p:nvPr/>
        </p:nvPicPr>
        <p:blipFill>
          <a:blip r:embed="rId1"/>
          <a:stretch/>
        </p:blipFill>
        <p:spPr>
          <a:xfrm>
            <a:off x="3203640" y="3141720"/>
            <a:ext cx="57942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ниторинг профессиональных дефицит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дагогических работников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rcRect l="5489" t="8789" r="7210" b="9178"/>
          <a:stretch/>
        </p:blipFill>
        <p:spPr>
          <a:xfrm>
            <a:off x="214200" y="1500120"/>
            <a:ext cx="892980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правления деятельности Центра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2560" y="11430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ализация программ дополнительного профессионального образования «эксклюзивного» содерж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, сопровождение и развитие программ стажирово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ние и сопровождение деятельности площадок для развития профессиональных педагогических сообщест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недрение моделей «горизонтального обучения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ивное использование цифровых технологий при реализации образовательных проек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екты Центр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фессиональные сооб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гиональный навигатор лучших педагогических практ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одическая программа «Smart педагог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ическое наставниче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дивидуальные образовательные маршру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7120" y="628668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 географии заявки до 1.11.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8237" t="7815" r="6660" b="6250"/>
          <a:stretch/>
        </p:blipFill>
        <p:spPr>
          <a:xfrm>
            <a:off x="209520" y="500040"/>
            <a:ext cx="89344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ниторинг профессиональных дефицит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дагогических работников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35687" t="48829" r="15447" b="27736"/>
          <a:stretch/>
        </p:blipFill>
        <p:spPr>
          <a:xfrm>
            <a:off x="357120" y="1571760"/>
            <a:ext cx="8212320" cy="2214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rcRect l="35726" t="29493" r="14861" b="49026"/>
          <a:stretch/>
        </p:blipFill>
        <p:spPr>
          <a:xfrm>
            <a:off x="428760" y="3857760"/>
            <a:ext cx="81835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метно – методическая  компетент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rcRect l="36238" t="19532" r="15995" b="63868"/>
          <a:stretch/>
        </p:blipFill>
        <p:spPr>
          <a:xfrm>
            <a:off x="0" y="857160"/>
            <a:ext cx="9001080" cy="1758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rcRect l="36276" t="56841" r="14861" b="5079"/>
          <a:stretch/>
        </p:blipFill>
        <p:spPr>
          <a:xfrm>
            <a:off x="14400" y="2500200"/>
            <a:ext cx="91296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06T15:02:56Z</dcterms:created>
  <dc:creator>HP</dc:creator>
  <dc:description/>
  <dc:language>en-US</dc:language>
  <cp:lastModifiedBy>HP</cp:lastModifiedBy>
  <dcterms:modified xsi:type="dcterms:W3CDTF">2021-10-27T13:52:50Z</dcterms:modified>
  <cp:revision>37</cp:revision>
  <dc:subject/>
  <dc:title>Управление образования Ирбитского муниципального образования Муниципальное казенное учреждение «Центр развития образования»</dc:title>
</cp:coreProperties>
</file>