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424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  <a:ea typeface="Arial Unicode MS"/>
              </a:rPr>
              <a:t>Анализ результатов диагностической работы учителями начальных классов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580000" y="4113000"/>
            <a:ext cx="348480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Гашкова П.М.,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учитель начальных классов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МОУ «Пионерская СОШ»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00000" y="1341000"/>
            <a:ext cx="7920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libri"/>
              </a:rPr>
              <a:t>«Решающее значение приобретает профессиональный рост учителя».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libri"/>
              </a:rPr>
              <a:t>В.В. Путин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79" name="Picture 5" descr="7 шагов вверх по карьерной лестнице"/>
          <p:cNvPicPr/>
          <p:nvPr/>
        </p:nvPicPr>
        <p:blipFill>
          <a:blip r:embed="rId1"/>
          <a:stretch/>
        </p:blipFill>
        <p:spPr>
          <a:xfrm>
            <a:off x="1042920" y="3790800"/>
            <a:ext cx="3237120" cy="2421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Презентация к педсовету&amp;quot;Ступени профессионального роста педагога&amp;quot;"/>
          <p:cNvPicPr/>
          <p:nvPr/>
        </p:nvPicPr>
        <p:blipFill>
          <a:blip r:embed="rId2"/>
          <a:stretch/>
        </p:blipFill>
        <p:spPr>
          <a:xfrm>
            <a:off x="5291280" y="4767120"/>
            <a:ext cx="3011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rcRect l="33191" t="24605" r="16815" b="20378"/>
          <a:stretch/>
        </p:blipFill>
        <p:spPr>
          <a:xfrm>
            <a:off x="287280" y="657360"/>
            <a:ext cx="86662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28423" t="21435" r="13953" b="9400"/>
          <a:stretch/>
        </p:blipFill>
        <p:spPr>
          <a:xfrm>
            <a:off x="185760" y="476280"/>
            <a:ext cx="8745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15 заданий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6920" y="1844640"/>
            <a:ext cx="32050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11</a:t>
            </a: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 – на выявление уровня предметной компетентности учителей начальных классов;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" name="Текст 2"/>
          <p:cNvSpPr/>
          <p:nvPr/>
        </p:nvSpPr>
        <p:spPr>
          <a:xfrm>
            <a:off x="5651640" y="1881360"/>
            <a:ext cx="3205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3</a:t>
            </a: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 – на уровень методической компетент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Текст 2"/>
          <p:cNvSpPr/>
          <p:nvPr/>
        </p:nvSpPr>
        <p:spPr>
          <a:xfrm>
            <a:off x="3166920" y="3824280"/>
            <a:ext cx="32054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1</a:t>
            </a: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 – на выявление компетент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по оцениванию работ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6"/>
          <p:cNvCxnSpPr/>
          <p:nvPr/>
        </p:nvCxnSpPr>
        <p:spPr>
          <a:xfrm flipH="1">
            <a:off x="2050560" y="1052640"/>
            <a:ext cx="1405440" cy="82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8"/>
          <p:cNvCxnSpPr/>
          <p:nvPr/>
        </p:nvCxnSpPr>
        <p:spPr>
          <a:xfrm>
            <a:off x="5886000" y="1052640"/>
            <a:ext cx="1423080" cy="82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10"/>
          <p:cNvCxnSpPr/>
          <p:nvPr/>
        </p:nvCxnSpPr>
        <p:spPr>
          <a:xfrm>
            <a:off x="4716000" y="1052280"/>
            <a:ext cx="1080" cy="27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ssandra"/>
              </a:rPr>
              <a:t>Уровни сложности заданий</a:t>
            </a:r>
            <a:endParaRPr b="0" lang="en-US" sz="48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6920" y="1844640"/>
            <a:ext cx="32050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задания базового уровня сложности;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" name="Текст 2"/>
          <p:cNvSpPr/>
          <p:nvPr/>
        </p:nvSpPr>
        <p:spPr>
          <a:xfrm>
            <a:off x="5651640" y="1881360"/>
            <a:ext cx="3205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задания повышенного уровня слож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Текст 2"/>
          <p:cNvSpPr/>
          <p:nvPr/>
        </p:nvSpPr>
        <p:spPr>
          <a:xfrm>
            <a:off x="3166920" y="3824280"/>
            <a:ext cx="32054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задания высок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6"/>
          <p:cNvCxnSpPr/>
          <p:nvPr/>
        </p:nvCxnSpPr>
        <p:spPr>
          <a:xfrm flipH="1">
            <a:off x="2050560" y="1052640"/>
            <a:ext cx="1405440" cy="82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Прямая со стрелкой 8"/>
          <p:cNvCxnSpPr/>
          <p:nvPr/>
        </p:nvCxnSpPr>
        <p:spPr>
          <a:xfrm>
            <a:off x="5886000" y="1052640"/>
            <a:ext cx="1423080" cy="82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Прямая со стрелкой 10"/>
          <p:cNvCxnSpPr/>
          <p:nvPr/>
        </p:nvCxnSpPr>
        <p:spPr>
          <a:xfrm>
            <a:off x="4716000" y="1052280"/>
            <a:ext cx="1080" cy="27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ssandra"/>
              </a:rPr>
              <a:t>Методические задания</a:t>
            </a:r>
            <a:endParaRPr b="0" lang="en-US" sz="5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640" y="1591920"/>
            <a:ext cx="7920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1 методическое задание 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было ориентировано на оценку знания учителем основ методики преподавания основных предметов начального образования (математики, русского языка и литературы, окружающего мира) как учебного предмета и методов и приемов организации образовательного процесса в начальной школе.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2 методическое задание 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позволило оценить умения построения образовательного процесса в начальной школе с учетом требований ФГОС НОО.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3 методическое задание 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ориентировано на оценку знания учителем основных требований ФГОС НОО к оцениванию личностных, метапредметных и предметных результатов обучающихся.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я на выявление предметной компетентности</a:t>
            </a:r>
            <a:endParaRPr b="0" lang="en-US" sz="4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591920"/>
            <a:ext cx="8136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499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представление о фонетической системе русского языка, о связях звуков и букв;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marL="337680" indent="-337680" algn="just">
              <a:spcBef>
                <a:spcPts val="499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умение объяснять основы математического моделирования практической ситуации при работе с числовым выражением;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marL="337680" indent="-337680" algn="just">
              <a:spcBef>
                <a:spcPts val="499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умение выделять дидактические основы реализации основ фонетики, графики, орфоэпии и морфемики;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marL="337680" indent="-337680" algn="just">
              <a:spcBef>
                <a:spcPts val="499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умение переводить текстовую информацию в схему и наоборот;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marL="337680" indent="-337680" algn="just">
              <a:spcBef>
                <a:spcPts val="499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работа с информацией по предмету, моделирование научных терминов и понятий;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marL="337680" indent="-337680" algn="just">
              <a:spcBef>
                <a:spcPts val="499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умение формировать метапредметные компетенции (универсальные учебные действия и межпредметные понятия); 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marL="337680" indent="-337680" algn="just">
              <a:spcBef>
                <a:spcPts val="499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умение формировать метапредметные компетенции на основе работы с текстом.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marL="3376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441360"/>
            <a:ext cx="84232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ssandra"/>
              </a:rPr>
              <a:t>Задания на выявление компетентност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ssandra"/>
              </a:rPr>
              <a:t>по оцениванию работ обучающихся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1360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Уровень компетенции по оцениванию работ обучающихся рассматривался с точки зрени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мения осуществлять объективную оценку образовательных результатов обучающихся с учетом требований нормативно-методических документов и способы оценки результатов обучения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Polina</cp:lastModifiedBy>
  <dcterms:modified xsi:type="dcterms:W3CDTF">2021-09-14T09:25:19Z</dcterms:modified>
  <cp:revision>24</cp:revision>
  <dc:subject/>
  <dc:title>Слайд 1</dc:title>
</cp:coreProperties>
</file>