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543-58FD-4947-B63E-2E1BBB52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EBB-A1D7-4D36-ACE2-06AE783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B6C-8445-43F1-A680-0ABB69F8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964-9007-4F54-A7A0-44D13181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004-23B9-480D-B317-A970420F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E30-9FDE-4396-8EBA-3C59843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16CE-4BC5-4383-8F39-9399F7F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11B8-6C00-4157-A0E6-267AA5C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AD6E-0320-416B-B331-F90E3DA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B2A7-0B06-461F-A982-A92C453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F45-737C-4BCF-A560-045EC06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F33-5409-45F6-BD3F-1837209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C87-DF5A-4677-A5EE-B2FCF16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D4DF-810B-409F-BAB3-3E50D7A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159D-F2B8-4000-B138-9E1B19E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5542-74E3-402F-BEAC-1BB959F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C120-13F3-42C9-9807-A0B7CDFE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F51B0-401A-4A98-8987-72DDF9C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1464-0381-4E37-9757-46A61040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A55E4-4D7A-421A-B801-27A16B71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FDC6C-54D5-4045-83AA-5275CAD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3C677-0BC6-422C-BD77-DB5918D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F14-9B21-4073-BCCE-3077DBCB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09E77-1A96-47FF-9D28-3FA2F1EB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8338F-2FE2-481E-B287-1DF18D5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C63C1-021E-459F-ACE0-CF326AF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19DC8-B65C-43F0-B3D9-FCE20E4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23BB0-0B14-422B-AB00-B53DAFF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F2D65-9461-4FE4-8663-752ACA6B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87ABB-4557-45D8-A593-F5A84859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C1F6-DA30-40E5-B8CB-051ED36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D57D-78E7-4A92-A128-C46B6092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F926-5FDD-4F63-9D85-3371359D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CF9-0854-40A8-B9A9-C86C14C2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4720-10FE-4784-8140-09C1DB78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1ADA-7AEE-4B3E-BCB1-0621D82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9507-C40C-4B5A-A9A7-825B9260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4BC0-8D1A-434E-92BB-8A598AF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8F5F-649F-4365-8608-D33B174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67BC-DA2E-498A-8A04-21F7AA2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BFD9-7F2F-408F-97B1-DAED541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4FD8-CDD6-4FAF-A0C4-D819557B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C08C-B982-4445-8D33-5B217781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F9C2F-AD2B-4FA2-B0C6-A40F7CA9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B00-E4D7-4E5B-85EE-9F374771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703D2-23C9-4FFE-B368-247FFF4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9742F-683F-46B0-A58A-5E62E47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56AA6-3077-40B9-A642-954190A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1AF29-BC54-4F93-AD91-1E04BA2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82462-4146-4C9B-839E-51DD361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D5B2C-BF0B-4171-803F-5DC4711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806B0-9E9E-45A9-9353-15A15BA3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C9C1B-C972-4520-8B0B-EEE69B4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EAFA2-3EBF-434C-9E04-392D476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A0E34-A56B-45CF-9C46-3BAC4317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628-ACD1-4A65-8834-5B0EEF0A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49057-ADF1-4A63-91BD-F26C229E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82257-E5D7-48D0-A6DE-2AF8E16D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2F332-A455-4B7E-9E1F-DAB3DB9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02643-FE42-48B6-A04C-784C8B9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E34EB-EF61-4A7B-AE66-F996C57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C5E81-0643-4678-99CE-34805A38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0DFC3-9D63-436B-859A-FF59565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1C071-251C-45FE-A321-79A84B9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5175B-EF87-45BB-96D8-4E8E8BC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DB9AE-093D-4606-A0E3-324AEDD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D46-2853-4F10-AD9B-9FDC61F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02EA6-BAEE-42FB-9A32-FEDDB8D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2DCA1-623A-4BB6-BD27-264FAEFB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6EAD3-6D96-4B67-B21B-2AF40974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CF347-30AD-41FF-8F0D-F324679B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13CF5-37E3-4248-B478-EA9D741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EC95F-14B9-4F47-B3F5-ACFA7AB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501F8-FEEF-4A8C-8AF6-6658673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7293C-8667-4843-9521-174E0D33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3892C-EA05-435E-8075-039DE125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E5F46-4C24-4EED-9B9D-F241A90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277-3587-4C56-AF9D-0495CF6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A26A08-4477-4ABE-A519-78AA60A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FDE33-6006-4E70-BFDD-DDC0219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6F05E-3127-46B3-9658-6D41F9E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13DA9-8299-4BAF-B363-523FBE38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940A0-65CC-4DF6-B4B4-BA8E2B6B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F5-D9BE-4604-87F2-CADDE8B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F86-AC29-495B-8148-28A5353ABA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6E0-95BC-4D61-8B64-9CA2C35C8D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0699-702A-40D5-8EC3-5C68965743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4585-F546-4257-B6AA-7D0F311F83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5A6-B30F-48AF-AED6-DB7A45142A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4868-4526-407D-BF74-FB49CD931A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717-36EA-407A-900D-631CFF545A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НДИВИДУАЛЬНЫЙ ОБРАЗОВАТЕЛЬНЫЙ МАРШРУТ ПЕДАГОГА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Овчинникова О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Учитель биологии  МОУ «Знаменская СОШ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467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ОЖИДАЕМЫЙ РЕЗУЛЬТА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вышение качества преподава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анные и изданные методические пособия, статьи, программы, сценарии и др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новых форм, методов и приемов обуч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оклады, высту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дидактических материалов, тестов, наглядносте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и проведение открытых уроков по собственным, инновационным технология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здание комплектов педагогических разработо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оведение семинаров, конференций, мастер-классов, обобщение опыта по исследуемой проблем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Century Schoolbook"/>
              </a:rPr>
              <a:t>ПРОБЛЕМЫ ПЕДАГОГОВ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т глубинного понимания педагогами положений, заложенных в Федеральных государственных стандартах второго поко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 не готовы к изменениям, проявляют «протест» или занимают пассивную позиц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 испытывают трудности в проектировании образовательного процесса, при составлении индивидуального образовательного маршру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ощенное понимание сущности и технологии реализации интегрированного подхода к построению воспитательно-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812000" y="189000"/>
            <a:ext cx="928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50920" y="98100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ое сопровождение повышения профессиональной компетентности педагога ОУ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ся нами как специально организованное, систематическое взаимодействие администрации школы и педагогов, направленное на оказание помощи педагогу в выборе путей решения задач и типичных проблем, возникающих в ситуации профессионального совершенствования, с учетом имеющегося у него уровня профессиональной компетент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Объект 3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9036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Объект 3" descr=""/>
          <p:cNvPicPr/>
          <p:nvPr/>
        </p:nvPicPr>
        <p:blipFill>
          <a:blip r:embed="rId1"/>
          <a:stretch/>
        </p:blipFill>
        <p:spPr>
          <a:xfrm>
            <a:off x="487440" y="274680"/>
            <a:ext cx="8045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Объект 3" descr=""/>
          <p:cNvPicPr/>
          <p:nvPr/>
        </p:nvPicPr>
        <p:blipFill>
          <a:blip r:embed="rId1"/>
          <a:stretch/>
        </p:blipFill>
        <p:spPr>
          <a:xfrm>
            <a:off x="579600" y="115920"/>
            <a:ext cx="77374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Объект 3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78598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436680" y="0"/>
            <a:ext cx="86090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71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ff"/>
                </a:solidFill>
                <a:latin typeface="Georgia"/>
              </a:rPr>
              <a:t>СПАСИБО ЗА ВНИМАНИЕ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7" descr="header_img"/>
          <p:cNvPicPr/>
          <p:nvPr/>
        </p:nvPicPr>
        <p:blipFill>
          <a:blip r:embed="rId1"/>
          <a:stretch/>
        </p:blipFill>
        <p:spPr>
          <a:xfrm>
            <a:off x="0" y="1989000"/>
            <a:ext cx="46432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то в учениках не бывал, тот учителем не будет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родная мудро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Тот, кто мало знает, малому может и учить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н Коменск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овременных условиях особое значение приобретает использование технологий сопровождения педагог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дной из таких технологий выступает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ндивидуальный образовательный маршрут педагога,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торый может занять важное место в портфолио педагога, являясь средством самообразования, стержнем и вектором образовательной траектор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Целью и соответственно результатом реализации индивидуального образовательного маршрута педагога является развитие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фессиональной компетентности педагог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снованием для повышения мастерства педагогов  в форме построения ИОМ являются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зменения, происходящие в образовани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запросы и потребности участников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АЛГОРИТМ РАЗРАБОТКИ ИО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иагностика профессионального мастерства, самоопределение педаго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на основе полученных результатов И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я маршру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флексивный анализ эффективности И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НАПРАВЛЕНИЯ ДЕЯТЕЛЬНО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125360"/>
            <a:ext cx="7467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фессионально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предмет преподава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сихолого- педагогическо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ориентированное на учеников и родителе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ическо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педагогические технологии, формы, методы и приёмы обуче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формационно- компьютерны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храна здоровь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РАЗДЕЛЫ И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учение литературы, связанной с темой самообразования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программно-методического обеспечения образовательного проце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бобщение собственного опыта педагогической деятельно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астие в системе школьной методической рабо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бучение на курсах в системе повышения квалификации вне школ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уководство повышением квалификации других учителе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одвижение по ИОМ фиксируется в карте ИОМ (таблица) по  месяцам с указанием того, что конкретно сделано по реализации каждого из направлений деятельно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ФОРМЫ САМООБРАЗОВАТЕЛЬНОЙ ДЕЯТЕЛЬНОСТИ ПЕДАГО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урсы повышения квалификации при институте повышения квалификации и переподготовки работников образования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методические практикумы в школах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обсуждение специальной педагогической и психологической литературы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подготовка к аттестаци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 научно-практические конференци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обобщение своего  опыта работы и представление его в публикациях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 освоение информационных технологий образования и воспитания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теоретические семинары по проблемам повышения качества образования и  личностно-профессионального развития учителя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обсуждение проблем самообразования и повышения качества образования на заседаниях методического совета, методических объединений учителей, в проблемных группах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  работа творческих мастерских учителей-исследователей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-  проведение самоанализа деятельности учителя за год, рефлексия своего опыт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Ivan</cp:lastModifiedBy>
  <dcterms:modified xsi:type="dcterms:W3CDTF">2023-11-14T13:01:47Z</dcterms:modified>
  <cp:revision>170</cp:revision>
  <dc:subject/>
  <dc:title>«Организация процесса самообразования в педагогической деятельности учителя»</dc:title>
</cp:coreProperties>
</file>