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2488-C8B2-4EC6-8C0A-B8183D03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AD68-12E8-446C-9180-9F0D78E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9D28-7F5A-49DD-81B4-151142FD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EAE0-EC50-41BC-8A17-3BB4B769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76F-2E5B-4058-9099-BB2C6723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BAEC-03D1-414C-A876-E5300D47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B7FC-B4A0-4AF5-8BD1-49E1AE1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0D72-1D4F-4895-88CD-0D1C6E4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591-7ADE-4E96-A789-8CF5EC3D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5B70-8B7E-4B49-AC29-18154FE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741D-ECF0-4C27-AAA1-AB7DCE2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7F2C-E933-4374-A28F-46A4DD9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6281-DE37-466D-B32F-55EC2BF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3A5-6698-42FE-A1AA-11BF7F4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5B9F-64F2-483E-8311-3ECF9173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AF0-AFF7-48E3-B8DD-F233ED2C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A7A-C738-456A-A3FE-4AB1EF7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1358-4F38-415F-9B5F-C90A89C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ADFE-695A-43B1-870F-DAD26B0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9C0E-A52B-48E8-95EB-CA4AE94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FDDD-8C33-49A6-9792-8CAB81B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9970-8BCC-4282-8900-190A9F2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FC94-011B-47CF-8DE5-4064444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2DB0-6362-4A44-9BE6-D4288F0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D89-7E5A-4227-BFE5-FCB9172D96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00F-938B-4BA0-BC4A-46C468CAE2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917720"/>
            <a:ext cx="8307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менения в содержании учебного предмета «Литературное чтение» в связи с введением обновленных ФГОС и ФОП (по классам)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56160"/>
            <a:ext cx="601992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МОУ «Дубс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Куликова Людмил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1A18-ABBE-40E8-BDC0-935B88DDE0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02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программы и учебника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тературному чтению (4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413000"/>
          <a:ext cx="7416720" cy="545292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держа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держание учебника 4 класс (разде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966920"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 Родине, героические страницы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Фольклор (устное народное твор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А. С. Пуш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И. А. Кры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М. Ю. Лермон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итературная ска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артины природы в творчестве поэтов и писателей ХIХ– ХХ ве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Л. Н. Толс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животных и родной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д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ь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Юмористические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Библиографическая культура (работа с детской книгой и справочной литературой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етописи. Былины. Ж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Чудесный мир класс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этическ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итературные ска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елу время – потехе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трана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ирода и 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о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трана Фант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29A-5B59-4D29-B9CE-2ABFC13C7F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ФОП и учебника «Литературное чтение» 4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920" y="1628640"/>
          <a:ext cx="8569080" cy="482472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 Родине, героические страницы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о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40440"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.Д. Дрожжин «Роди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М. Песков «Роди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.Т. Твардовский «О Родине большой и малой» (отрыв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.Т. Романовский «Ледовое побоищ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.П.Кончаловская "Слово о побоище Ледов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сторическая песня "Кузьма Минин и Дмитрий Пожарский во главе опол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.И.Рождественский "Если б камни могли говорить...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икитин И.С. «Рус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рожжин С.Д. «Роди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игулин А. «О, Родина! В неярком блеске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есня защитников брестской крепост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D1AD-3D81-4350-B15E-BCF2549F8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одержание разделов и произведений ФОП практически не соответствует содержанию учебника «Литературное чтение» 1-4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2"/>
                </a:solidFill>
                <a:latin typeface="Arial"/>
              </a:rPr>
              <a:t>Особенностью использования учебников в условиях обновленного ФГОС на основе федеральной рабочей программы является ориентация на единое содержание, регламентированное ФРП, а не на содержание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2"/>
                </a:solidFill>
                <a:latin typeface="Arial"/>
              </a:rPr>
              <a:t>Учебник является дидактическим инструментом учителя, и в случае избыточного или недостающего  содержания с точки зрения предметного содержания и планируемых результатов ФРП учителю необходимо корректировать содержание учебника до полного соответствия содержанию ФР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2"/>
                </a:solidFill>
                <a:latin typeface="Arial Unicode MS"/>
                <a:ea typeface="Arial Unicode MS"/>
              </a:rPr>
              <a:t>При реализации ФРП при использовании имеющихся учебников могут возникнуть проблемы следующе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2"/>
                </a:solidFill>
                <a:latin typeface="Arial Unicode MS"/>
                <a:ea typeface="Arial Unicode MS"/>
              </a:rPr>
              <a:t>Отсутствие необходимых произведений в учебнике или их нахождение в других раз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2"/>
                </a:solidFill>
                <a:latin typeface="Arial Unicode MS"/>
                <a:ea typeface="Arial Unicode MS"/>
              </a:rPr>
              <a:t>Трудности в поиске произведений в дополнительных источниках, так как нет достаточного оснащения библиотек детской литера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2"/>
                </a:solidFill>
                <a:latin typeface="Arial Unicode MS"/>
                <a:ea typeface="Arial Unicode MS"/>
              </a:rPr>
              <a:t>Отсутствие возможности выхода в интернет (детей) на уроке для работы над содержанием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A238-744B-46C4-A4CF-07FB96B8C1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CCB-4818-4EE0-886E-70F5C504D2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7A9-79B5-449C-995E-07C20706FC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Соотнесение содержания в ФОП с содержанием имеющихся учеб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27C-E143-444F-8427-FED5363E2F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7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программы и учебника п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тературному чтению (1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7632720" cy="439416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чебника 1 класс (разде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33640"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казка фольклорная (народная) и литературная (авторска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детях 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родной прир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Устное народное творчество – малые фольклорные жан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братьях наших мень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ма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Фольклорные и авторские произведения о чудесах и фант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Библиографическая культур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или-были бук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казки, загадки, небы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прель, апрель! Звенит кап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 в шутку и всерь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Я и мои друз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 братьях наших мень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BEB-A6F9-4441-8F6E-39B3DB6D1A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39640" y="61740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равнение содержания раздела ФОП и учебника «Литературное чтение» 1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96880" y="1050840"/>
          <a:ext cx="7272360" cy="5800680"/>
        </p:xfrm>
        <a:graphic>
          <a:graphicData uri="http://schemas.openxmlformats.org/drawingml/2006/table">
            <a:tbl>
              <a:tblPr/>
              <a:tblGrid>
                <a:gridCol w="4032360"/>
                <a:gridCol w="3240000"/>
              </a:tblGrid>
              <a:tr h="20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казка фольклорная (народная) и литературная (авторская). Устное народное творчество – малые фольклорные жанры. Фольклорные и авторские произведения о чудесах и фантазии (не менее трёх произвед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казки., загадки, небылицы. (И в шутку и всерьез. Жили-были букв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32120"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«Лисица и тетере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«Лиса и ра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.Д. Ушинский «Петух и соба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казки В.Г.Сутеева «Кораблик», «Под грибом» ‌и "Мешок яблок"‌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тешки, загадки, пословицы (не менее 6 – на выбор учит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.С. Сеф «Чуд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В. Лунин «Я видел чуд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Б.В. Заходер «Моя Вообразил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Ю.П. Мориц «Сто фантазий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.И.Чуковский "Телефон"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.П.Токмакова "Аля, Кляксич и буква "А"".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урочка Ря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Гуси-лебе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еремок. Чарушин Е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укави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етух и соб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гадки. Небылицы. Считалка. Потеш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нглийские народные песенки и небы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ушкин А.С. Отрывки из сказ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Ушинский К.Д. Гусь и журав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лстой Л.Н. Белка и вол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.И.Чуковский "Телефон"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.П.Токмакова "Аля, Кляксич и буква "А""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0394-4CD9-4203-ABE6-DEED353A94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держание разделов и произведений ФОП практически не соответствует содержанию учебника «Литературное чтение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404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1197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611-D04C-4867-86C8-52F84E961F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8598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программы и учебника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тературному чтению (2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255680"/>
          <a:ext cx="7417080" cy="529272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чебника 2 класс (разде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51560"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нашей Род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льклор (устное народное твор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и и краски родной природы в разные времена года(осен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етях и друж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сказо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льклорная (народная) и литературная (авторская) ска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и и краски родной природы в разные времена года(зим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братьях наших мень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и и краски родной природы в разные времена года(весна и лет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наших близких, о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блиографическая культур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та с детской книгой и справочной литератур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великое чудо на св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ое народ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ю природу русскую. 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пис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братьях наших мень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ю природу русскую. З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и д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 мои друз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ю природу русскую. 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 шутку и всерь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зарубежных ст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D8B7-D5ED-4715-97AE-AF3D9F080D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ФОП и учебника «Литературное чтение» 2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73360"/>
          <a:ext cx="7848720" cy="36939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 детях и друж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Я и мои друз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189240"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.Н. Толстой «Филипп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.А. Пермяк «Две послов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Ю.И. Ермолаев «Два пирожн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А. Осеева «Синие лист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.Н. Носов «На горке», «Запла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.Л. Барто «Кат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В. Лунин «Я и Вов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Ю. Драгунский «Тайное становится явным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.А.Баруздин "Как Алешке учиться надоел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.П.Гайдар "Совесть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Ю.И. Ермолаев «Два пирожн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А. Осеева  «Волшебное слово», «Хорошее», «Почему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В. Лунин «Я и Вов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Э.Э.Мошковская «Я ушел в свою обид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.Д.Берестов «За игрой», «Гляжу с высот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D72-DB2D-4183-86ED-60C24FCF7A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715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программы и учебника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тературному чтению (3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916280"/>
          <a:ext cx="7704360" cy="4417920"/>
        </p:xfrm>
        <a:graphic>
          <a:graphicData uri="http://schemas.openxmlformats.org/drawingml/2006/table">
            <a:tbl>
              <a:tblPr/>
              <a:tblGrid>
                <a:gridCol w="3816360"/>
                <a:gridCol w="3888000"/>
              </a:tblGrid>
              <a:tr h="73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держа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держание учебника 3 класс (разде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61960"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 Родине и её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Фольклор (устное народное твор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А. С. Пушк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И. А. Кры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артины природы в произведениях поэтов и писателей ХIХ–ХХ ве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орчество Л. Н. Толс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итературная сказ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взаимоотношениях человека и живот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роизведения о д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Юмористические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Библиографическая культура (работа с детской книгой и справочной литературо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Устное народ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этическ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еликие русские пис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итературные ска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Были-небы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этическ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юби все жи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этическ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бирай по ягодке – наберешь кузо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265-CD23-4789-9EA2-DC6D3C18C9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равнение содержания разделов ФОП и учебника «Литературное чтение» 3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71640" y="1413000"/>
          <a:ext cx="7488000" cy="2778120"/>
        </p:xfrm>
        <a:graphic>
          <a:graphicData uri="http://schemas.openxmlformats.org/drawingml/2006/table">
            <a:tbl>
              <a:tblPr/>
              <a:tblGrid>
                <a:gridCol w="3743280"/>
                <a:gridCol w="3744720"/>
              </a:tblGrid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рубежн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88160">
                <a:tc>
                  <a:txBody>
                    <a:bodyPr lIns="68400" rIns="6840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.-К. Андерсен «Гадкий утё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Ш. Перро «Подарок фе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Ц.Топелиус "Солнечный Луч в ноябр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. Киплинг "Маугли"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.-К. Андерсен «Гадкий утё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2:17:38Z</dcterms:created>
  <dc:creator>Александр</dc:creator>
  <dc:description/>
  <dc:language>en-US</dc:language>
  <cp:lastModifiedBy>школа</cp:lastModifiedBy>
  <dcterms:modified xsi:type="dcterms:W3CDTF">2023-08-23T08:42:24Z</dcterms:modified>
  <cp:revision>134</cp:revision>
  <dc:subject/>
  <dc:title>Федеральный государственный образовательный стандарт  общего начального образования второго поколения  </dc:title>
</cp:coreProperties>
</file>