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3AFA-89B8-4937-9D52-13A21EAC9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23EC-23D7-4773-8BF0-742B6FEAF6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2BFC-EEE3-4050-AB9C-BF36AA94E1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9AB-4E16-4A9D-9FDA-3494B0A5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10E-C184-410E-9662-70EE4EF0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83D-6995-4792-9AD4-ECEE4E12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B7F-B378-4299-A2FB-0787CAEE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738-8DCE-416C-BBE5-F6A8E0C0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D46-AFF0-418C-8A2E-5F8378E0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9A3-8C9A-432C-90D9-3CCE39DE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779-5083-4E15-B355-687BB6A5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D6A-E12F-4BA1-86A8-E8392AB9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5DD-B191-4EEC-ACEF-2A1028A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3A2-E5CE-406F-B523-597FE273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328-05D1-4A4D-8710-212DF3D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0f6fc6">
                    <a:alpha val="0"/>
                  </a:srgbClr>
                </a:gs>
                <a:gs pos="100000">
                  <a:srgbClr val="e7eb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0c6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C7EA-9AED-4AE3-BFA6-79D4E3144AA1}" type="slidenum">
              <a:rPr b="0" lang="en-US" sz="1200" spc="-1" strike="noStrike">
                <a:solidFill>
                  <a:srgbClr val="ffffff"/>
                </a:solidFill>
                <a:latin typeface="Segoe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47" name="Rectangle 6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10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4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0c6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0c6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grpSp>
          <p:nvGrpSpPr>
            <p:cNvPr id="91" name="Rectangle 17"/>
            <p:cNvGrpSpPr/>
            <p:nvPr/>
          </p:nvGrpSpPr>
          <p:grpSpPr>
            <a:xfrm>
              <a:off x="0" y="383760"/>
              <a:ext cx="9144000" cy="6096240"/>
              <a:chOff x="0" y="383760"/>
              <a:chExt cx="9144000" cy="6096240"/>
            </a:xfrm>
          </p:grpSpPr>
          <p:pic>
            <p:nvPicPr>
              <p:cNvPr id="92" name="Rectangl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86640"/>
                <a:ext cx="9144000" cy="609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0" y="383760"/>
                <a:ext cx="9144000" cy="60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Rectangle 9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15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0c6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0c6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cs.cntd.ru/document/42027781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14200" y="999720"/>
            <a:ext cx="8715600" cy="3357720"/>
          </a:xfrm>
          <a:prstGeom prst="rect">
            <a:avLst/>
          </a:prstGeom>
          <a:solidFill>
            <a:srgbClr val="dbf5f9">
              <a:alpha val="64000"/>
            </a:srgbClr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3763"/>
                </a:solidFill>
                <a:latin typeface="Cambria"/>
              </a:rPr>
              <a:t>Воспитывающая роль предмета «Информатика» </a:t>
            </a:r>
            <a:endParaRPr b="0" lang="en-US" sz="4400" spc="-1" strike="noStrike">
              <a:solidFill>
                <a:srgbClr val="ffffff"/>
              </a:solidFill>
              <a:latin typeface="Segoe Condensed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3763"/>
                </a:solidFill>
                <a:latin typeface="Cambria"/>
              </a:rPr>
              <a:t>на личность обучающегося</a:t>
            </a:r>
            <a:endParaRPr b="0" lang="en-US" sz="44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5435640" y="515772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15.05.20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7892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ддержка семейного воспитания, 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сширение воспитательных возможностей информационных ресурсов, 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ддержка общественных объединений, гражданское, патриотическое, духовное и нравственное воспитание детей,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пуляризация научных знаний среди детей,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физическое воспитание и формирование культуры здоровья,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трудовое воспитание и профессиональное самоопределение, 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кологическое воспитание,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физическое воспитание и формирование культуры здоровья; 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трудовое воспитание и профессиональное самоопределение, экологическое воспитание. 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Направления Стратегии: 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>
              <a:lnSpc>
                <a:spcPct val="100000"/>
              </a:lnSpc>
              <a:spcBef>
                <a:spcPts val="6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Система педагогических влияний </a:t>
            </a: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представляет собой </a:t>
            </a:r>
            <a:r>
              <a:rPr b="1" i="1" lang="ru-RU" sz="2600" spc="-1" strike="noStrike">
                <a:solidFill>
                  <a:srgbClr val="ffffff"/>
                </a:solidFill>
                <a:latin typeface="Cambria"/>
              </a:rPr>
              <a:t>законченный акт педагогического общения, т.е. и диалог учителя и учени­ков,  взаимная целенаправленная де­ятельность, в ходе и результате кото­рых личности участников изме­няются: вырабатываются ак­тивная или пассивная жизненная стратегия и соответствующие черты характера, формируется ментальность, приобретаются те или иные </a:t>
            </a:r>
            <a:r>
              <a:rPr b="1" i="1" lang="ru-RU" sz="2600" spc="-1" strike="noStrike" u="sng">
                <a:solidFill>
                  <a:srgbClr val="ffffff"/>
                </a:solidFill>
                <a:uFillTx/>
                <a:latin typeface="Cambria"/>
              </a:rPr>
              <a:t>привычки поведе­ния</a:t>
            </a:r>
            <a:r>
              <a:rPr b="1" i="1" lang="ru-RU" sz="2600" spc="-1" strike="noStrike">
                <a:solidFill>
                  <a:srgbClr val="ffffff"/>
                </a:solidFill>
                <a:latin typeface="Cambri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Реализация воспитательного потенциала содержания учебных программ достигается при условии: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66" name="Схема 4" descr=""/>
          <p:cNvPicPr/>
          <p:nvPr/>
        </p:nvPicPr>
        <p:blipFill>
          <a:blip r:embed="rId1"/>
          <a:stretch/>
        </p:blipFill>
        <p:spPr>
          <a:xfrm>
            <a:off x="311040" y="1816200"/>
            <a:ext cx="8704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Воспитательная задача урока должны удовлетворять следующим требованиям: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68" name="Схема 3" descr=""/>
          <p:cNvPicPr/>
          <p:nvPr/>
        </p:nvPicPr>
        <p:blipFill>
          <a:blip r:embed="rId1"/>
          <a:stretch/>
        </p:blipFill>
        <p:spPr>
          <a:xfrm>
            <a:off x="469800" y="1773360"/>
            <a:ext cx="83026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599840"/>
            <a:ext cx="84358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mbria"/>
              </a:rPr>
              <a:t>Воспитывать: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1) уважение к государственной символике Отечества;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2) ценностное отношение к народным традициям; русскому языку; своему народу;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3) уважительное отношение к родителям, старшим;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4) заботливое отношение к младшим;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5) неравнодушие к жизненным проблемам других людей;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6) сочувствие к человеку, находящемуся в трудной ситуации и др.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mbria"/>
              </a:rPr>
              <a:t>Формировать: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1) первоначальные навыки трудового творческого сотрудничества;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2) потребность выражать себя в определенном виде творческой деятельности;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3) мотивацию к сотрудничеству, участию в коллективной деятельности;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4) представления о нормах экологической этики;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5) установки на здоровый образ жизни;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6) положительную адекватную объективную самооценку и др.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Bookman Old Style"/>
              </a:rPr>
              <a:t>Формулировка воспитательных задач урока.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Схема 3" descr=""/>
          <p:cNvPicPr/>
          <p:nvPr/>
        </p:nvPicPr>
        <p:blipFill>
          <a:blip r:embed="rId1"/>
          <a:stretch/>
        </p:blipFill>
        <p:spPr>
          <a:xfrm>
            <a:off x="469800" y="1547640"/>
            <a:ext cx="83502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поисковые и исследовательские ,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репродуктивные методы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творческие методы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методы обучения на основе заданий по выбору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метод проектов развивает субъективность обучающегося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методы обучения в парах, малых группах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методы и технологии отметочного и безотметочного оценивания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етоды обучения и педагогические технологии, каждый из которых по-своему влияет на воспитание и развитие личности школьника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 Использование воспитательных возможностей содержания материала.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. Дополнение учебного материала историческими фактами.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3. Формирование мировоззрения на уроке.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4. Формирование нравственных качеств личности.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5. Воспитание у учащихся добросовестного отношения к труду и учению.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6. Оценка воспитательных возможностей методов и приемов обучения.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7. Использование воспитательных возможностей оценки труда учащихся.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8. Влияние личности учителя.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9. Характер деятельности и общения учащихся на уроке.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0. Резервы повышения воспитательных возможностей урока.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mbria"/>
              </a:rPr>
              <a:t>Примерная схема анализа урока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«Учить и воспитывать – как «молния» на куртке: обе стороны затягиваются одновременно и накрепко неторопливым движением замка – творческой мысли. Вот эта соединяющая мысль и есть главное в уроке»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Евгении Николаевич Ильин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78" name="Picture 2" descr="http://clinicpsy.ucoz.ru/docs/img/im020-29.01.2010-.png"/>
          <p:cNvPicPr/>
          <p:nvPr/>
        </p:nvPicPr>
        <p:blipFill>
          <a:blip r:embed="rId1"/>
          <a:stretch/>
        </p:blipFill>
        <p:spPr>
          <a:xfrm>
            <a:off x="395280" y="1844640"/>
            <a:ext cx="2779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28760" y="22860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mbria"/>
              </a:rPr>
              <a:t>«Знания без воспитания - меч в руках сумасшедшего»</a:t>
            </a: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Д.И. Менделеев</a:t>
            </a:r>
            <a:endParaRPr b="0" lang="en-US" sz="36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5600" y="28080"/>
            <a:ext cx="836316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«Устный счет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народной школе С.А. Рачинского». 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.П. Богданов-Бельский, 1895 г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47" name="Picture 4" descr="https://otvet.imgsmail.ru/download/u_f4e34c66162021c39b41e6234f7645c5_800.jpg"/>
          <p:cNvPicPr/>
          <p:nvPr/>
        </p:nvPicPr>
        <p:blipFill>
          <a:blip r:embed="rId1"/>
          <a:stretch/>
        </p:blipFill>
        <p:spPr>
          <a:xfrm>
            <a:off x="566640" y="1676520"/>
            <a:ext cx="825984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Триединина дидактическая цель урока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24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360" y="2060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80000"/>
              </a:lnSpc>
              <a:spcBef>
                <a:spcPts val="6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mbria"/>
              </a:rPr>
              <a:t>Образование</a:t>
            </a:r>
            <a:r>
              <a:rPr b="1" lang="ru-RU" sz="2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– </a:t>
            </a:r>
            <a:r>
              <a:rPr b="0" i="1" lang="ru-RU" sz="2600" spc="-1" strike="noStrike">
                <a:solidFill>
                  <a:srgbClr val="ffffff"/>
                </a:solidFill>
                <a:latin typeface="Cambria"/>
              </a:rPr>
              <a:t>это единый целенаправленный процесс воспитания и обучения, являющийся общественно значимым благом и осуществляемый в интересах человека, семьи, общества и государства, а также совокупность приобретаемых знаний, умений, навыков, ценностных установок, опыта деятельности и компетенции определенных объема и сложности в целях интеллектуального, духовно-нравственного, творческого, физического и (или) профессионального развития человека, удовлетворения его образовательных потребностей и интересов</a:t>
            </a: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 .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ст. 2 Федерального закона от 29 декабря 2012 г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№ 273-Φ3 "Об образовании в Российской Федерации"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68360" y="2060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Воспитание </a:t>
            </a: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– деятельность, направленная на развитие личности, создание условий для самоопределения и социализации обучающегося на основе социокультурных, духовно-нравственных ценностей и принятых в обществе правил и норм поведения в интересах человека, семьи, общества и государства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ст. 2 Федерального закона от 29 декабря 2012 г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№ 273-Φ3 "Об образовании в Российской Федерации"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8000" y="3860280"/>
            <a:ext cx="9036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egoe Condensed"/>
              </a:rPr>
              <a:t>принята распоряжением Правительства Российской Федерации от 29 мая 2015 г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egoe Condensed"/>
              </a:rPr>
              <a:t>N 996-р г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Segoe Condensed"/>
                <a:hlinkClick r:id="rId1"/>
              </a:rPr>
              <a:t>http://docs.cntd.ru/document/420277810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1844280"/>
            <a:ext cx="79930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«Стратегия развития воспитания в Российской Федерации на период до 2025 года»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Определить приоритеты государственной политики в области воспитания детей, основные направления развития воспитания, механизмы и ожидаемые результаты реализации Стратегии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Цель Стратегии: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78920" y="198900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оздать условия для консолидации усилий институтов российского общества и государства по воспитанию подрастающего поколения; 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еспечить поддержку семейного воспитания; 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повысить эффективность воспитательной деятельности в системе образования субъектов РФ; 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формировать социокультурную инфраструктуру, содействующую успешной социализации детей; 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еспечить равный доступ к инфраструктуре воспитания детей, требующих особой заботы общества и государства, включая детей с ограниченными возможностями здоровья. 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Задачи Стратегии: 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4:35:41Z</dcterms:created>
  <dc:creator/>
  <dc:description/>
  <dc:language>en-US</dc:language>
  <cp:lastModifiedBy/>
  <dcterms:modified xsi:type="dcterms:W3CDTF">2018-05-15T01:25:23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9</vt:lpwstr>
  </property>
  <property fmtid="{D5CDD505-2E9C-101B-9397-08002B2CF9AE}" pid="3" name="_TemplateID">
    <vt:lpwstr>TC101659611049</vt:lpwstr>
  </property>
</Properties>
</file>