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C42-51DA-427E-A19B-E70FFD1E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513-4849-4D2D-A5DE-B72045CB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324-964C-4CE6-B073-F8C0DEC7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E98-43C0-45B6-82B8-AAB1A241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1DDD-0247-4AE9-B1D2-20BEFB7E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B3AC-0488-4FF0-94D1-0E666118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B6CD-3E22-44C9-A815-0207B53A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3D02-826D-4475-A30C-22D3E9B3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F85F-A8AE-40E7-99F1-79B10277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ED25-6437-4E1C-96BA-2528ADF1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64CD-E143-411D-A568-E48B9CB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028-023A-4785-8667-52C271BF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C7B7-B891-438B-A37A-7D040B6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1A5C-10F5-4678-92A2-A32081FB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9BF7-6703-4BEF-9FEC-1B5E84A4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6D1B-0E97-4AD3-90CB-9624F4E8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77D2-3E57-49A0-B426-DED211CB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AB29-DC32-47AA-9DBB-7A0AF222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C05B-5C31-4BA0-A150-CE2CFA19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C8C5-583A-49BE-B460-5905CEAC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EDAC-0AD0-4A31-9793-3A5A9995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CF91-934A-4A29-8518-FBFC9DB7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BC3-A4AB-4C83-A5F5-B3FC21DB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F3C5-C12E-49FE-90AE-82AF8900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D2C8-FE11-49B0-95AD-D162E8AC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A0B4-36B8-44D5-BAE1-A046E84C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60FB-90EE-486C-84F1-F51E4B4B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7FBC-0608-4CDF-9E83-B43D401D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25F6-4F23-4048-BE56-C352997F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67D56-BB68-4AC1-8D73-C0A53BF3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CBD-32AD-4C71-9EC1-8DDC138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FFD-44FD-445D-A999-1C220F54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562-7FDA-494E-A513-73E0F5A8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32D-8375-4237-9FC8-52899A11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5BC-5ED1-43B8-A56A-458CE03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B48-0D60-41FB-B90C-C6026280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91B6-31A7-4B48-A7A7-2088B7B94B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F9E-5C4F-4A95-B30B-21E9A7F8550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2DC8-2D11-4631-9C6E-5DB67C47031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sesmi.ru/" TargetMode="External"/><Relationship Id="rId2" Type="http://schemas.openxmlformats.org/officeDocument/2006/relationships/hyperlink" Target="http://www.vsesmi.ru/" TargetMode="External"/><Relationship Id="rId3" Type="http://schemas.openxmlformats.org/officeDocument/2006/relationships/hyperlink" Target="http://www.vsesmi.ru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Проблемный диалог, как средство развития универсальных учебных действи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Логиновских Елена Петровна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учитель МОУ «Пионерская СОШ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 информатики «Основные понятия компьютерной графики» (7 кл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дслушанный разговор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Я перенёс с цифрового фотоаппарата фотографию на компьютер, хотел по электронной почте другу послать, чтобы тот полюбовался на мои достижения, а друг говорит, что получить не может. Фотография слишком «тяжёлая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Тяжёлая? Как ей «похудеть»- то? Мои фотографии с телефона все запросто получают, никто не жалуется. Но недавно я отнёс свою фотографию с телефона в мастерскую фотопечати. Не взяли. Говорят: разрешение недостаточное для плаката.  Я хотел свой плакат над столом повес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Зачем им разрешение? Разрешение у монитора. Причём здесь печать? А мою фотографию они смогут в мастерской до плаката увеличить? Или её уменьшить над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В чём проблема молодых людей? Сформулируйте эту пробле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337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роблемный диал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Схема 3" descr=""/>
          <p:cNvPicPr/>
          <p:nvPr/>
        </p:nvPicPr>
        <p:blipFill>
          <a:blip r:embed="rId1"/>
          <a:stretch/>
        </p:blipFill>
        <p:spPr>
          <a:xfrm>
            <a:off x="122400" y="324000"/>
            <a:ext cx="8826480" cy="5479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://media.samsholm.net/2013/04/Fotolia_40823748_S-300x156.jpg"/>
          <p:cNvPicPr/>
          <p:nvPr/>
        </p:nvPicPr>
        <p:blipFill>
          <a:blip r:embed="rId2"/>
          <a:stretch/>
        </p:blipFill>
        <p:spPr>
          <a:xfrm>
            <a:off x="2987640" y="5049720"/>
            <a:ext cx="33130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img-fotki.yandex.ru/get/5903/25079555.130/0_712ee_e759cc4c_XL"/>
          <p:cNvPicPr/>
          <p:nvPr/>
        </p:nvPicPr>
        <p:blipFill>
          <a:blip r:embed="rId1"/>
          <a:srcRect l="0" t="0" r="0" b="2953"/>
          <a:stretch/>
        </p:blipFill>
        <p:spPr>
          <a:xfrm>
            <a:off x="826920" y="189000"/>
            <a:ext cx="748368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Логика построения урока на основе проблемного диало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1"/>
          <a:stretch/>
        </p:blipFill>
        <p:spPr>
          <a:xfrm>
            <a:off x="201600" y="1341360"/>
            <a:ext cx="8766360" cy="5114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f1.ds-russia.ru/u_dirs/106/106071/e134d072e2283f6cba02eaef6d018492.jpg"/>
          <p:cNvPicPr/>
          <p:nvPr/>
        </p:nvPicPr>
        <p:blipFill>
          <a:blip r:embed="rId2"/>
          <a:stretch/>
        </p:blipFill>
        <p:spPr>
          <a:xfrm>
            <a:off x="0" y="4437000"/>
            <a:ext cx="2270160" cy="227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Image of 'White man establishes an exclamation mark'"/>
          <p:cNvPicPr/>
          <p:nvPr/>
        </p:nvPicPr>
        <p:blipFill>
          <a:blip r:embed="rId3"/>
          <a:stretch/>
        </p:blipFill>
        <p:spPr>
          <a:xfrm>
            <a:off x="6156360" y="1484280"/>
            <a:ext cx="27925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Овал 4"/>
          <p:cNvGrpSpPr/>
          <p:nvPr/>
        </p:nvGrpSpPr>
        <p:grpSpPr>
          <a:xfrm>
            <a:off x="122400" y="2103480"/>
            <a:ext cx="3322440" cy="3206880"/>
            <a:chOff x="122400" y="2103480"/>
            <a:chExt cx="3322440" cy="3206880"/>
          </a:xfrm>
        </p:grpSpPr>
        <p:pic>
          <p:nvPicPr>
            <p:cNvPr id="137" name="Овал 4" descr=""/>
            <p:cNvPicPr/>
            <p:nvPr/>
          </p:nvPicPr>
          <p:blipFill>
            <a:blip r:embed="rId1"/>
            <a:stretch/>
          </p:blipFill>
          <p:spPr>
            <a:xfrm>
              <a:off x="122400" y="2103480"/>
              <a:ext cx="332244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49440" y="2585880"/>
              <a:ext cx="226836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Этап актуализации 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(активизация познавательной деятельности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Овал 5"/>
          <p:cNvGrpSpPr/>
          <p:nvPr/>
        </p:nvGrpSpPr>
        <p:grpSpPr>
          <a:xfrm>
            <a:off x="3651120" y="1133640"/>
            <a:ext cx="2273400" cy="2195280"/>
            <a:chOff x="3651120" y="1133640"/>
            <a:chExt cx="2273400" cy="2195280"/>
          </a:xfrm>
        </p:grpSpPr>
        <p:pic>
          <p:nvPicPr>
            <p:cNvPr id="140" name="Овал 5" descr=""/>
            <p:cNvPicPr/>
            <p:nvPr/>
          </p:nvPicPr>
          <p:blipFill>
            <a:blip r:embed="rId2"/>
            <a:stretch/>
          </p:blipFill>
          <p:spPr>
            <a:xfrm>
              <a:off x="3651120" y="1133640"/>
              <a:ext cx="227340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024440" y="1468440"/>
              <a:ext cx="152712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опора на социальный опыт обучающихся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Овал 7"/>
          <p:cNvGrpSpPr/>
          <p:nvPr/>
        </p:nvGrpSpPr>
        <p:grpSpPr>
          <a:xfrm>
            <a:off x="3724200" y="4048200"/>
            <a:ext cx="2268720" cy="2193840"/>
            <a:chOff x="3724200" y="4048200"/>
            <a:chExt cx="2268720" cy="2193840"/>
          </a:xfrm>
        </p:grpSpPr>
        <p:pic>
          <p:nvPicPr>
            <p:cNvPr id="143" name="Овал 7" descr=""/>
            <p:cNvPicPr/>
            <p:nvPr/>
          </p:nvPicPr>
          <p:blipFill>
            <a:blip r:embed="rId3"/>
            <a:stretch/>
          </p:blipFill>
          <p:spPr>
            <a:xfrm>
              <a:off x="3724200" y="4048200"/>
              <a:ext cx="22687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095720" y="4383000"/>
              <a:ext cx="152892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факты, вызывающие удивл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Овал 8"/>
          <p:cNvGrpSpPr/>
          <p:nvPr/>
        </p:nvGrpSpPr>
        <p:grpSpPr>
          <a:xfrm>
            <a:off x="6175440" y="2286000"/>
            <a:ext cx="2773440" cy="2919240"/>
            <a:chOff x="6175440" y="2286000"/>
            <a:chExt cx="2773440" cy="2919240"/>
          </a:xfrm>
        </p:grpSpPr>
        <p:pic>
          <p:nvPicPr>
            <p:cNvPr id="146" name="Овал 8" descr=""/>
            <p:cNvPicPr/>
            <p:nvPr/>
          </p:nvPicPr>
          <p:blipFill>
            <a:blip r:embed="rId4"/>
            <a:stretch/>
          </p:blipFill>
          <p:spPr>
            <a:xfrm>
              <a:off x="6175440" y="2286000"/>
              <a:ext cx="27734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618240" y="2728800"/>
              <a:ext cx="188748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создание проблемной ситуаци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Штриховая стрелка вправо 9"/>
          <p:cNvSpPr/>
          <p:nvPr/>
        </p:nvSpPr>
        <p:spPr>
          <a:xfrm rot="19987200">
            <a:off x="3236400" y="2511360"/>
            <a:ext cx="846360" cy="576360"/>
          </a:xfrm>
          <a:custGeom>
            <a:avLst/>
            <a:gdLst/>
            <a:ahLst/>
            <a:rect l="l" t="t" r="r" b="b"/>
            <a:pathLst>
              <a:path w="845983" h="576064">
                <a:moveTo>
                  <a:pt x="0" y="144016"/>
                </a:moveTo>
                <a:lnTo>
                  <a:pt x="18002" y="144016"/>
                </a:lnTo>
                <a:lnTo>
                  <a:pt x="18002" y="432048"/>
                </a:lnTo>
                <a:lnTo>
                  <a:pt x="0" y="432048"/>
                </a:lnTo>
                <a:lnTo>
                  <a:pt x="0" y="144016"/>
                </a:lnTo>
                <a:close/>
                <a:moveTo>
                  <a:pt x="36004" y="144016"/>
                </a:moveTo>
                <a:lnTo>
                  <a:pt x="72008" y="144016"/>
                </a:lnTo>
                <a:lnTo>
                  <a:pt x="72008" y="432048"/>
                </a:lnTo>
                <a:lnTo>
                  <a:pt x="36004" y="432048"/>
                </a:lnTo>
                <a:lnTo>
                  <a:pt x="36004" y="144016"/>
                </a:lnTo>
                <a:close/>
                <a:moveTo>
                  <a:pt x="90010" y="144016"/>
                </a:moveTo>
                <a:lnTo>
                  <a:pt x="557951" y="144016"/>
                </a:lnTo>
                <a:lnTo>
                  <a:pt x="557951" y="0"/>
                </a:lnTo>
                <a:lnTo>
                  <a:pt x="845983" y="288032"/>
                </a:lnTo>
                <a:lnTo>
                  <a:pt x="557951" y="576064"/>
                </a:lnTo>
                <a:lnTo>
                  <a:pt x="557951" y="432048"/>
                </a:lnTo>
                <a:lnTo>
                  <a:pt x="90010" y="432048"/>
                </a:lnTo>
                <a:lnTo>
                  <a:pt x="90010" y="1440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Штриховая стрелка вправо 10"/>
          <p:cNvSpPr/>
          <p:nvPr/>
        </p:nvSpPr>
        <p:spPr>
          <a:xfrm rot="1864200">
            <a:off x="3198600" y="4394160"/>
            <a:ext cx="853920" cy="576360"/>
          </a:xfrm>
          <a:custGeom>
            <a:avLst/>
            <a:gdLst/>
            <a:ahLst/>
            <a:rect l="l" t="t" r="r" b="b"/>
            <a:pathLst>
              <a:path w="852926" h="576064">
                <a:moveTo>
                  <a:pt x="0" y="144016"/>
                </a:moveTo>
                <a:lnTo>
                  <a:pt x="18002" y="144016"/>
                </a:lnTo>
                <a:lnTo>
                  <a:pt x="18002" y="432048"/>
                </a:lnTo>
                <a:lnTo>
                  <a:pt x="0" y="432048"/>
                </a:lnTo>
                <a:lnTo>
                  <a:pt x="0" y="144016"/>
                </a:lnTo>
                <a:close/>
                <a:moveTo>
                  <a:pt x="36004" y="144016"/>
                </a:moveTo>
                <a:lnTo>
                  <a:pt x="72008" y="144016"/>
                </a:lnTo>
                <a:lnTo>
                  <a:pt x="72008" y="432048"/>
                </a:lnTo>
                <a:lnTo>
                  <a:pt x="36004" y="432048"/>
                </a:lnTo>
                <a:lnTo>
                  <a:pt x="36004" y="144016"/>
                </a:lnTo>
                <a:close/>
                <a:moveTo>
                  <a:pt x="90010" y="144016"/>
                </a:moveTo>
                <a:lnTo>
                  <a:pt x="564894" y="144016"/>
                </a:lnTo>
                <a:lnTo>
                  <a:pt x="564894" y="0"/>
                </a:lnTo>
                <a:lnTo>
                  <a:pt x="852926" y="288032"/>
                </a:lnTo>
                <a:lnTo>
                  <a:pt x="564894" y="576064"/>
                </a:lnTo>
                <a:lnTo>
                  <a:pt x="564894" y="432048"/>
                </a:lnTo>
                <a:lnTo>
                  <a:pt x="90010" y="432048"/>
                </a:lnTo>
                <a:lnTo>
                  <a:pt x="90010" y="1440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Штриховая стрелка вправо 11"/>
          <p:cNvSpPr/>
          <p:nvPr/>
        </p:nvSpPr>
        <p:spPr>
          <a:xfrm rot="1636200">
            <a:off x="5758920" y="2562120"/>
            <a:ext cx="938520" cy="576360"/>
          </a:xfrm>
          <a:custGeom>
            <a:avLst/>
            <a:gdLst/>
            <a:ahLst/>
            <a:rect l="l" t="t" r="r" b="b"/>
            <a:pathLst>
              <a:path w="938227" h="576064">
                <a:moveTo>
                  <a:pt x="0" y="144016"/>
                </a:moveTo>
                <a:lnTo>
                  <a:pt x="18002" y="144016"/>
                </a:lnTo>
                <a:lnTo>
                  <a:pt x="18002" y="432048"/>
                </a:lnTo>
                <a:lnTo>
                  <a:pt x="0" y="432048"/>
                </a:lnTo>
                <a:lnTo>
                  <a:pt x="0" y="144016"/>
                </a:lnTo>
                <a:close/>
                <a:moveTo>
                  <a:pt x="36004" y="144016"/>
                </a:moveTo>
                <a:lnTo>
                  <a:pt x="72008" y="144016"/>
                </a:lnTo>
                <a:lnTo>
                  <a:pt x="72008" y="432048"/>
                </a:lnTo>
                <a:lnTo>
                  <a:pt x="36004" y="432048"/>
                </a:lnTo>
                <a:lnTo>
                  <a:pt x="36004" y="144016"/>
                </a:lnTo>
                <a:close/>
                <a:moveTo>
                  <a:pt x="90010" y="144016"/>
                </a:moveTo>
                <a:lnTo>
                  <a:pt x="650195" y="144016"/>
                </a:lnTo>
                <a:lnTo>
                  <a:pt x="650195" y="0"/>
                </a:lnTo>
                <a:lnTo>
                  <a:pt x="938227" y="288032"/>
                </a:lnTo>
                <a:lnTo>
                  <a:pt x="650195" y="576064"/>
                </a:lnTo>
                <a:lnTo>
                  <a:pt x="650195" y="432048"/>
                </a:lnTo>
                <a:lnTo>
                  <a:pt x="90010" y="432048"/>
                </a:lnTo>
                <a:lnTo>
                  <a:pt x="90010" y="1440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Штриховая стрелка вправо 12"/>
          <p:cNvSpPr/>
          <p:nvPr/>
        </p:nvSpPr>
        <p:spPr>
          <a:xfrm rot="19941000">
            <a:off x="5876640" y="4253040"/>
            <a:ext cx="938160" cy="574560"/>
          </a:xfrm>
          <a:custGeom>
            <a:avLst/>
            <a:gdLst/>
            <a:ahLst/>
            <a:rect l="l" t="t" r="r" b="b"/>
            <a:pathLst>
              <a:path w="938227" h="576064">
                <a:moveTo>
                  <a:pt x="0" y="144016"/>
                </a:moveTo>
                <a:lnTo>
                  <a:pt x="18002" y="144016"/>
                </a:lnTo>
                <a:lnTo>
                  <a:pt x="18002" y="432048"/>
                </a:lnTo>
                <a:lnTo>
                  <a:pt x="0" y="432048"/>
                </a:lnTo>
                <a:lnTo>
                  <a:pt x="0" y="144016"/>
                </a:lnTo>
                <a:close/>
                <a:moveTo>
                  <a:pt x="36004" y="144016"/>
                </a:moveTo>
                <a:lnTo>
                  <a:pt x="72008" y="144016"/>
                </a:lnTo>
                <a:lnTo>
                  <a:pt x="72008" y="432048"/>
                </a:lnTo>
                <a:lnTo>
                  <a:pt x="36004" y="432048"/>
                </a:lnTo>
                <a:lnTo>
                  <a:pt x="36004" y="144016"/>
                </a:lnTo>
                <a:close/>
                <a:moveTo>
                  <a:pt x="90010" y="144016"/>
                </a:moveTo>
                <a:lnTo>
                  <a:pt x="650195" y="144016"/>
                </a:lnTo>
                <a:lnTo>
                  <a:pt x="650195" y="0"/>
                </a:lnTo>
                <a:lnTo>
                  <a:pt x="938227" y="288032"/>
                </a:lnTo>
                <a:lnTo>
                  <a:pt x="650195" y="576064"/>
                </a:lnTo>
                <a:lnTo>
                  <a:pt x="650195" y="432048"/>
                </a:lnTo>
                <a:lnTo>
                  <a:pt x="90010" y="432048"/>
                </a:lnTo>
                <a:lnTo>
                  <a:pt x="90010" y="1440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здание проблемной ситуаци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179280" y="719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бразование Арабского Халифат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6 кл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79280" y="1316160"/>
            <a:ext cx="878544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прос учителя: Какие ассоциации возникают у вас, когда вы слышите слово араб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Группа 3"/>
          <p:cNvGrpSpPr/>
          <p:nvPr/>
        </p:nvGrpSpPr>
        <p:grpSpPr>
          <a:xfrm>
            <a:off x="136440" y="2674800"/>
            <a:ext cx="3787920" cy="2266920"/>
            <a:chOff x="136440" y="2674800"/>
            <a:chExt cx="3787920" cy="2266920"/>
          </a:xfrm>
        </p:grpSpPr>
        <p:sp>
          <p:nvSpPr>
            <p:cNvPr id="156" name="Выноска-облако 7"/>
            <p:cNvSpPr/>
            <p:nvPr/>
          </p:nvSpPr>
          <p:spPr>
            <a:xfrm>
              <a:off x="1187640" y="2674800"/>
              <a:ext cx="2736720" cy="2266920"/>
            </a:xfrm>
            <a:prstGeom prst="cloudCallout">
              <a:avLst>
                <a:gd name="adj1" fmla="val -67587"/>
                <a:gd name="adj2" fmla="val -32537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Террорист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Арабские цифр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Арабский алфави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7" name="Группа 22"/>
            <p:cNvGrpSpPr/>
            <p:nvPr/>
          </p:nvGrpSpPr>
          <p:grpSpPr>
            <a:xfrm>
              <a:off x="136440" y="3206880"/>
              <a:ext cx="324000" cy="702360"/>
              <a:chOff x="136440" y="3206880"/>
              <a:chExt cx="324000" cy="702360"/>
            </a:xfrm>
          </p:grpSpPr>
          <p:sp>
            <p:nvSpPr>
              <p:cNvPr id="158" name="Овал 23"/>
              <p:cNvSpPr/>
              <p:nvPr/>
            </p:nvSpPr>
            <p:spPr>
              <a:xfrm>
                <a:off x="172440" y="3206880"/>
                <a:ext cx="252000" cy="2210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Равнобедренный треугольник 24"/>
              <p:cNvSpPr/>
              <p:nvPr/>
            </p:nvSpPr>
            <p:spPr>
              <a:xfrm rot="10800000">
                <a:off x="136440" y="3448080"/>
                <a:ext cx="324000" cy="46116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0" name="Группа 25"/>
            <p:cNvGrpSpPr/>
            <p:nvPr/>
          </p:nvGrpSpPr>
          <p:grpSpPr>
            <a:xfrm>
              <a:off x="375120" y="2855520"/>
              <a:ext cx="324000" cy="702360"/>
              <a:chOff x="375120" y="2855520"/>
              <a:chExt cx="324000" cy="702360"/>
            </a:xfrm>
          </p:grpSpPr>
          <p:sp>
            <p:nvSpPr>
              <p:cNvPr id="161" name="Овал 26"/>
              <p:cNvSpPr/>
              <p:nvPr/>
            </p:nvSpPr>
            <p:spPr>
              <a:xfrm>
                <a:off x="411120" y="2855520"/>
                <a:ext cx="252000" cy="2210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Равнобедренный треугольник 27"/>
              <p:cNvSpPr/>
              <p:nvPr/>
            </p:nvSpPr>
            <p:spPr>
              <a:xfrm rot="10800000">
                <a:off x="375120" y="3096720"/>
                <a:ext cx="324000" cy="46116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3" name="Группа 28"/>
            <p:cNvGrpSpPr/>
            <p:nvPr/>
          </p:nvGrpSpPr>
          <p:grpSpPr>
            <a:xfrm>
              <a:off x="595080" y="3327480"/>
              <a:ext cx="324000" cy="702360"/>
              <a:chOff x="595080" y="3327480"/>
              <a:chExt cx="324000" cy="702360"/>
            </a:xfrm>
          </p:grpSpPr>
          <p:sp>
            <p:nvSpPr>
              <p:cNvPr id="164" name="Овал 29"/>
              <p:cNvSpPr/>
              <p:nvPr/>
            </p:nvSpPr>
            <p:spPr>
              <a:xfrm>
                <a:off x="631080" y="3327480"/>
                <a:ext cx="252000" cy="2210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Равнобедренный треугольник 30"/>
              <p:cNvSpPr/>
              <p:nvPr/>
            </p:nvSpPr>
            <p:spPr>
              <a:xfrm rot="10800000">
                <a:off x="595080" y="3568680"/>
                <a:ext cx="324000" cy="46116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66" name="Picture 2" descr="http://www.misterdann.com/muslimresponsestothecrusades.jpg"/>
          <p:cNvPicPr/>
          <p:nvPr/>
        </p:nvPicPr>
        <p:blipFill>
          <a:blip r:embed="rId1"/>
          <a:stretch/>
        </p:blipFill>
        <p:spPr>
          <a:xfrm>
            <a:off x="4422600" y="2879640"/>
            <a:ext cx="45183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tureo.ru/Karty/world.jpg"/>
          <p:cNvPicPr/>
          <p:nvPr/>
        </p:nvPicPr>
        <p:blipFill>
          <a:blip r:embed="rId2"/>
          <a:stretch/>
        </p:blipFill>
        <p:spPr>
          <a:xfrm>
            <a:off x="-36360" y="34920"/>
            <a:ext cx="92772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здание проблемной ситуаци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7"/>
          <p:cNvSpPr/>
          <p:nvPr/>
        </p:nvSpPr>
        <p:spPr>
          <a:xfrm>
            <a:off x="1187280" y="2674800"/>
            <a:ext cx="2737080" cy="2266920"/>
          </a:xfrm>
          <a:prstGeom prst="cloudCallout">
            <a:avLst>
              <a:gd name="adj1" fmla="val -67587"/>
              <a:gd name="adj2" fmla="val -3253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еррорис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рабские циф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рабский алфав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Группа 10"/>
          <p:cNvGrpSpPr/>
          <p:nvPr/>
        </p:nvGrpSpPr>
        <p:grpSpPr>
          <a:xfrm>
            <a:off x="8097480" y="3006720"/>
            <a:ext cx="647640" cy="1601280"/>
            <a:chOff x="8097480" y="3006720"/>
            <a:chExt cx="647640" cy="1601280"/>
          </a:xfrm>
        </p:grpSpPr>
        <p:sp>
          <p:nvSpPr>
            <p:cNvPr id="173" name="Овал 8"/>
            <p:cNvSpPr/>
            <p:nvPr/>
          </p:nvSpPr>
          <p:spPr>
            <a:xfrm>
              <a:off x="8169480" y="3006720"/>
              <a:ext cx="503640" cy="504000"/>
            </a:xfrm>
            <a:prstGeom prst="ellipse">
              <a:avLst/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Равнобедренный треугольник 9"/>
            <p:cNvSpPr/>
            <p:nvPr/>
          </p:nvSpPr>
          <p:spPr>
            <a:xfrm rot="10800000">
              <a:off x="8097480" y="3557160"/>
              <a:ext cx="647640" cy="1050840"/>
            </a:xfrm>
            <a:prstGeom prst="triangle">
              <a:avLst>
                <a:gd name="adj" fmla="val 50000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Скругленная прямоугольная выноска 11"/>
          <p:cNvSpPr/>
          <p:nvPr/>
        </p:nvSpPr>
        <p:spPr>
          <a:xfrm>
            <a:off x="5076720" y="2674800"/>
            <a:ext cx="2374920" cy="2266920"/>
          </a:xfrm>
          <a:prstGeom prst="wedgeRoundRectCallout">
            <a:avLst>
              <a:gd name="adj1" fmla="val 73282"/>
              <a:gd name="adj2" fmla="val -27754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ногие народы мира говорят на арабском языке, исповедуют исл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Штриховая стрелка вправо 13"/>
          <p:cNvSpPr/>
          <p:nvPr/>
        </p:nvSpPr>
        <p:spPr>
          <a:xfrm rot="5400000">
            <a:off x="2266560" y="4645080"/>
            <a:ext cx="497160" cy="1360440"/>
          </a:xfrm>
          <a:custGeom>
            <a:avLst/>
            <a:gdLst/>
            <a:ahLst/>
            <a:rect l="l" t="t" r="r" b="b"/>
            <a:pathLst>
              <a:path w="496503" h="1360116">
                <a:moveTo>
                  <a:pt x="0" y="340029"/>
                </a:moveTo>
                <a:lnTo>
                  <a:pt x="15516" y="340029"/>
                </a:lnTo>
                <a:lnTo>
                  <a:pt x="15516" y="1020087"/>
                </a:lnTo>
                <a:lnTo>
                  <a:pt x="0" y="1020087"/>
                </a:lnTo>
                <a:lnTo>
                  <a:pt x="0" y="340029"/>
                </a:lnTo>
                <a:close/>
                <a:moveTo>
                  <a:pt x="31031" y="340029"/>
                </a:moveTo>
                <a:lnTo>
                  <a:pt x="62063" y="340029"/>
                </a:lnTo>
                <a:lnTo>
                  <a:pt x="62063" y="1020087"/>
                </a:lnTo>
                <a:lnTo>
                  <a:pt x="31031" y="1020087"/>
                </a:lnTo>
                <a:lnTo>
                  <a:pt x="31031" y="340029"/>
                </a:lnTo>
                <a:close/>
                <a:moveTo>
                  <a:pt x="77579" y="340029"/>
                </a:moveTo>
                <a:lnTo>
                  <a:pt x="248252" y="340029"/>
                </a:lnTo>
                <a:lnTo>
                  <a:pt x="248252" y="0"/>
                </a:lnTo>
                <a:lnTo>
                  <a:pt x="496503" y="680058"/>
                </a:lnTo>
                <a:lnTo>
                  <a:pt x="248252" y="1360116"/>
                </a:lnTo>
                <a:lnTo>
                  <a:pt x="248252" y="1020087"/>
                </a:lnTo>
                <a:lnTo>
                  <a:pt x="77579" y="1020087"/>
                </a:lnTo>
                <a:lnTo>
                  <a:pt x="77579" y="34002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с двумя вырезанными соседними углами 14"/>
          <p:cNvSpPr/>
          <p:nvPr/>
        </p:nvSpPr>
        <p:spPr>
          <a:xfrm>
            <a:off x="1187280" y="5589720"/>
            <a:ext cx="6621480" cy="96984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блемный вопрос: «Что позволило арабам распространить своё влияние на мир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Штриховая стрелка вправо 15"/>
          <p:cNvSpPr/>
          <p:nvPr/>
        </p:nvSpPr>
        <p:spPr>
          <a:xfrm rot="5400000">
            <a:off x="6015240" y="4661640"/>
            <a:ext cx="497160" cy="1359000"/>
          </a:xfrm>
          <a:custGeom>
            <a:avLst/>
            <a:gdLst/>
            <a:ahLst/>
            <a:rect l="l" t="t" r="r" b="b"/>
            <a:pathLst>
              <a:path w="496503" h="1360116">
                <a:moveTo>
                  <a:pt x="0" y="340029"/>
                </a:moveTo>
                <a:lnTo>
                  <a:pt x="15516" y="340029"/>
                </a:lnTo>
                <a:lnTo>
                  <a:pt x="15516" y="1020087"/>
                </a:lnTo>
                <a:lnTo>
                  <a:pt x="0" y="1020087"/>
                </a:lnTo>
                <a:lnTo>
                  <a:pt x="0" y="340029"/>
                </a:lnTo>
                <a:close/>
                <a:moveTo>
                  <a:pt x="31031" y="340029"/>
                </a:moveTo>
                <a:lnTo>
                  <a:pt x="62063" y="340029"/>
                </a:lnTo>
                <a:lnTo>
                  <a:pt x="62063" y="1020087"/>
                </a:lnTo>
                <a:lnTo>
                  <a:pt x="31031" y="1020087"/>
                </a:lnTo>
                <a:lnTo>
                  <a:pt x="31031" y="340029"/>
                </a:lnTo>
                <a:close/>
                <a:moveTo>
                  <a:pt x="77579" y="340029"/>
                </a:moveTo>
                <a:lnTo>
                  <a:pt x="248252" y="340029"/>
                </a:lnTo>
                <a:lnTo>
                  <a:pt x="248252" y="0"/>
                </a:lnTo>
                <a:lnTo>
                  <a:pt x="496503" y="680058"/>
                </a:lnTo>
                <a:lnTo>
                  <a:pt x="248252" y="1360116"/>
                </a:lnTo>
                <a:lnTo>
                  <a:pt x="248252" y="1020087"/>
                </a:lnTo>
                <a:lnTo>
                  <a:pt x="77579" y="1020087"/>
                </a:lnTo>
                <a:lnTo>
                  <a:pt x="77579" y="34002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Двойная стрелка влево/вправо 16"/>
          <p:cNvSpPr/>
          <p:nvPr/>
        </p:nvSpPr>
        <p:spPr>
          <a:xfrm>
            <a:off x="3708360" y="3422520"/>
            <a:ext cx="1584360" cy="824040"/>
          </a:xfrm>
          <a:prstGeom prst="leftRightArrow">
            <a:avLst>
              <a:gd name="adj1" fmla="val 52287"/>
              <a:gd name="adj2" fmla="val 614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17"/>
          <p:cNvSpPr/>
          <p:nvPr/>
        </p:nvSpPr>
        <p:spPr>
          <a:xfrm>
            <a:off x="179280" y="719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бразование Арабского Халифата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6 кл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8"/>
          <p:cNvSpPr/>
          <p:nvPr/>
        </p:nvSpPr>
        <p:spPr>
          <a:xfrm>
            <a:off x="179280" y="1316160"/>
            <a:ext cx="878544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прос учителя: Какие ассоциации возникают у вас, когда вы слышите слово араб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Группа 22"/>
          <p:cNvGrpSpPr/>
          <p:nvPr/>
        </p:nvGrpSpPr>
        <p:grpSpPr>
          <a:xfrm>
            <a:off x="107640" y="3206880"/>
            <a:ext cx="323640" cy="701280"/>
            <a:chOff x="107640" y="3206880"/>
            <a:chExt cx="323640" cy="701280"/>
          </a:xfrm>
        </p:grpSpPr>
        <p:sp>
          <p:nvSpPr>
            <p:cNvPr id="183" name="Овал 23"/>
            <p:cNvSpPr/>
            <p:nvPr/>
          </p:nvSpPr>
          <p:spPr>
            <a:xfrm>
              <a:off x="143640" y="3206880"/>
              <a:ext cx="251640" cy="2206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Равнобедренный треугольник 24"/>
            <p:cNvSpPr/>
            <p:nvPr/>
          </p:nvSpPr>
          <p:spPr>
            <a:xfrm rot="10800000">
              <a:off x="107640" y="3447720"/>
              <a:ext cx="323640" cy="46044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Группа 25"/>
          <p:cNvGrpSpPr/>
          <p:nvPr/>
        </p:nvGrpSpPr>
        <p:grpSpPr>
          <a:xfrm>
            <a:off x="345960" y="2855880"/>
            <a:ext cx="324000" cy="701280"/>
            <a:chOff x="345960" y="2855880"/>
            <a:chExt cx="324000" cy="701280"/>
          </a:xfrm>
        </p:grpSpPr>
        <p:sp>
          <p:nvSpPr>
            <p:cNvPr id="186" name="Овал 26"/>
            <p:cNvSpPr/>
            <p:nvPr/>
          </p:nvSpPr>
          <p:spPr>
            <a:xfrm>
              <a:off x="381960" y="2855880"/>
              <a:ext cx="252000" cy="2206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Равнобедренный треугольник 27"/>
            <p:cNvSpPr/>
            <p:nvPr/>
          </p:nvSpPr>
          <p:spPr>
            <a:xfrm rot="10800000">
              <a:off x="345960" y="3096720"/>
              <a:ext cx="324000" cy="46044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Группа 28"/>
          <p:cNvGrpSpPr/>
          <p:nvPr/>
        </p:nvGrpSpPr>
        <p:grpSpPr>
          <a:xfrm>
            <a:off x="566640" y="3327480"/>
            <a:ext cx="324000" cy="703080"/>
            <a:chOff x="566640" y="3327480"/>
            <a:chExt cx="324000" cy="703080"/>
          </a:xfrm>
        </p:grpSpPr>
        <p:sp>
          <p:nvSpPr>
            <p:cNvPr id="189" name="Овал 29"/>
            <p:cNvSpPr/>
            <p:nvPr/>
          </p:nvSpPr>
          <p:spPr>
            <a:xfrm>
              <a:off x="602640" y="3327480"/>
              <a:ext cx="252000" cy="221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Равнобедренный треугольник 30"/>
            <p:cNvSpPr/>
            <p:nvPr/>
          </p:nvSpPr>
          <p:spPr>
            <a:xfrm rot="10800000">
              <a:off x="566640" y="3569040"/>
              <a:ext cx="324000" cy="46152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Скругленный прямоугольник 4"/>
          <p:cNvSpPr/>
          <p:nvPr/>
        </p:nvSpPr>
        <p:spPr>
          <a:xfrm>
            <a:off x="395280" y="549360"/>
            <a:ext cx="2592360" cy="3024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024000"/>
              <a:gd name="textAreaBottom" fmla="*/ 2897640 h 3024000"/>
            </a:gdLst>
            <a:ahLst/>
            <a:rect l="textAreaLeft" t="textAreaTop" r="textAreaRight" b="textAreaBottom"/>
            <a:pathLst>
              <a:path w="21600" h="25196">
                <a:moveTo>
                  <a:pt x="3600" y="0"/>
                </a:moveTo>
                <a:arcTo wR="3600" hR="3600" stAng="16200000" swAng="-5400000"/>
                <a:lnTo>
                  <a:pt x="0" y="21596"/>
                </a:lnTo>
                <a:arcTo wR="3600" hR="3600" stAng="10800000" swAng="-5400000"/>
                <a:lnTo>
                  <a:pt x="18000" y="25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Скругленный прямоугольник 7"/>
          <p:cNvSpPr/>
          <p:nvPr/>
        </p:nvSpPr>
        <p:spPr>
          <a:xfrm>
            <a:off x="3203640" y="549360"/>
            <a:ext cx="2592360" cy="3024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024000"/>
              <a:gd name="textAreaBottom" fmla="*/ 2897640 h 3024000"/>
            </a:gdLst>
            <a:ahLst/>
            <a:rect l="textAreaLeft" t="textAreaTop" r="textAreaRight" b="textAreaBottom"/>
            <a:pathLst>
              <a:path w="21600" h="25196">
                <a:moveTo>
                  <a:pt x="3600" y="0"/>
                </a:moveTo>
                <a:arcTo wR="3600" hR="3600" stAng="16200000" swAng="-5400000"/>
                <a:lnTo>
                  <a:pt x="0" y="21596"/>
                </a:lnTo>
                <a:arcTo wR="3600" hR="3600" stAng="10800000" swAng="-5400000"/>
                <a:lnTo>
                  <a:pt x="18000" y="25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8"/>
          <p:cNvSpPr/>
          <p:nvPr/>
        </p:nvSpPr>
        <p:spPr>
          <a:xfrm>
            <a:off x="6156360" y="549360"/>
            <a:ext cx="2592360" cy="302400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024000"/>
              <a:gd name="textAreaBottom" fmla="*/ 2897640 h 3024000"/>
            </a:gdLst>
            <a:ahLst/>
            <a:rect l="textAreaLeft" t="textAreaTop" r="textAreaRight" b="textAreaBottom"/>
            <a:pathLst>
              <a:path w="21600" h="25196">
                <a:moveTo>
                  <a:pt x="3600" y="0"/>
                </a:moveTo>
                <a:arcTo wR="3600" hR="3600" stAng="16200000" swAng="-5400000"/>
                <a:lnTo>
                  <a:pt x="0" y="21596"/>
                </a:lnTo>
                <a:arcTo wR="3600" hR="3600" stAng="10800000" swAng="-5400000"/>
                <a:lnTo>
                  <a:pt x="18000" y="25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Двойная стрелка влево/вправо 9"/>
          <p:cNvSpPr/>
          <p:nvPr/>
        </p:nvSpPr>
        <p:spPr>
          <a:xfrm>
            <a:off x="795240" y="649440"/>
            <a:ext cx="7593120" cy="647640"/>
          </a:xfrm>
          <a:prstGeom prst="leftRightArrow">
            <a:avLst>
              <a:gd name="adj1" fmla="val 66380"/>
              <a:gd name="adj2" fmla="val 45323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ути решения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Овал 10"/>
          <p:cNvSpPr/>
          <p:nvPr/>
        </p:nvSpPr>
        <p:spPr>
          <a:xfrm>
            <a:off x="1042920" y="1370160"/>
            <a:ext cx="1297080" cy="69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Овал 11"/>
          <p:cNvSpPr/>
          <p:nvPr/>
        </p:nvSpPr>
        <p:spPr>
          <a:xfrm>
            <a:off x="3851280" y="1401840"/>
            <a:ext cx="1297080" cy="69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Овал 12"/>
          <p:cNvSpPr/>
          <p:nvPr/>
        </p:nvSpPr>
        <p:spPr>
          <a:xfrm>
            <a:off x="6804000" y="1427040"/>
            <a:ext cx="1297080" cy="690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468360" y="220500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екст учебника и картой «Завоевания арабо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3330720" y="220500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екст и иллюстрации к произведению «Тысяча и одна ноч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6156360" y="220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екст учебника и портретами «Великие арабские учены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Выноска со стрелками влево/вправо 16"/>
          <p:cNvSpPr/>
          <p:nvPr/>
        </p:nvSpPr>
        <p:spPr>
          <a:xfrm rot="16200000">
            <a:off x="690480" y="3554280"/>
            <a:ext cx="1943280" cy="2197440"/>
          </a:xfrm>
          <a:custGeom>
            <a:avLst/>
            <a:gdLst>
              <a:gd name="textAreaLeft" fmla="*/ 419040 w 1943280"/>
              <a:gd name="textAreaRight" fmla="*/ 1524240 w 1943280"/>
              <a:gd name="textAreaTop" fmla="*/ 0 h 2197440"/>
              <a:gd name="textAreaBottom" fmla="*/ 2197800 h 2197440"/>
            </a:gdLst>
            <a:ahLst/>
            <a:rect l="textAreaLeft" t="textAreaTop" r="textAreaRight" b="textAreaBottom"/>
            <a:pathLst>
              <a:path w="21600" h="21600">
                <a:moveTo>
                  <a:pt x="4660" y="0"/>
                </a:moveTo>
                <a:lnTo>
                  <a:pt x="16940" y="0"/>
                </a:lnTo>
                <a:lnTo>
                  <a:pt x="16940" y="8317"/>
                </a:lnTo>
                <a:lnTo>
                  <a:pt x="18714" y="8317"/>
                </a:lnTo>
                <a:lnTo>
                  <a:pt x="18714" y="6020"/>
                </a:lnTo>
                <a:lnTo>
                  <a:pt x="21600" y="10800"/>
                </a:lnTo>
                <a:lnTo>
                  <a:pt x="18714" y="15580"/>
                </a:lnTo>
                <a:lnTo>
                  <a:pt x="18714" y="13283"/>
                </a:lnTo>
                <a:lnTo>
                  <a:pt x="16940" y="13283"/>
                </a:lnTo>
                <a:lnTo>
                  <a:pt x="16940" y="21600"/>
                </a:lnTo>
                <a:lnTo>
                  <a:pt x="4660" y="21600"/>
                </a:lnTo>
                <a:lnTo>
                  <a:pt x="4660" y="13283"/>
                </a:lnTo>
                <a:lnTo>
                  <a:pt x="2886" y="13283"/>
                </a:lnTo>
                <a:lnTo>
                  <a:pt x="2886" y="15580"/>
                </a:lnTo>
                <a:lnTo>
                  <a:pt x="0" y="10800"/>
                </a:lnTo>
                <a:lnTo>
                  <a:pt x="2886" y="6020"/>
                </a:lnTo>
                <a:lnTo>
                  <a:pt x="2886" y="8317"/>
                </a:lnTo>
                <a:lnTo>
                  <a:pt x="4660" y="831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Выноска со стрелками влево/вправо 17"/>
          <p:cNvSpPr/>
          <p:nvPr/>
        </p:nvSpPr>
        <p:spPr>
          <a:xfrm rot="16200000">
            <a:off x="3582000" y="3531240"/>
            <a:ext cx="1943280" cy="2195640"/>
          </a:xfrm>
          <a:custGeom>
            <a:avLst/>
            <a:gdLst>
              <a:gd name="textAreaLeft" fmla="*/ 419040 w 1943280"/>
              <a:gd name="textAreaRight" fmla="*/ 1524240 w 1943280"/>
              <a:gd name="textAreaTop" fmla="*/ 0 h 2195640"/>
              <a:gd name="textAreaBottom" fmla="*/ 2195640 h 2195640"/>
            </a:gdLst>
            <a:ahLst/>
            <a:rect l="textAreaLeft" t="textAreaTop" r="textAreaRight" b="textAreaBottom"/>
            <a:pathLst>
              <a:path w="21600" h="21600">
                <a:moveTo>
                  <a:pt x="4660" y="0"/>
                </a:moveTo>
                <a:lnTo>
                  <a:pt x="16940" y="0"/>
                </a:lnTo>
                <a:lnTo>
                  <a:pt x="16940" y="8317"/>
                </a:lnTo>
                <a:lnTo>
                  <a:pt x="18714" y="8317"/>
                </a:lnTo>
                <a:lnTo>
                  <a:pt x="18714" y="6020"/>
                </a:lnTo>
                <a:lnTo>
                  <a:pt x="21600" y="10800"/>
                </a:lnTo>
                <a:lnTo>
                  <a:pt x="18714" y="15580"/>
                </a:lnTo>
                <a:lnTo>
                  <a:pt x="18714" y="13283"/>
                </a:lnTo>
                <a:lnTo>
                  <a:pt x="16940" y="13283"/>
                </a:lnTo>
                <a:lnTo>
                  <a:pt x="16940" y="21600"/>
                </a:lnTo>
                <a:lnTo>
                  <a:pt x="4660" y="21600"/>
                </a:lnTo>
                <a:lnTo>
                  <a:pt x="4660" y="13283"/>
                </a:lnTo>
                <a:lnTo>
                  <a:pt x="2886" y="13283"/>
                </a:lnTo>
                <a:lnTo>
                  <a:pt x="2886" y="15580"/>
                </a:lnTo>
                <a:lnTo>
                  <a:pt x="0" y="10800"/>
                </a:lnTo>
                <a:lnTo>
                  <a:pt x="2886" y="6020"/>
                </a:lnTo>
                <a:lnTo>
                  <a:pt x="2886" y="8317"/>
                </a:lnTo>
                <a:lnTo>
                  <a:pt x="4660" y="831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Выноска со стрелками влево/вправо 18"/>
          <p:cNvSpPr/>
          <p:nvPr/>
        </p:nvSpPr>
        <p:spPr>
          <a:xfrm rot="16200000">
            <a:off x="6480720" y="3531240"/>
            <a:ext cx="1943280" cy="2195640"/>
          </a:xfrm>
          <a:custGeom>
            <a:avLst/>
            <a:gdLst>
              <a:gd name="textAreaLeft" fmla="*/ 419040 w 1943280"/>
              <a:gd name="textAreaRight" fmla="*/ 1524240 w 1943280"/>
              <a:gd name="textAreaTop" fmla="*/ 0 h 2195640"/>
              <a:gd name="textAreaBottom" fmla="*/ 2195640 h 2195640"/>
            </a:gdLst>
            <a:ahLst/>
            <a:rect l="textAreaLeft" t="textAreaTop" r="textAreaRight" b="textAreaBottom"/>
            <a:pathLst>
              <a:path w="21600" h="21600">
                <a:moveTo>
                  <a:pt x="4660" y="0"/>
                </a:moveTo>
                <a:lnTo>
                  <a:pt x="16940" y="0"/>
                </a:lnTo>
                <a:lnTo>
                  <a:pt x="16940" y="8317"/>
                </a:lnTo>
                <a:lnTo>
                  <a:pt x="18714" y="8317"/>
                </a:lnTo>
                <a:lnTo>
                  <a:pt x="18714" y="6020"/>
                </a:lnTo>
                <a:lnTo>
                  <a:pt x="21600" y="10800"/>
                </a:lnTo>
                <a:lnTo>
                  <a:pt x="18714" y="15580"/>
                </a:lnTo>
                <a:lnTo>
                  <a:pt x="18714" y="13283"/>
                </a:lnTo>
                <a:lnTo>
                  <a:pt x="16940" y="13283"/>
                </a:lnTo>
                <a:lnTo>
                  <a:pt x="16940" y="21600"/>
                </a:lnTo>
                <a:lnTo>
                  <a:pt x="4660" y="21600"/>
                </a:lnTo>
                <a:lnTo>
                  <a:pt x="4660" y="13283"/>
                </a:lnTo>
                <a:lnTo>
                  <a:pt x="2886" y="13283"/>
                </a:lnTo>
                <a:lnTo>
                  <a:pt x="2886" y="15580"/>
                </a:lnTo>
                <a:lnTo>
                  <a:pt x="0" y="10800"/>
                </a:lnTo>
                <a:lnTo>
                  <a:pt x="2886" y="6020"/>
                </a:lnTo>
                <a:lnTo>
                  <a:pt x="2886" y="8317"/>
                </a:lnTo>
                <a:lnTo>
                  <a:pt x="4660" y="831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Овал 19"/>
          <p:cNvSpPr/>
          <p:nvPr/>
        </p:nvSpPr>
        <p:spPr>
          <a:xfrm>
            <a:off x="822240" y="4282920"/>
            <a:ext cx="1689120" cy="690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вод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Овал 20"/>
          <p:cNvSpPr/>
          <p:nvPr/>
        </p:nvSpPr>
        <p:spPr>
          <a:xfrm>
            <a:off x="3710160" y="4308480"/>
            <a:ext cx="1688760" cy="69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вод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вал 21"/>
          <p:cNvSpPr/>
          <p:nvPr/>
        </p:nvSpPr>
        <p:spPr>
          <a:xfrm>
            <a:off x="6607080" y="4282920"/>
            <a:ext cx="1689120" cy="690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вод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Блок-схема: альтернативный процесс 22"/>
          <p:cNvSpPr/>
          <p:nvPr/>
        </p:nvSpPr>
        <p:spPr>
          <a:xfrm>
            <a:off x="795240" y="5732640"/>
            <a:ext cx="7593120" cy="7207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ий вывод по проблемному вопро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ассный  час «История праздни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нь Победы» (1-11 к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мвол  Победы над фашизмом -  Красное знамя  над зданием Рейхстага было водружено 30 апреля 1945 бойцами 150- й стрелковой дивизии М.А Егоровым и М.В Канта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 о безоговорочной капитуляции Германии был подписан 8 мая 1945 года в Карлхорсте под Берлином. От имени СССР подпись под документом поставил маршал Г.К. Жу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большинстве стран мира, как и в России, День Победы отмечается 9 м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Что вас удивило? Какое противоречие налицо? Какой возникает вопрос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 ОРКСЭ  «Мораль и её основные принципы» (4-5 кл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56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о все времена общественная мораль осуждала пиратство, как способ существования. По законам многих государств, к пойманным пиратам применялись самые суровые меры наказ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олько в прошлом году сомалийские пираты более 100 раз нападали на торговые суда и захватили 35 из них. В настоящее время они удерживают в заложниках около 300 человек и 17 кораблей. По различным оценкам, за год пиратам в регионе Сомали удалось получить 120—150 млн долларов в виде выкупов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Четвертая часть «Пиратов Карибского моря», как и ожидалось, установила лидерство в международном прокате. Однако ее экстраординарные успехи в российском прокате превзошли все ожидания. За время пятидневного (18–22 мая 2014 года) проката «Пиратов» в России фильм заработал более $28 млн.» («Пираты Карибского моря» поставили рекорд по кассовым сборам в России. </a:t>
            </a:r>
            <a:r>
              <a:rPr b="0" lang="ru-RU" sz="2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ru-RU" sz="2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vsesmi.ru</a:t>
            </a:r>
            <a:r>
              <a:rPr b="0" lang="ru-RU" sz="2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«Что вас удивило? Какое противоречие налицо? Какой возникает вопрос?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5:45:37Z</dcterms:created>
  <dc:creator>User</dc:creator>
  <dc:description/>
  <dc:language>en-US</dc:language>
  <cp:lastModifiedBy>2</cp:lastModifiedBy>
  <cp:lastPrinted>2015-03-22T06:56:35Z</cp:lastPrinted>
  <dcterms:modified xsi:type="dcterms:W3CDTF">2015-03-22T07:59:19Z</dcterms:modified>
  <cp:revision>11</cp:revision>
  <dc:subject/>
  <dc:title>Проблемный диалог, как средство развития универсальных учебных действий</dc:title>
</cp:coreProperties>
</file>