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4339-3F37-472F-9513-24609DE16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5840-3576-4720-B463-788D6F63B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54FE-C93A-4002-BA98-FF88CAD70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54F9-D033-4623-BB2F-7ED3020BA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CD8B-4885-4ABC-94AD-5488CFE6F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60B7-F711-4F97-BE9B-CACD9E97D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9C7F-0CFC-4C7E-A23C-BFA514CF0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6BCF-DFCF-4239-876F-DB6A9576C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DD72-9EAF-4BDA-B114-889DB88D6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BBED-66E0-4680-8E2F-D3EAABBA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1100-42F9-4BE1-947A-4B536A10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8196-AA8D-45D0-875B-2F2E3322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C9F74-59E8-4458-B4AD-3E3177C353BF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Рисунок 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оугольник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"/>
          <p:cNvPicPr/>
          <p:nvPr/>
        </p:nvPicPr>
        <p:blipFill>
          <a:blip r:embed="rId1"/>
          <a:stretch/>
        </p:blipFill>
        <p:spPr>
          <a:xfrm>
            <a:off x="0" y="-262080"/>
            <a:ext cx="9493200" cy="7120080"/>
          </a:xfrm>
          <a:prstGeom prst="rect">
            <a:avLst/>
          </a:prstGeom>
          <a:ln w="0">
            <a:noFill/>
          </a:ln>
        </p:spPr>
      </p:pic>
      <p:pic>
        <p:nvPicPr>
          <p:cNvPr id="44" name="Заголовок 1" descr=""/>
          <p:cNvPicPr/>
          <p:nvPr/>
        </p:nvPicPr>
        <p:blipFill>
          <a:blip r:embed="rId2"/>
          <a:stretch/>
        </p:blipFill>
        <p:spPr>
          <a:xfrm>
            <a:off x="1249200" y="1517760"/>
            <a:ext cx="12801600" cy="40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699840"/>
            <a:ext cx="7151760" cy="87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 Light"/>
              </a:rPr>
              <a:t>Организация работы школьного консилиума</a:t>
            </a:r>
            <a:br>
              <a:rPr sz="3000"/>
            </a:b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302840" y="1698480"/>
            <a:ext cx="6139080" cy="21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alibri"/>
              </a:rPr>
              <a:t>1</a:t>
            </a:r>
            <a:r>
              <a:rPr b="0" lang="ru-RU" sz="4000" spc="-1" strike="noStrike">
                <a:solidFill>
                  <a:srgbClr val="0033cc"/>
                </a:solidFill>
                <a:latin typeface="Calibri"/>
              </a:rPr>
              <a:t>.Подготовительный эта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Calibri"/>
              </a:rPr>
              <a:t>2. Основной эта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Calibri"/>
              </a:rPr>
              <a:t>3. Итоговый эта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12920" y="382320"/>
            <a:ext cx="616248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000" spc="-1" strike="noStrike">
                <a:solidFill>
                  <a:srgbClr val="ff0048"/>
                </a:solidFill>
                <a:latin typeface="Calibri Light"/>
              </a:rPr>
              <a:t>Виды консилиумной деятельности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135080" y="779040"/>
            <a:ext cx="6688080" cy="541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0033cc"/>
                </a:solidFill>
                <a:latin typeface="Calibri"/>
              </a:rPr>
              <a:t> </a:t>
            </a:r>
            <a:r>
              <a:rPr b="1" lang="ru-RU" sz="2100" spc="-1" strike="noStrike" u="sng">
                <a:solidFill>
                  <a:srgbClr val="0033cc"/>
                </a:solidFill>
                <a:uFillTx/>
                <a:latin typeface="Calibri"/>
              </a:rPr>
              <a:t>Плановые консилиумы</a:t>
            </a:r>
            <a:r>
              <a:rPr b="1" lang="ru-RU" sz="2100" spc="-1" strike="noStrike">
                <a:solidFill>
                  <a:srgbClr val="0033cc"/>
                </a:solidFill>
                <a:latin typeface="Calibri"/>
              </a:rPr>
              <a:t> (проводятся не реже 1 раза в четверть), которое проводятся по следующей тематике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0033cc"/>
                </a:solidFill>
                <a:latin typeface="Calibri"/>
              </a:rPr>
              <a:t>Проблемы адаптации в ситуации школьного обучения учащихся 1 классов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0033cc"/>
                </a:solidFill>
                <a:latin typeface="Calibri"/>
              </a:rPr>
              <a:t>Проблемы готовности к обучению в среднем звене учащихся 4 классов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0033cc"/>
                </a:solidFill>
                <a:latin typeface="Calibri"/>
              </a:rPr>
              <a:t>Проблемы адаптации к ситуации предметного обучения учащихся 5 классов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0033cc"/>
                </a:solidFill>
                <a:latin typeface="Calibri"/>
              </a:rPr>
              <a:t>Сопровождение учащихся обучающихся по адаптированным общеобразовательным программам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0033cc"/>
                </a:solidFill>
                <a:latin typeface="Calibri"/>
              </a:rPr>
              <a:t>Оценка эффективности коррекционно-развивающей работы с учащимися, находящимися на сопровождении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 u="sng">
                <a:solidFill>
                  <a:srgbClr val="0033cc"/>
                </a:solidFill>
                <a:uFillTx/>
                <a:latin typeface="Calibri"/>
              </a:rPr>
              <a:t>Внеплановое заседание консилиума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5480" y="542520"/>
            <a:ext cx="662004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000" spc="-1" strike="noStrike">
                <a:solidFill>
                  <a:srgbClr val="ff0048"/>
                </a:solidFill>
                <a:latin typeface="Calibri Light"/>
              </a:rPr>
              <a:t>Педагогические технологии, обеспечивающие реализацию АООП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227240" y="1295280"/>
          <a:ext cx="6578640" cy="5114880"/>
        </p:xfrm>
        <a:graphic>
          <a:graphicData uri="http://schemas.openxmlformats.org/drawingml/2006/table">
            <a:tbl>
              <a:tblPr/>
              <a:tblGrid>
                <a:gridCol w="1176120"/>
                <a:gridCol w="5402520"/>
              </a:tblGrid>
              <a:tr h="1397160"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Традиционные технологии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marL="290520" indent="-88920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33cc"/>
                          </a:solidFill>
                          <a:latin typeface="Times New Roman"/>
                          <a:ea typeface="Calibri"/>
                        </a:rPr>
                        <a:t>- коллективный способ обучения и воспитания (КСО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90520" indent="-88920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33cc"/>
                          </a:solidFill>
                          <a:latin typeface="Times New Roman"/>
                          <a:ea typeface="Calibri"/>
                        </a:rPr>
                        <a:t>- блочное обучение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90520" indent="-88920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33cc"/>
                          </a:solidFill>
                          <a:latin typeface="Times New Roman"/>
                          <a:ea typeface="Calibri"/>
                        </a:rPr>
                        <a:t>- поэтапное формирование умственных действий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90520" indent="-88920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33cc"/>
                          </a:solidFill>
                          <a:latin typeface="Times New Roman"/>
                          <a:ea typeface="Calibri"/>
                        </a:rPr>
                        <a:t>- разноуровневое обучение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90520" indent="-88920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33cc"/>
                          </a:solidFill>
                          <a:latin typeface="Times New Roman"/>
                          <a:ea typeface="Calibri"/>
                        </a:rPr>
                        <a:t>- технологию индивидуализированного обучения Р. А. Кистенево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90520" indent="-88920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33cc"/>
                          </a:solidFill>
                          <a:latin typeface="Times New Roman"/>
                          <a:ea typeface="Calibri"/>
                        </a:rPr>
                        <a:t>- элементы ИК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90520" indent="-88920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700" spc="-1" strike="noStrike">
                          <a:solidFill>
                            <a:srgbClr val="0033cc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7720"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Технологии активных форм, методов и приемов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marL="268200" indent="-93600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- уроки - путешествия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68200" indent="-93600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- уроки-сказки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68200" indent="-93600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-  игра по станциям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68200" indent="-93600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-  путешествие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68200" indent="-93600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- тест-викторина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68200" indent="-93600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- мини-спектакль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68200" indent="-93600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- виртуальная экскурсия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68200" indent="-93600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- ролевые иг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68200" indent="-93600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- игровые технологии (коррекционно-развивающие игры и упражнения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68200" indent="-93600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- проектная технология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68200" indent="-93600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- критического мышления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68200" indent="-93600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- работа с текстом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68200" indent="-93600">
                        <a:lnSpc>
                          <a:spcPct val="107000"/>
                        </a:lnSpc>
                        <a:buClr>
                          <a:srgbClr val="0033cc"/>
                        </a:buClr>
                        <a:buFont typeface="Times New Roman"/>
                        <a:buChar char="-"/>
                        <a:tabLst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технология дифференцированного обучения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68200" indent="-93600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-  технология деятельностного обучения;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- технология интегрированного обучения; 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- ведение ученического «Портфолио»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68200" indent="-93600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- работа в парах и группах и т. д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68200" indent="-93600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- компьютерные технологии (во внеклассной работ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087560" y="566640"/>
          <a:ext cx="6765840" cy="5543640"/>
        </p:xfrm>
        <a:graphic>
          <a:graphicData uri="http://schemas.openxmlformats.org/drawingml/2006/table">
            <a:tbl>
              <a:tblPr/>
              <a:tblGrid>
                <a:gridCol w="1985760"/>
                <a:gridCol w="4780080"/>
              </a:tblGrid>
              <a:tr h="3588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Здоровьесберегающие технологии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90520" indent="-88920">
                        <a:lnSpc>
                          <a:spcPct val="107000"/>
                        </a:lnSpc>
                        <a:tabLst>
                          <a:tab algn="l" pos="0"/>
                          <a:tab algn="l" pos="11124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- пальчиковая гимнастика А. П. Савиной, методы оздоровления, занятия в спортивных кружках и секциях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90520" indent="-88920">
                        <a:lnSpc>
                          <a:spcPct val="107000"/>
                        </a:lnSpc>
                        <a:tabLst>
                          <a:tab algn="l" pos="0"/>
                          <a:tab algn="l" pos="11124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- гимнастика для глаз Е. А. Каралашвили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90520" indent="-88920">
                        <a:lnSpc>
                          <a:spcPct val="107000"/>
                        </a:lnSpc>
                        <a:tabLst>
                          <a:tab algn="l" pos="0"/>
                          <a:tab algn="l" pos="11124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- различные дыхательные упражнения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90520" indent="-88920">
                        <a:lnSpc>
                          <a:spcPct val="107000"/>
                        </a:lnSpc>
                        <a:tabLst>
                          <a:tab algn="l" pos="0"/>
                          <a:tab algn="l" pos="11124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- элементы самомассажа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90520" indent="-88920">
                        <a:lnSpc>
                          <a:spcPct val="107000"/>
                        </a:lnSpc>
                        <a:tabLst>
                          <a:tab algn="l" pos="0"/>
                          <a:tab algn="l" pos="11124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- прогулки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90520" indent="-88920">
                        <a:lnSpc>
                          <a:spcPct val="107000"/>
                        </a:lnSpc>
                        <a:tabLst>
                          <a:tab algn="l" pos="0"/>
                          <a:tab algn="l" pos="11124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- пешеходные экскурси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7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Авторские педагогические технологии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90520" indent="-88920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- технологии индивидуального и дифференцированного подхода В. В. Воронковой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90520" indent="-88920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- технологии личностно-ориентированного подхода И.С. Якиманской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23480" y="731880"/>
            <a:ext cx="668988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000"/>
            </a:br>
            <a:r>
              <a:rPr b="1" lang="ru-RU" sz="3200" spc="-1" strike="noStrike">
                <a:solidFill>
                  <a:srgbClr val="ff0048"/>
                </a:solidFill>
                <a:latin typeface="Calibri Light"/>
              </a:rPr>
              <a:t>Коррекционная направленность урока</a:t>
            </a:r>
            <a:br>
              <a:rPr sz="3000"/>
            </a:b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023480" y="1550520"/>
            <a:ext cx="6689880" cy="436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Font typeface="Times New Roman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Calibri"/>
              </a:rPr>
              <a:t>применение специальных коррекционно-развивающих упражнений для совершенствования высших психических функций, эмоционально-волевой, познавательной сфер и пр., включение заданий с опорой на несколько анализаторов и пр.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Font typeface="Times New Roman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Calibri"/>
              </a:rPr>
              <a:t>исправление и компенсация имеющихся недостатков специальными педагогическими приемам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Объект 3" descr="https://www.metod-kopilka.ru/images/doc/62/63571/img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Заголовок 1" descr=""/>
          <p:cNvPicPr/>
          <p:nvPr/>
        </p:nvPicPr>
        <p:blipFill>
          <a:blip r:embed="rId1"/>
          <a:stretch/>
        </p:blipFill>
        <p:spPr>
          <a:xfrm>
            <a:off x="652320" y="414360"/>
            <a:ext cx="6858000" cy="853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846000" y="1447920"/>
          <a:ext cx="6934320" cy="2444760"/>
        </p:xfrm>
        <a:graphic>
          <a:graphicData uri="http://schemas.openxmlformats.org/drawingml/2006/table">
            <a:tbl>
              <a:tblPr/>
              <a:tblGrid>
                <a:gridCol w="820800"/>
                <a:gridCol w="411120"/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  <a:gridCol w="474480"/>
                <a:gridCol w="476280"/>
                <a:gridCol w="355680"/>
                <a:gridCol w="353880"/>
                <a:gridCol w="708120"/>
              </a:tblGrid>
              <a:tr h="21348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лас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 по О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1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чальное зве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100" spc="-1" strike="noStrike">
                          <a:solidFill>
                            <a:srgbClr val="0033cc"/>
                          </a:solidFill>
                          <a:latin typeface="Times New Roman"/>
                          <a:ea typeface="Calibri"/>
                        </a:rPr>
                        <a:t>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100" spc="-1" strike="noStrike">
                          <a:solidFill>
                            <a:srgbClr val="0033cc"/>
                          </a:solidFill>
                          <a:latin typeface="Times New Roman"/>
                          <a:ea typeface="Calibri"/>
                        </a:rPr>
                        <a:t>1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еднее зве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100" spc="-1" strike="noStrike">
                          <a:solidFill>
                            <a:srgbClr val="0033cc"/>
                          </a:solidFill>
                          <a:latin typeface="Times New Roman"/>
                          <a:ea typeface="Calibri"/>
                        </a:rPr>
                        <a:t>19 2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аршее зве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100" spc="-1" strike="noStrike">
                          <a:solidFill>
                            <a:srgbClr val="0033cc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640">
                <a:tc gridSpan="1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100" spc="-1" strike="noStrike">
                          <a:solidFill>
                            <a:srgbClr val="0033cc"/>
                          </a:solidFill>
                          <a:latin typeface="Times New Roman"/>
                          <a:ea typeface="Calibri"/>
                        </a:rPr>
                        <a:t>28 (12,5%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63320" y="947520"/>
            <a:ext cx="5925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 Light"/>
              </a:rPr>
              <a:t>Количественная и качественная характеристика обучающихся с ЗПР,    </a:t>
            </a:r>
            <a:r>
              <a:rPr b="0" lang="ru-RU" sz="2400" spc="-1" strike="noStrike">
                <a:solidFill>
                  <a:srgbClr val="ff0000"/>
                </a:solidFill>
                <a:latin typeface="Calibri Light"/>
              </a:rPr>
              <a:t>по годам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174680" y="2249640"/>
          <a:ext cx="6488280" cy="2860560"/>
        </p:xfrm>
        <a:graphic>
          <a:graphicData uri="http://schemas.openxmlformats.org/drawingml/2006/table">
            <a:tbl>
              <a:tblPr/>
              <a:tblGrid>
                <a:gridCol w="2230560"/>
                <a:gridCol w="949320"/>
                <a:gridCol w="1028520"/>
                <a:gridCol w="1181160"/>
                <a:gridCol w="1098720"/>
              </a:tblGrid>
              <a:tr h="387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-20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-20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-2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-20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етей с ОВЗ и детей-инвалидов, 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,4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 (17,8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1,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(26,7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Детей с ЗПР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9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8 (12,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"/>
                        <a:tabLst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ьное зве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(6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(1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"/>
                        <a:tabLst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е зве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(16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 (21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"/>
                        <a:tabLst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ршее зве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Детей-инвали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 (0,8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 (0,8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77640" y="365040"/>
            <a:ext cx="6367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000"/>
            </a:br>
            <a:r>
              <a:rPr b="1" lang="ru-RU" sz="3000" spc="-1" strike="noStrike">
                <a:solidFill>
                  <a:srgbClr val="ff0048"/>
                </a:solidFill>
                <a:latin typeface="Calibri Light"/>
              </a:rPr>
              <a:t>Курсовая подготовка педагога: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1096920"/>
          <a:ext cx="6654600" cy="4923000"/>
        </p:xfrm>
        <a:graphic>
          <a:graphicData uri="http://schemas.openxmlformats.org/drawingml/2006/table">
            <a:tbl>
              <a:tblPr/>
              <a:tblGrid>
                <a:gridCol w="5968800"/>
                <a:gridCol w="685800"/>
              </a:tblGrid>
              <a:tr h="441720"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челове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Логопедическая работа с детьми дошкольного и младшего школьного возрас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Основы коррекционно – педагогической деятельности с детьми, имеющими отклонения в развит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Организация инклюзивного образования в образовательной деятельности в соответствии с ФГО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Организация инклюзивного образования детей-инвалидов, детей с ОВЗ в общеобразовательных организац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Управление введением федерального государственного образовательного стандарта начального общего образования обучающихся с ограниченными возможностями здоров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Психолого-педагогическое сопровождение развития ребенка с ограниченными возможностями здоровья в образовательном учрежден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Организационно-педагогическое сопровождение профессионального самоопределения обучающихся в системе непрерывного 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Коррекционная педагогика в начальном образовании (переподготовк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Дефектология (переподготовк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Специальная педагогика и психология», право на ведение профессиональной деятельности в сфере образования детей с ограниченными возможностями здоровья (переподготовк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965160" y="364680"/>
            <a:ext cx="6858000" cy="59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600" spc="-1" strike="noStrike">
                <a:solidFill>
                  <a:srgbClr val="ff0048"/>
                </a:solidFill>
                <a:latin typeface="Calibri"/>
              </a:rPr>
              <a:t>АООП для учащихся с ограниченными возможностями здоровья, разработана на основании нормативно-правовых документов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buClr>
                <a:srgbClr val="0033cc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33cc"/>
                </a:solidFill>
                <a:latin typeface="Calibri"/>
              </a:rPr>
              <a:t>Федерального закона от 29.12.2012г. № 273-ФЗ «Об образовании в Российской Федерации» (с изменениями и дополнениями)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buClr>
                <a:srgbClr val="0033cc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33cc"/>
                </a:solidFill>
                <a:latin typeface="Calibri"/>
              </a:rPr>
              <a:t>приказ Министерства образования и науки РФ от 30.08. 2013г. №1015 «Об утверждении порядка организации и осуществления образовательной деятельности по основным общеобразовательным программам - образовательным программам начального общего, основного общего и среднего общего образования» (с изменениями от 13.12.2013г. № 1342; от 28.05.2014г. № 598; от 17.07.2015г. № 734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buClr>
                <a:srgbClr val="0033cc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33cc"/>
                </a:solidFill>
                <a:latin typeface="Calibri"/>
              </a:rPr>
              <a:t>«Санитарно-эпидемиологические требования к условиям и организации обучения в общеобразовательных учреждениях, СанПин 2.4.2.2821-10 «Утвержденные постановлением Главного государственного санитарного врача РФ №189 от 29.12.2010 г. (с изменениями от 29.05.2011 № 85; от 25.12.2013г. № 72; от 24.11.215г. № 81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buClr>
                <a:srgbClr val="0033cc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33cc"/>
                </a:solidFill>
                <a:latin typeface="Calibri"/>
              </a:rPr>
              <a:t>Типового положения о специальном (коррекционном) образовательном учреждении для обучающихся, воспитанников, с отклонениями в развитии (в    редакции    Постановлений    Правительства    РФ    от 18.08.2008г. №617)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buClr>
                <a:srgbClr val="0033cc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33cc"/>
                </a:solidFill>
                <a:latin typeface="Calibri"/>
              </a:rPr>
              <a:t>Письма Министерства образования Российской Федерации от 18.09.2002 года №29/ 2331-6 «О применении базисных учебных планов специальных (коррекционных) образовательных учреждений Российской Федерации»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buClr>
                <a:srgbClr val="0033cc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33cc"/>
                </a:solidFill>
                <a:latin typeface="Calibri"/>
              </a:rPr>
              <a:t>Приказа Министерства образования Российской Федерации от 10.04 2002 года 329/2065 – «Об утверждении учебных планов специальных (коррекционных) образовательных учреждений для обучающихся, воспитанников с отклонениями в развитии»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buClr>
                <a:srgbClr val="0033cc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33cc"/>
                </a:solidFill>
                <a:latin typeface="Calibri"/>
              </a:rPr>
              <a:t>Устав муниципального автономного общеобразовательного учреждения Зайковской средней общеобразовательной школы № 2, утвержденный постановлением администрации Ирбитского муниципального образования от 27.02.2015г. № 155-П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buClr>
                <a:srgbClr val="0033cc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4920" y="448920"/>
            <a:ext cx="6459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Calibri Light"/>
              </a:rPr>
              <a:t>Разделы АООП школы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294920" y="1058760"/>
            <a:ext cx="6459480" cy="53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пояснительная запис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целевые ориенти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основные принципы отбора содержания образ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основное содержание учебных предметов НОО и ОО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формирование антикоррупционного мировоззрения обучающих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методы и технолог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планируемые результа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управление реализацией О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оценка результатов коррекционной рабо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прилож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69720" y="515520"/>
            <a:ext cx="6180120" cy="66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Calibri Light"/>
              </a:rPr>
              <a:t>Направления работы школы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269720" y="1258560"/>
            <a:ext cx="65451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Calibri"/>
              </a:rPr>
              <a:t>• </a:t>
            </a:r>
            <a:r>
              <a:rPr b="1" i="1" lang="ru-RU" sz="4000" spc="-1" strike="noStrike">
                <a:solidFill>
                  <a:srgbClr val="0033cc"/>
                </a:solidFill>
                <a:latin typeface="Calibri"/>
              </a:rPr>
              <a:t>диагностическая работа</a:t>
            </a:r>
            <a:r>
              <a:rPr b="1" lang="ru-RU" sz="4000" spc="-1" strike="noStrike">
                <a:solidFill>
                  <a:srgbClr val="0033cc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Calibri"/>
              </a:rPr>
              <a:t>• </a:t>
            </a:r>
            <a:r>
              <a:rPr b="1" i="1" lang="ru-RU" sz="4000" spc="-1" strike="noStrike">
                <a:solidFill>
                  <a:srgbClr val="0033cc"/>
                </a:solidFill>
                <a:latin typeface="Calibri"/>
              </a:rPr>
              <a:t>коррекционно-развивающая работа</a:t>
            </a:r>
            <a:r>
              <a:rPr b="1" lang="ru-RU" sz="4000" spc="-1" strike="noStrike">
                <a:solidFill>
                  <a:srgbClr val="0033cc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Calibri"/>
              </a:rPr>
              <a:t>• </a:t>
            </a:r>
            <a:r>
              <a:rPr b="1" i="1" lang="ru-RU" sz="4000" spc="-1" strike="noStrike">
                <a:solidFill>
                  <a:srgbClr val="0033cc"/>
                </a:solidFill>
                <a:latin typeface="Calibri"/>
              </a:rPr>
              <a:t>консультативная работа</a:t>
            </a:r>
            <a:r>
              <a:rPr b="1" lang="ru-RU" sz="4000" spc="-1" strike="noStrike">
                <a:solidFill>
                  <a:srgbClr val="0033cc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Calibri"/>
              </a:rPr>
              <a:t>• </a:t>
            </a:r>
            <a:r>
              <a:rPr b="1" i="1" lang="ru-RU" sz="4000" spc="-1" strike="noStrike">
                <a:solidFill>
                  <a:srgbClr val="0033cc"/>
                </a:solidFill>
                <a:latin typeface="Calibri"/>
              </a:rPr>
              <a:t>информационно-просветительская работа</a:t>
            </a:r>
            <a:r>
              <a:rPr b="1" lang="ru-RU" sz="4000" spc="-1" strike="noStrike">
                <a:solidFill>
                  <a:srgbClr val="0033cc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077840" y="482400"/>
            <a:ext cx="7321680" cy="58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48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ff0048"/>
                </a:solidFill>
                <a:latin typeface="Calibri"/>
              </a:rPr>
              <a:t>Для обучения</a:t>
            </a:r>
            <a:r>
              <a:rPr b="0" lang="ru-RU" sz="2800" spc="-1" strike="noStrike">
                <a:solidFill>
                  <a:srgbClr val="ff0048"/>
                </a:solidFill>
                <a:latin typeface="Calibri"/>
              </a:rPr>
              <a:t> по АООП родителям (законным представителям) необходимо представить следующие документы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Calibri"/>
              </a:rPr>
              <a:t>заявление родителей (законных представителей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Calibri"/>
              </a:rPr>
              <a:t>заключение психолого-медико-педагогической комисси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Calibri"/>
              </a:rPr>
              <a:t>договор на обуче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Calibri"/>
              </a:rPr>
              <a:t>индивидуальная образовательная программа (составляет завуч), представляется родителям (законным представителям) для ознакомл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5280" y="237600"/>
            <a:ext cx="6113520" cy="4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000"/>
            </a:br>
            <a:r>
              <a:rPr b="1" lang="ru-RU" sz="3000" spc="-1" strike="noStrike" u="sng">
                <a:solidFill>
                  <a:srgbClr val="ff0048"/>
                </a:solidFill>
                <a:uFillTx/>
                <a:latin typeface="Calibri Light"/>
              </a:rPr>
              <a:t>Состав консилиума:</a:t>
            </a:r>
            <a:r>
              <a:rPr b="1" lang="ru-RU" sz="3000" spc="-1" strike="noStrike">
                <a:solidFill>
                  <a:srgbClr val="ff0048"/>
                </a:solidFill>
                <a:latin typeface="Calibri Light"/>
              </a:rPr>
              <a:t>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023840" y="750600"/>
            <a:ext cx="6994800" cy="53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60920" indent="-16092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Заместитель директора по УВР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Calibri"/>
              </a:rPr>
              <a:t>- отвечает за предоставление материалов, заявку участников ПМП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60920" indent="-16092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Педагог-психолог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Calibri"/>
              </a:rPr>
              <a:t>проводит диагностику, собеседования с родителями 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60920" indent="-1609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Calibri"/>
              </a:rPr>
              <a:t>   </a:t>
            </a:r>
            <a:r>
              <a:rPr b="1" lang="ru-RU" sz="1800" spc="-1" strike="noStrike">
                <a:solidFill>
                  <a:srgbClr val="0033cc"/>
                </a:solidFill>
                <a:latin typeface="Calibri"/>
              </a:rPr>
              <a:t>педагогами, составляет характеристику класс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60920" indent="-16092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Школьный медик (врач)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Calibri"/>
              </a:rPr>
              <a:t>делает выписку из мед. карты по состоянию здоровья ученика. Дает рекомендации родителя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60920" indent="-16092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Классный руководитель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Calibri"/>
              </a:rPr>
              <a:t>составляет полную педагогическую характеристик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60920" indent="-1609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Calibri"/>
              </a:rPr>
              <a:t>    </a:t>
            </a:r>
            <a:r>
              <a:rPr b="1" lang="ru-RU" sz="1800" spc="-1" strike="noStrike">
                <a:solidFill>
                  <a:srgbClr val="0033cc"/>
                </a:solidFill>
                <a:latin typeface="Calibri"/>
              </a:rPr>
              <a:t>класса, предоставляет дневники, тетради, журна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60920" indent="-16092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Социальный педагог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Calibri"/>
              </a:rPr>
              <a:t>изучает ситуацию, проводит собеседования с родителями, ребенком, составляет социально-психологическую                          характеристику ребен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60920" indent="-16092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Учителя – предметники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Calibri"/>
              </a:rPr>
              <a:t>предоставляют краткую характеристику особенностей учебной деятельности общения ребенка (класса) у себя на урок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60920" indent="-16092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Учитель-логопед (дефектолог)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Calibri"/>
              </a:rPr>
              <a:t>предоставляет выписку из логопедической карты ребен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60920" indent="-16092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Заместитель директора по В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1T11:00:06Z</dcterms:created>
  <dc:creator>Павел</dc:creator>
  <dc:description/>
  <dc:language>en-US</dc:language>
  <cp:lastModifiedBy>RePack by Diakov</cp:lastModifiedBy>
  <dcterms:modified xsi:type="dcterms:W3CDTF">2017-04-24T19:12:38Z</dcterms:modified>
  <cp:revision>51</cp:revision>
  <dc:subject/>
  <dc:title>Name of  presentation</dc:title>
</cp:coreProperties>
</file>