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95BA-F5C7-4C89-8729-D164CB57F9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1222-260B-4BF9-8419-7902FD1B04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4E27-D10A-4A73-8C94-BF46DA2AB9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C14B-A5DA-4C6B-B7E5-1949115B3F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40EE-E325-4274-BB83-0952F23AE0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C057-F387-4B45-8663-3FBD87FC77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B3FD-B210-4554-80F7-1A7E3DAD8E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6456-BAA6-4244-AFB9-1A381E0728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71FE-0405-4FFA-AB84-2434D297D2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BA84-12D9-4DE4-9D81-2B62931A3B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0F1D-B7A9-42D5-9319-A346F71D08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09ED-0871-4384-BD2B-7D659D41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7E7A-B94C-4F5F-819D-28AB6CCA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9CC5-7AB0-4E1C-B668-4463BAB7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9EEB-07D8-4CC4-900B-AC7482BE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9E19-E437-4847-B679-1D6700F9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47B6-EFA0-43D2-A4BD-E05A05E9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1918-98B0-4594-8B27-43597CED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9426-39E6-4453-9C4C-10EB8D21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C199-B8A8-4870-8CA9-B109E9B4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E491-A03A-4DD4-9749-49D423B2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9E3D-BA1C-4C67-AEBE-AC8E656B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09D6-86A8-4385-85C5-4DFE3103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F382-D31B-4D99-A3A0-AA63D2EC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8C6E-0D61-4025-ACC7-7EAF4BB7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03FC-5829-455C-AD0E-9DEA7D15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4003-40FC-4438-A6B4-D5CAF03F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7A38-B8B0-466B-AF0F-9817BD04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08CA0-ADAF-4586-8FDE-EABA7EB2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0E932-1F27-40B9-9136-CA026359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6F0CE-00E1-4EB8-89B3-97081916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945A6-441F-4492-93AE-FF2AA410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54EE6-53AB-41CF-8D9B-B95498C3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FC3E-F58B-4058-9EBB-F3CA6919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AA169-3D66-4C32-837A-6EB32EDA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5144A-6AB3-434C-9CFA-6EC204CB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FE944-2EAC-4B76-8740-986429F2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1D250-0CD2-44F3-B6A4-3768974F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3DF09-E604-46F3-A9C8-C46D7B61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359D6-31DC-493A-80B5-EACA29E0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0AC69-3E7F-4A70-BFCF-58EEABA1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40315-06AA-49DA-8B29-07359FD6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3D987-76E1-440A-B8AE-C14EB0CE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EE480-B39B-46AC-881B-5ABBE473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A982-8CE3-44AB-B005-72072C80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12588-F5DC-4568-8BD1-106BFEBD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24203-1827-443B-9AD5-DD128EA6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86DFF-F72C-4552-8B6D-B450DCC6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A01F3-1172-4CC0-96EF-A0277448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3AF06-0E5B-4B90-9C35-94FAF3E4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656ED-4EDA-4A65-B536-07F7194F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66A88-185B-49AD-BE8B-EE22B487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4B74D-29A5-4543-B2B2-4076AFB1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3111D-10AC-4369-B228-DB15E47E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489C0-0019-46F7-9930-95E959F3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C800-FA31-4356-8E62-9130EC17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01105-29C5-4434-A79A-0EDBDD96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8A5D9-7774-46CF-BC27-8469FAD3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8E251-7930-4E63-8A03-98E5BD49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CD9F5-68E0-4015-917D-9D0CA72D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D0EEF-5D0F-40DE-A105-73F58DD5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99302-54E3-4C78-884B-6C65A3EB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A2D47-6F39-4201-8BCD-EBCB3C1E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8E4FA-DCC0-4039-BBA3-70A513ED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BEA7E-D47E-4BC7-99C6-6AB87C75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04AF0-6D41-4AE1-9F52-CB51627A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1768-D8BA-4E93-9EAD-44CCE068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6F658-EECB-4068-8B6A-82220BAD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0042-0681-4517-9B62-0DF9C5BD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9625-CF8F-4C8F-AC13-667592BD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A7C3-FC6D-493F-8F74-A9069A62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0B83-BE43-40D6-95D9-8C1FACA4608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9" descr="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AE6A-9E20-4C7C-A976-7BACA4FCB44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Рисунок 9" descr="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0094-3A76-4D20-A52D-0CEF3394B06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Рисунок 9" descr="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E263-6F28-46C8-8AC3-F30DC3EDA2B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Рисунок 9" descr="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9" descr="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3"/>
          <a:stretch/>
        </p:blipFill>
        <p:spPr>
          <a:xfrm>
            <a:off x="262080" y="484200"/>
            <a:ext cx="3144600" cy="5710320"/>
          </a:xfrm>
          <a:prstGeom prst="rect">
            <a:avLst/>
          </a:prstGeom>
          <a:ln w="9360">
            <a:solidFill>
              <a:srgbClr val="f4ee00"/>
            </a:solidFill>
            <a:miter/>
          </a:ln>
        </p:spPr>
      </p:pic>
      <p:sp>
        <p:nvSpPr>
          <p:cNvPr id="170" name="Прямая соединительная линия 8"/>
          <p:cNvSpPr/>
          <p:nvPr/>
        </p:nvSpPr>
        <p:spPr>
          <a:xfrm>
            <a:off x="3541680" y="1496880"/>
            <a:ext cx="4437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ая соединительная линия 9"/>
          <p:cNvSpPr/>
          <p:nvPr/>
        </p:nvSpPr>
        <p:spPr>
          <a:xfrm flipV="1">
            <a:off x="3505320" y="2384280"/>
            <a:ext cx="4464000" cy="367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ая соединительная линия 10"/>
          <p:cNvSpPr/>
          <p:nvPr/>
        </p:nvSpPr>
        <p:spPr>
          <a:xfrm flipV="1">
            <a:off x="3532320" y="3621240"/>
            <a:ext cx="4456080" cy="93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ая соединительная линия 11"/>
          <p:cNvSpPr/>
          <p:nvPr/>
        </p:nvSpPr>
        <p:spPr>
          <a:xfrm>
            <a:off x="3541680" y="5270400"/>
            <a:ext cx="444672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ая соединительная линия 12"/>
          <p:cNvSpPr/>
          <p:nvPr/>
        </p:nvSpPr>
        <p:spPr>
          <a:xfrm flipV="1">
            <a:off x="3522600" y="6284880"/>
            <a:ext cx="4456080" cy="7920"/>
          </a:xfrm>
          <a:prstGeom prst="line">
            <a:avLst/>
          </a:prstGeom>
          <a:ln w="28440">
            <a:solidFill>
              <a:srgbClr val="9daa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7771-A4B3-407D-A9A9-D27A5FABD8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708360" y="549000"/>
            <a:ext cx="5432400" cy="41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ahnschrift Light Condensed"/>
              </a:rPr>
              <a:t>Роль информационно-библиотечного центр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ahnschrift Light Condensed"/>
              </a:rPr>
              <a:t>в повышении качества образ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Bahnschrift Light Condensed"/>
                <a:ea typeface="Calibri"/>
              </a:rPr>
              <a:t>Факторы, влияющие на качество преподавания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Схема 2" descr=""/>
          <p:cNvPicPr/>
          <p:nvPr/>
        </p:nvPicPr>
        <p:blipFill>
          <a:blip r:embed="rId1"/>
          <a:stretch/>
        </p:blipFill>
        <p:spPr>
          <a:xfrm>
            <a:off x="3187800" y="981000"/>
            <a:ext cx="5949720" cy="3097440"/>
          </a:xfrm>
          <a:prstGeom prst="rect">
            <a:avLst/>
          </a:prstGeom>
          <a:ln w="0">
            <a:noFill/>
          </a:ln>
        </p:spPr>
      </p:pic>
      <p:pic>
        <p:nvPicPr>
          <p:cNvPr id="242" name="Схема 6" descr=""/>
          <p:cNvPicPr/>
          <p:nvPr/>
        </p:nvPicPr>
        <p:blipFill>
          <a:blip r:embed="rId2"/>
          <a:stretch/>
        </p:blipFill>
        <p:spPr>
          <a:xfrm>
            <a:off x="3187800" y="4224240"/>
            <a:ext cx="593712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ahnschrift Light Condensed"/>
              </a:rPr>
              <a:t>Как мы меняемс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634920" y="1417320"/>
            <a:ext cx="53658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ahnschrift Light Condensed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Bahnschrift Light Condensed"/>
              </a:rPr>
              <a:t>Школьная библиотека должна превратиться в медиаинформационный центр, обладающий новейшими ресурсами, а работники школьных библиотек должны получить возможность постоянного совершенствования своего профессионального уров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Схема 1" descr=""/>
          <p:cNvPicPr/>
          <p:nvPr/>
        </p:nvPicPr>
        <p:blipFill>
          <a:blip r:embed="rId1"/>
          <a:stretch/>
        </p:blipFill>
        <p:spPr>
          <a:xfrm>
            <a:off x="-96840" y="0"/>
            <a:ext cx="8955000" cy="6669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92040" y="189000"/>
            <a:ext cx="698508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ahnschrift Light Condensed"/>
              </a:rPr>
              <a:t>Основные задачи ИБ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419280" y="1212480"/>
            <a:ext cx="572436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hnschrift Light Condensed"/>
              </a:rPr>
              <a:t>Обеспечить образовательный процесс учебными,  вспомогательными  документами и информационной продукцией, в том числе цифровыми образовательными ресурсами, базами данны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hnschrift Light Condensed"/>
              </a:rPr>
              <a:t>Формировать комфортную библиотечно-информационную среду с комплексом информационных образовательных ресурсов, совокупностью технологических средств информационных и коммуникационных технологий, с системой современных педагогических и библиотечных технолог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hnschrift Light Condense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92040" y="189000"/>
            <a:ext cx="698508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ahnschrift Light Condensed"/>
              </a:rPr>
              <a:t>Основные задачи ИБ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419280" y="1212480"/>
            <a:ext cx="572436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Bahnschrift Light Condensed"/>
              </a:rPr>
              <a:t>Обеспечить  доступ пользователей  к информационным ресурсам Интернета, учебной и художественной литературе, коллекциям медиаресурсов на электронных носителях, к множительной технике для тиражирования учебных и методических текстографических, аудио- и видеоматериалов, результатов творческой, научно-исследовательской и проектной деятельност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Bahnschrift Light Condensed"/>
              </a:rPr>
              <a:t>Формировать информационную культуру обучающихся через организацию информационной подготовки школьников, включая обучение навыкам поиска, извлечения, критического анализа и самостоятельного использования информации для удовлетворения многообразных информационных потребностей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71280" y="40428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ahnschrift Condensed"/>
              </a:rPr>
              <a:t>Информационно-библиотечный центр - среда развития для де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Объект 4" descr=""/>
          <p:cNvPicPr/>
          <p:nvPr/>
        </p:nvPicPr>
        <p:blipFill>
          <a:blip r:embed="rId1"/>
          <a:stretch/>
        </p:blipFill>
        <p:spPr>
          <a:xfrm>
            <a:off x="2662200" y="1998720"/>
            <a:ext cx="6134040" cy="452592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6" descr="Открытая книга со сплошной заливкой"/>
          <p:cNvPicPr/>
          <p:nvPr/>
        </p:nvPicPr>
        <p:blipFill>
          <a:blip r:embed="rId2"/>
          <a:stretch/>
        </p:blipFill>
        <p:spPr>
          <a:xfrm>
            <a:off x="5003640" y="3675240"/>
            <a:ext cx="15544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76720" y="259920"/>
            <a:ext cx="569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ahnschrift Condensed"/>
              </a:rPr>
              <a:t>Информационно-библиотечный цент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634920" y="1628640"/>
            <a:ext cx="531180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ahnschrift Condensed"/>
              </a:rPr>
              <a:t>Это ресурс, способствующий формированию у обучающихся личностных и метапредметных результатов при освоении основных образовательных программ всех уровней, где приоритетное внимание уделяется достижению умения быстро ориентироваться в информационном пространстве, развитию способности находить, анализировать, обрабатывать и преобразовывать, обобщать, сохранять и передавать информац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843280" y="76176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ahnschrift Condensed"/>
              </a:rPr>
              <a:t>В ИБЦ должен быть обеспечен доступ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51280" y="2356920"/>
            <a:ext cx="4680000" cy="37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ahnschrift Condensed"/>
              </a:rPr>
              <a:t>к </a:t>
            </a:r>
            <a:r>
              <a:rPr b="0" lang="ru-RU" sz="2400" spc="-1" strike="noStrike">
                <a:solidFill>
                  <a:srgbClr val="000000"/>
                </a:solidFill>
                <a:latin typeface="Bahnschrift Condensed"/>
              </a:rPr>
              <a:t>источникам информации на любых носителях,  в том числе к печатным, мультимедийным и цифровым коллекциям, а также к множительной технике для тиражирования учебных и методических материалов, результатов творческой, научно-исследовательской и проектной деятельности обучающихся. В библиотеках должен быть  предоставлен педагогам и обучающимся доступ к федеральным электронным библиотекам</a:t>
            </a:r>
            <a:r>
              <a:rPr b="0" lang="ru-RU" sz="2800" spc="-1" strike="noStrike">
                <a:solidFill>
                  <a:srgbClr val="000000"/>
                </a:solidFill>
                <a:latin typeface="Bahnschrift Condense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689200" y="404280"/>
            <a:ext cx="62755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ahnschrift Condensed"/>
              </a:rPr>
              <a:t>Повышению качества образования способствует интеграция информационных технологий следующих тип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59280" y="1833480"/>
            <a:ext cx="5976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ahnschrift Condensed"/>
              </a:rPr>
              <a:t>декларативных, предусматривающих предъявление обучающимися определенной доли учебной информации (компьютерные учебники, учебные видеофильмы, технология презентаций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ahnschrift Condensed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Bahnschrift Condensed"/>
              </a:rPr>
              <a:t>сетевых, ориентированных на самостоятельный выбор последовательности изучения материала и обмена информацией на расстоянии (WWW-технология, HTML-технология, мультимедийные учебники, телеконференци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ahnschrift Condensed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Bahnschrift Condensed"/>
              </a:rPr>
              <a:t>справочно-информационных, позволяющих самостоятельно находить необходимую информацию (базы данных, справочные систем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916000" y="333000"/>
            <a:ext cx="584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ahnschrift Condensed"/>
              </a:rPr>
              <a:t>Каким должен быть педагог-библиотекар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564000" y="2361960"/>
            <a:ext cx="4967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hnschrift Condensed"/>
              </a:rPr>
              <a:t>Внедрение и освоение новых инновационных и информационных технологий, позволяющих открыть новые возможности школьных библиотек образовательных организаций, требуют специальной профессиональной подготовки школьных библиотекар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55640" y="476280"/>
            <a:ext cx="6445080" cy="23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ahnschrift Light Condensed"/>
                <a:ea typeface="Calibri"/>
              </a:rPr>
              <a:t>Актуальность         проблемы </a:t>
            </a:r>
            <a:br>
              <a:rPr sz="2400"/>
            </a:br>
            <a:br>
              <a:rPr sz="48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484360" y="2361960"/>
            <a:ext cx="6516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lvl="3" marL="1296000" indent="-18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hnschrift Light Condensed"/>
              </a:rPr>
              <a:t>Модернизация образования определяет, что главной задачей образовательной политики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Bahnschrift Light Condensed"/>
              </a:rPr>
              <a:t>обеспечение современного качества образования</a:t>
            </a:r>
            <a:r>
              <a:rPr b="0" lang="ru-RU" sz="2800" spc="-1" strike="noStrike">
                <a:solidFill>
                  <a:srgbClr val="000000"/>
                </a:solidFill>
                <a:latin typeface="Bahnschrift Light Condensed"/>
              </a:rPr>
              <a:t>  на основе сохранения его фундаментальности и соответствия актуальным и перспективным потребностям личности, общества и государст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296000" indent="-18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10920" y="-214200"/>
            <a:ext cx="6440760" cy="23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ahnschrift Condensed"/>
              </a:rPr>
              <a:t>Профессиональная компетентность библиотекаря формируется из следующих </a:t>
            </a:r>
            <a:r>
              <a:rPr b="1" lang="ru-RU" sz="2800" spc="-1" strike="noStrike">
                <a:solidFill>
                  <a:srgbClr val="000000"/>
                </a:solidFill>
                <a:latin typeface="Bahnschrift Condensed"/>
              </a:rPr>
              <a:t>компонент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14560" y="1988640"/>
            <a:ext cx="5329080" cy="4753080"/>
          </a:xfrm>
          <a:prstGeom prst="rect">
            <a:avLst/>
          </a:prstGeom>
          <a:solidFill>
            <a:srgbClr val="ebf1de"/>
          </a:solidFill>
          <a:ln w="25560">
            <a:solidFill>
              <a:srgbClr val="9bbb5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ahnschrift Condensed"/>
              </a:rPr>
              <a:t>достаточный уровень профессионального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ahnschrift Condensed"/>
              </a:rPr>
              <a:t>профессиональный опы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ahnschrift Condensed"/>
              </a:rPr>
              <a:t>наличие индивидуальных особенностей челове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ahnschrift Condensed"/>
              </a:rPr>
              <a:t>-мотивированное стремление к непрерывному самообразован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ahnschrift Condensed"/>
              </a:rPr>
              <a:t>- творческое и ответственно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ahnschrift Condensed"/>
              </a:rPr>
              <a:t>отношение к дел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Рисунок 5" descr=""/>
          <p:cNvPicPr/>
          <p:nvPr/>
        </p:nvPicPr>
        <p:blipFill>
          <a:blip r:embed="rId1"/>
          <a:stretch/>
        </p:blipFill>
        <p:spPr>
          <a:xfrm>
            <a:off x="7554960" y="4508640"/>
            <a:ext cx="1555560" cy="21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276360" y="1989000"/>
            <a:ext cx="5381640" cy="4191120"/>
          </a:xfrm>
          <a:prstGeom prst="rect">
            <a:avLst/>
          </a:prstGeom>
          <a:solidFill>
            <a:srgbClr val="ebf1de"/>
          </a:solidFill>
          <a:ln w="25560">
            <a:solidFill>
              <a:srgbClr val="9bbb59"/>
            </a:solidFill>
            <a:miter/>
          </a:ln>
        </p:spPr>
        <p:txBody>
          <a:bodyPr anchor="t">
            <a:normAutofit fontScale="83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ahnschrift Condensed"/>
              </a:rPr>
              <a:t>Чем лучше профессиональные качества, результативнее деятельность, тем выше востребованность и значимость роли ИБЦ в повышении качества образования в цел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203640" y="188640"/>
            <a:ext cx="5726160" cy="20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ahnschrift Condensed"/>
              </a:rPr>
              <a:t>Положительным результатом в направлении повышения качества образования при внедрении и интеграции инновационных и информационных технологий в практику работы школьных ИБЦ можно счита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635280" y="2361960"/>
            <a:ext cx="540072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hnschrift Condensed"/>
              </a:rPr>
              <a:t>повышение доступности общего образования, с расширением форм получения образо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hnschrift Condensed"/>
              </a:rPr>
              <a:t>существенное расширение и совершенствование организационного обеспечения образов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hnschrift Condensed"/>
              </a:rPr>
              <a:t>независимость образовательной деятельности от места и времени обуч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hnschrift Condensed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ahnschrift Condensed"/>
              </a:rPr>
              <a:t>совершенствование методического и программного обеспечения образов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hnschrift Condensed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ahnschrift Condensed"/>
              </a:rPr>
              <a:t>развитие технологического мышления у обучающихся, умения самостоятельно планировать свою образовательную деятель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276360" y="333360"/>
            <a:ext cx="53816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ahnschrift Condensed"/>
              </a:rPr>
              <a:t>Соцсети- элемент И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3780000" y="1413000"/>
            <a:ext cx="48132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276360" y="333360"/>
            <a:ext cx="5381640" cy="21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hnschrift Condensed"/>
              </a:rPr>
              <a:t>Социальные сети сферы образования стали неотъемлемым я инструментом позиционирования школы и воспитательной работы в интерне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4680" y="2708280"/>
            <a:ext cx="9139320" cy="39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ahnschrift SemiLight SemiConde"/>
              </a:rPr>
              <a:t>«</a:t>
            </a:r>
            <a:r>
              <a:rPr b="0" lang="ru-RU" sz="4000" spc="-1" strike="noStrike">
                <a:solidFill>
                  <a:srgbClr val="000000"/>
                </a:solidFill>
                <a:latin typeface="Bahnschrift Condensed"/>
              </a:rPr>
              <a:t>ВКонтакте</a:t>
            </a:r>
            <a:r>
              <a:rPr b="0" lang="ru-RU" sz="4000" spc="-1" strike="noStrike">
                <a:solidFill>
                  <a:srgbClr val="000000"/>
                </a:solidFill>
                <a:latin typeface="Bahnschrift SemiLight SemiConde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Прямоугольник 6"/>
          <p:cNvSpPr/>
          <p:nvPr/>
        </p:nvSpPr>
        <p:spPr>
          <a:xfrm>
            <a:off x="3276720" y="5300640"/>
            <a:ext cx="5592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hnschrift Condensed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Bahnschrift Condensed"/>
              </a:rPr>
              <a:t>крупнейшая в России и странах СНГ социальная сеть, онлайн-платформа и прилож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3618000" y="1494000"/>
            <a:ext cx="5251320" cy="352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ahnschrift Condensed"/>
              </a:rPr>
              <a:t>“</a:t>
            </a:r>
            <a:r>
              <a:rPr b="0" lang="ru-RU" sz="4000" spc="-1" strike="noStrike">
                <a:solidFill>
                  <a:srgbClr val="000000"/>
                </a:solidFill>
                <a:latin typeface="Bahnschrift Condensed"/>
              </a:rPr>
              <a:t>Вконтакте” предлагает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Прямоугольник 5"/>
          <p:cNvSpPr/>
          <p:nvPr/>
        </p:nvSpPr>
        <p:spPr>
          <a:xfrm>
            <a:off x="3708360" y="4005360"/>
            <a:ext cx="51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hnschrift Condensed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Bahnschrift Condensed"/>
              </a:rPr>
              <a:t>сообществам различные инструменты вовлечения, которые позволяют сделать контент в сообществе более интересным для аудито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rcRect l="0" t="0" r="0" b="22388"/>
          <a:stretch/>
        </p:blipFill>
        <p:spPr>
          <a:xfrm>
            <a:off x="3413160" y="1268280"/>
            <a:ext cx="5162400" cy="26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4"/>
          <p:cNvSpPr/>
          <p:nvPr/>
        </p:nvSpPr>
        <p:spPr>
          <a:xfrm>
            <a:off x="3780000" y="1700280"/>
            <a:ext cx="5256000" cy="86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hnschrift Condensed"/>
              </a:rPr>
              <a:t>Автономная некоммерческая организация по развитию цифровых проектов в сфере общественных связей и коммуникаций «Диалог Регионы» запустил образовательный онлайн-марафон «ПроDвижение Госпаблики: Вовлекай и побеждай», который позволит повысить качество ведения сообщества, содержит множество актуальных примеров и повысит практические навыки администраторов госпабл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ahnschrift Condensed"/>
              </a:rPr>
              <a:t>«Вовлекай и побеждай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15840" y="77760"/>
            <a:ext cx="2900520" cy="67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71000" cy="33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3" descr=""/>
          <p:cNvPicPr/>
          <p:nvPr/>
        </p:nvPicPr>
        <p:blipFill>
          <a:blip r:embed="rId1"/>
          <a:srcRect l="0" t="0" r="10067" b="0"/>
          <a:stretch/>
        </p:blipFill>
        <p:spPr>
          <a:xfrm>
            <a:off x="1298520" y="189000"/>
            <a:ext cx="6802560" cy="506088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1"/>
          <p:cNvSpPr/>
          <p:nvPr/>
        </p:nvSpPr>
        <p:spPr>
          <a:xfrm>
            <a:off x="0" y="5502240"/>
            <a:ext cx="91440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hnschrift Condensed"/>
              </a:rPr>
              <a:t>Администраторам сообществ нужно зарегистрироваться, заполнить форму, а дальше проходить марафон в своем темпе. Всего марафон содержит 13 зада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76360" y="692280"/>
            <a:ext cx="57243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ahnschrift Light Condensed"/>
                <a:ea typeface="Calibri"/>
              </a:rPr>
              <a:t>В общегосударственном плане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Bahnschrift Light Condensed"/>
                <a:ea typeface="Calibri"/>
              </a:rPr>
              <a:t>качество образования - это его соответствие современным жизненным потребностям развития страны.</a:t>
            </a:r>
            <a:br>
              <a:rPr sz="43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340000" y="2349000"/>
            <a:ext cx="68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3" marL="1328040" indent="-1897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ahnschrift Light Condensed"/>
              </a:rPr>
              <a:t>Советский и российский учёный-педагог, академик РАО Марк Поташник* определяет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328040" indent="-1897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ahnschrift Light Condensed"/>
              </a:rPr>
              <a:t>«Качество образования – совокупность показателей, характеризующих эффективность деятельности образовательного учреждения, способных удовлетворить потребности самих школьников, общества, заказчиков на образование.  Качество образования, особенно качество школьного образования – это специфическая область качества вообще, так как оно чрезвычайно зависимо от конкретных людей, с которыми взаимодействует обучающийся человек, будь то первоклассник, или старшеклассник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328040" indent="-1897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"/>
          <p:cNvSpPr/>
          <p:nvPr/>
        </p:nvSpPr>
        <p:spPr>
          <a:xfrm>
            <a:off x="108000" y="6488280"/>
            <a:ext cx="903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Основная проблематика исследований — организация внутришкольного управления, становление и развитие инновационных образовательных учрежд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492000" y="2491920"/>
            <a:ext cx="541044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276360" y="692280"/>
            <a:ext cx="572436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ahnschrift Light Condensed"/>
                <a:ea typeface="Calibri"/>
              </a:rPr>
              <a:t>Для учащих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340000" y="2349000"/>
            <a:ext cx="68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3" marL="1455840" indent="-207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ahnschrift Light Condensed"/>
              </a:rPr>
              <a:t>качество образования связан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ahnschrift Light Condensed"/>
              </a:rPr>
              <a:t>с возможностями получения качественных, разносторонних знаний для поступления в ВУЗ;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ahnschrift Light Condensed"/>
              </a:rPr>
              <a:t>с возможностями в будущем достигнуть успехов в карьере, достигнуть цели, поставленной в жизни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ahnschrift Light Condensed"/>
              </a:rPr>
              <a:t>с дополнительным знанием, обучением, пониманием предметов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ahnschrift Light Condensed"/>
              </a:rPr>
              <a:t>с глубокими прочными знаниями по всем предмет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76360" y="692280"/>
            <a:ext cx="572436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ahnschrift Light Condensed"/>
                <a:ea typeface="Calibri"/>
              </a:rPr>
              <a:t>Для род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340000" y="2349000"/>
            <a:ext cx="68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3" marL="1487880" indent="-212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ahnschrift Light Condensed"/>
              </a:rPr>
              <a:t>с получением знаний, умений и навыков, которые позволяют выпускнику школы найти свое место в жизни, добиться уважения окружающих его людей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ahnschrift Light Condensed"/>
              </a:rPr>
              <a:t>со знанием предметов, с хорошим оснащением школы, с профессионализмом педагогов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ahnschrift Light Condensed"/>
              </a:rPr>
              <a:t>с умением учащихся применить полученные знания в жизни; с умением педагога увлечь детей своим предме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03280" y="115560"/>
            <a:ext cx="5724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ahnschrift Light Condensed"/>
                <a:ea typeface="Calibri"/>
              </a:rPr>
              <a:t>Для уч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340000" y="1196640"/>
            <a:ext cx="680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3" marL="1311840" indent="-18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Bahnschrift Light Condensed"/>
              </a:rPr>
              <a:t>с умением подготовить школьника в ВУЗ, глубоким раскрытием наиболее интересных вопросов науки, подготовкой ученика не только умственно, но и нравственно (морально);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Bahnschrift Light Condensed"/>
              </a:rPr>
              <a:t>с умением ученика самостоятельно мыслить, анализировать и самостоятельно работать;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Bahnschrift Light Condensed"/>
              </a:rPr>
              <a:t>со школой, которая учитывает индивидуальные особенности школьника, способности и потребности детей;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Bahnschrift Light Condensed"/>
              </a:rPr>
              <a:t>с профессиональной позицией и самоощущением учителя, когда он четко представляет свои цели, знает как их достичь и чувствует душевный комфорт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Схема 3" descr=""/>
          <p:cNvPicPr/>
          <p:nvPr/>
        </p:nvPicPr>
        <p:blipFill>
          <a:blip r:embed="rId1"/>
          <a:stretch/>
        </p:blipFill>
        <p:spPr>
          <a:xfrm>
            <a:off x="3273480" y="1463760"/>
            <a:ext cx="5791320" cy="47718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4"/>
          <p:cNvSpPr/>
          <p:nvPr/>
        </p:nvSpPr>
        <p:spPr>
          <a:xfrm>
            <a:off x="3059280" y="549360"/>
            <a:ext cx="59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ahnschrift Light Condensed"/>
              </a:rPr>
              <a:t>Развитие качества образ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780000" y="333000"/>
            <a:ext cx="518472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Bahnschrift Light Condensed"/>
                <a:ea typeface="Calibri"/>
              </a:rPr>
              <a:t>Соответствие знаний обучающихся Государственным стандартам, успешная работа общеобразовательной организации, деятельность каждого педагога – это и есть сегодня понимание качества образовани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Bahnschrift Light Condensed"/>
                <a:ea typeface="Calibri"/>
              </a:rPr>
              <a:t>Факторы, влияющие на качество знаний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Схема 2" descr=""/>
          <p:cNvPicPr/>
          <p:nvPr/>
        </p:nvPicPr>
        <p:blipFill>
          <a:blip r:embed="rId1"/>
          <a:stretch/>
        </p:blipFill>
        <p:spPr>
          <a:xfrm>
            <a:off x="3103560" y="981000"/>
            <a:ext cx="6070680" cy="46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1:29:00Z</dcterms:created>
  <dc:creator>Админ</dc:creator>
  <dc:description/>
  <dc:language>en-US</dc:language>
  <cp:lastModifiedBy>Точка Роста</cp:lastModifiedBy>
  <dcterms:modified xsi:type="dcterms:W3CDTF">2024-08-28T04:16:12Z</dcterms:modified>
  <cp:revision>63</cp:revision>
  <dc:subject/>
  <dc:title>Роль и место  школьной библиотеки  в реализации  образовательных стандартов нового поколения</dc:title>
</cp:coreProperties>
</file>