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F8062-D90E-4588-8323-8528E948B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18D1B-3111-42D4-8ED2-0ABA66723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05EA4-DDDC-4C1A-BCC4-24BF3BC5E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8089D-D971-4112-9AA7-3348EBB43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4723B-64FA-4D70-BE81-370D83A7E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280F-4B82-4850-8FA4-6929C03C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177D-4461-49B4-A525-234609313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1A5D-578C-4726-8C0F-1C83F702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8CAB1-DEF3-43C1-B266-B6565437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F9E1F-C504-4C06-9498-C5D9FE8C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F2BB7-DE68-4DC0-A823-0A29AD7C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35559-0A4E-461C-BF40-0535BEDF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28401-FA8F-4D20-ABFE-6D4DD8FC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C4E7-2DFC-4791-AAFA-7F059804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82FEB-F6B5-4128-9651-CE762354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91F3-02B0-4F01-AEAB-D3FC412E6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1172-F74E-4936-9DC5-33EE3CB84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8A5A6-0A4C-4E08-A28C-B69FB1CC8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91F99-2C9B-4A42-9AB2-B7FD2CD9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2E897-F192-4D7C-81CC-856BDC7A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99816-A31A-4CBA-8B40-D0B93972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10996-DABC-4FB2-A19B-2140BF50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C9BA5-6B4F-4815-AB05-8BB8AF18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1875E-FC0F-4A0B-9EA9-417BA184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DE06-AB54-4DFE-84BD-DF9DE3D0429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A67C-AB4E-466B-A264-3B2F0DF3387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Метод проектов в обучении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C:\Users\u10\Desktop\для презентации\IMG_20201109_102732.jpg"/>
          <p:cNvPicPr/>
          <p:nvPr/>
        </p:nvPicPr>
        <p:blipFill>
          <a:blip r:embed="rId2"/>
          <a:stretch/>
        </p:blipFill>
        <p:spPr>
          <a:xfrm>
            <a:off x="2151000" y="534960"/>
            <a:ext cx="2892600" cy="2168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:\Users\u10\Desktop\для презентации\IMG20210126125943.jpg"/>
          <p:cNvPicPr/>
          <p:nvPr/>
        </p:nvPicPr>
        <p:blipFill>
          <a:blip r:embed="rId3"/>
          <a:stretch/>
        </p:blipFill>
        <p:spPr>
          <a:xfrm>
            <a:off x="888840" y="2289240"/>
            <a:ext cx="2459160" cy="3278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C:\Users\u10\Desktop\для презентации\IMG20210126130100.jpg"/>
          <p:cNvPicPr/>
          <p:nvPr/>
        </p:nvPicPr>
        <p:blipFill>
          <a:blip r:embed="rId4"/>
          <a:stretch/>
        </p:blipFill>
        <p:spPr>
          <a:xfrm>
            <a:off x="6012000" y="549360"/>
            <a:ext cx="2671560" cy="3560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C:\Users\u10\Desktop\для презентации\IMG20210125152341.jpg"/>
          <p:cNvPicPr/>
          <p:nvPr/>
        </p:nvPicPr>
        <p:blipFill>
          <a:blip r:embed="rId5"/>
          <a:stretch/>
        </p:blipFill>
        <p:spPr>
          <a:xfrm>
            <a:off x="3573360" y="4110120"/>
            <a:ext cx="289404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C:\Users\u10\Desktop\для презентации\IMG20210126130119.jpg"/>
          <p:cNvPicPr/>
          <p:nvPr/>
        </p:nvPicPr>
        <p:blipFill>
          <a:blip r:embed="rId2"/>
          <a:stretch/>
        </p:blipFill>
        <p:spPr>
          <a:xfrm>
            <a:off x="404640" y="1341360"/>
            <a:ext cx="3006720" cy="4008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C:\Users\u10\Desktop\для презентации\IMG20210126130142.jpg"/>
          <p:cNvPicPr/>
          <p:nvPr/>
        </p:nvPicPr>
        <p:blipFill>
          <a:blip r:embed="rId3"/>
          <a:stretch/>
        </p:blipFill>
        <p:spPr>
          <a:xfrm>
            <a:off x="4314960" y="1341360"/>
            <a:ext cx="3846240" cy="5127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C:\Users\u10\Desktop\для презентации\IMG20210126132846.jpg"/>
          <p:cNvPicPr/>
          <p:nvPr/>
        </p:nvPicPr>
        <p:blipFill>
          <a:blip r:embed="rId4"/>
          <a:stretch/>
        </p:blipFill>
        <p:spPr>
          <a:xfrm>
            <a:off x="2900520" y="3487680"/>
            <a:ext cx="425268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C:\Users\u10\Desktop\для презентации\IMG20210126132819.jpg"/>
          <p:cNvPicPr/>
          <p:nvPr/>
        </p:nvPicPr>
        <p:blipFill>
          <a:blip r:embed="rId2"/>
          <a:stretch/>
        </p:blipFill>
        <p:spPr>
          <a:xfrm>
            <a:off x="971640" y="1152360"/>
            <a:ext cx="3240000" cy="4319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C:\Users\u10\Desktop\для презентации\IMG20210126132754.jpg"/>
          <p:cNvPicPr/>
          <p:nvPr/>
        </p:nvPicPr>
        <p:blipFill>
          <a:blip r:embed="rId3"/>
          <a:stretch/>
        </p:blipFill>
        <p:spPr>
          <a:xfrm>
            <a:off x="4381560" y="1152360"/>
            <a:ext cx="333828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итерии оценки проектных рабо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стоятельность работы над проект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ктуальность и важность темы проек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нота раскрытия тем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игинальность предложенных реш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бедительность презентации, раскрытие содержания проек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тистизм и выразительность выступл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средств наглядности, новых информационных технолог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ОПОЛАГАЮЩИЙ ПРИНЦИ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"/>
          <p:cNvSpPr/>
          <p:nvPr/>
        </p:nvSpPr>
        <p:spPr>
          <a:xfrm>
            <a:off x="539640" y="1487880"/>
            <a:ext cx="813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ить из интересов самого ребенка, детских интересов сегодняшнего дня, непосредственно связанных с текущими практическими и духовными нуждами самих детей, их близких, об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457200"/>
            <a:ext cx="821844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Цели, которые преследует метод проек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учить самостоятельному достижению намеченной цели, а также конструированию полученных зн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учить предвидеть мини проблемы, которые предстоит при этом решить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формировать умение ориентироваться в информационном пространстве: находить источники, из которых можно почерпнуть информацию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учить навыки обработки информаци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формировать навыки проведения исследовани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формировать навыки работы и делового общения в групп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формировать навыки передачи и презентации полученных знаний и опы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ика работы над проек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-36360" y="981000"/>
          <a:ext cx="9216720" cy="5904000"/>
        </p:xfrm>
        <a:graphic>
          <a:graphicData uri="http://schemas.openxmlformats.org/drawingml/2006/table">
            <a:tbl>
              <a:tblPr/>
              <a:tblGrid>
                <a:gridCol w="4660920"/>
                <a:gridCol w="4555800"/>
              </a:tblGrid>
              <a:tr h="586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. Содержание работ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Подготовите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определение темы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выбор рабочей группы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  Планир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анализ проблемы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определение источнико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определение формы проект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определение критериев оценк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) распределение ролей (обязанност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  Исслед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уточнение информаци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поиск альтернати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выбор оптимального варианта решения пробл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  Выпол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реализация намеченного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подготовка выступ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  Защита проекта (предоставление отчёт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объяснение результато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публичное выступ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  Оценка результатов (рефлекси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анализ выполнения проект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причины успехов и неуда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требования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 учебному проек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Organization Chart 7"/>
          <p:cNvGrpSpPr/>
          <p:nvPr/>
        </p:nvGrpSpPr>
        <p:grpSpPr>
          <a:xfrm>
            <a:off x="2050920" y="1486080"/>
            <a:ext cx="4427640" cy="3768480"/>
            <a:chOff x="2050920" y="1486080"/>
            <a:chExt cx="4427640" cy="3768480"/>
          </a:xfrm>
        </p:grpSpPr>
        <p:cxnSp>
          <p:nvCxnSpPr>
            <p:cNvPr id="115" name="_s1028"/>
            <p:cNvCxnSpPr>
              <a:stCxn id="116" idx="1"/>
              <a:endCxn id="117" idx="2"/>
            </p:cNvCxnSpPr>
            <p:nvPr/>
          </p:nvCxnSpPr>
          <p:spPr>
            <a:xfrm rot="10800000">
              <a:off x="4379040" y="4658760"/>
              <a:ext cx="299160" cy="399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1029"/>
            <p:cNvCxnSpPr>
              <a:stCxn id="117" idx="1"/>
              <a:endCxn id="119" idx="2"/>
            </p:cNvCxnSpPr>
            <p:nvPr/>
          </p:nvCxnSpPr>
          <p:spPr>
            <a:xfrm rot="10800000">
              <a:off x="3279600" y="4047480"/>
              <a:ext cx="300600" cy="407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0" name="_s1030"/>
            <p:cNvCxnSpPr>
              <a:stCxn id="119" idx="0"/>
              <a:endCxn id="121" idx="2"/>
            </p:cNvCxnSpPr>
            <p:nvPr/>
          </p:nvCxnSpPr>
          <p:spPr>
            <a:xfrm flipH="1" flipV="1" rot="5400000">
              <a:off x="3898080" y="2829960"/>
              <a:ext cx="200880" cy="1438920"/>
            </a:xfrm>
            <a:prstGeom prst="bentConnector3">
              <a:avLst>
                <a:gd name="adj1" fmla="val 4991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1031"/>
            <p:cNvCxnSpPr>
              <a:stCxn id="121" idx="0"/>
              <a:endCxn id="123" idx="2"/>
            </p:cNvCxnSpPr>
            <p:nvPr/>
          </p:nvCxnSpPr>
          <p:spPr>
            <a:xfrm flipV="1" rot="16200000">
              <a:off x="4391280" y="2508480"/>
              <a:ext cx="200880" cy="452880"/>
            </a:xfrm>
            <a:prstGeom prst="bentConnector3">
              <a:avLst>
                <a:gd name="adj1" fmla="val 4991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3" name="_s1032"/>
            <p:cNvSpPr/>
            <p:nvPr/>
          </p:nvSpPr>
          <p:spPr>
            <a:xfrm>
              <a:off x="3463920" y="2239920"/>
              <a:ext cx="1601640" cy="3952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робле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033"/>
            <p:cNvSpPr/>
            <p:nvPr/>
          </p:nvSpPr>
          <p:spPr>
            <a:xfrm>
              <a:off x="3579840" y="2835360"/>
              <a:ext cx="2274840" cy="6141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роектиров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планирование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034"/>
            <p:cNvSpPr/>
            <p:nvPr/>
          </p:nvSpPr>
          <p:spPr>
            <a:xfrm>
              <a:off x="2050920" y="3649680"/>
              <a:ext cx="2457360" cy="39852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оиск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информа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035"/>
            <p:cNvSpPr/>
            <p:nvPr/>
          </p:nvSpPr>
          <p:spPr>
            <a:xfrm>
              <a:off x="3579840" y="4248360"/>
              <a:ext cx="1598400" cy="41112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родук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036"/>
            <p:cNvSpPr/>
            <p:nvPr/>
          </p:nvSpPr>
          <p:spPr>
            <a:xfrm>
              <a:off x="4678200" y="4859280"/>
              <a:ext cx="1800360" cy="3952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резента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23"/>
            <p:cNvSpPr/>
            <p:nvPr/>
          </p:nvSpPr>
          <p:spPr>
            <a:xfrm>
              <a:off x="2881800" y="1486080"/>
              <a:ext cx="275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Проект – это «пять П»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 Box 22"/>
          <p:cNvSpPr/>
          <p:nvPr/>
        </p:nvSpPr>
        <p:spPr>
          <a:xfrm>
            <a:off x="4264200" y="1576440"/>
            <a:ext cx="419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обенности  проек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44956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Персональны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лан работы может быть выстроен и отслежен с максимальной точность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ирование у учащегося чувства ответствен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обретение учащимся опыта на всех этапах выполнения проек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ирование у учащегося важнейших общеучебных умений и навыков (исследовательских, презентационных, оценочных) оказывается управляемым процесс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052640"/>
            <a:ext cx="44956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Групповы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ирование навыков сотрудниче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ект может быть выполнен наиболее глубоко и разносторонн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каждом этапе работы над проектом есть свой ситуационный лиде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рамках проектной группы могут быть образованы подгруппы, предлагающие разные пути решения проблемы, идеи, гипотезы. Элемент соревнования между ними повышает мотивацию участ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ассификация проектов по деятельности учащих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актико-ориентированные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следовательские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онные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ворческие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олев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лассификация проек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комплекс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нопроек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предметные проек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характеру контакт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утрикласс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утришколь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гиональ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дународ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ассификация проектов по продолжитель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ни-проек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ткосрочные проек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дельные проек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лгосрочные (годичные)прое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3T03:47:09Z</dcterms:created>
  <dc:creator>User</dc:creator>
  <dc:description/>
  <dc:language>en-US</dc:language>
  <cp:lastModifiedBy>u10</cp:lastModifiedBy>
  <dcterms:modified xsi:type="dcterms:W3CDTF">2021-01-26T10:55:46Z</dcterms:modified>
  <cp:revision>58</cp:revision>
  <dc:subject/>
  <dc:title>Основные требования к учебному проекту</dc:title>
</cp:coreProperties>
</file>