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BCB-8730-49F1-A77A-6A20F508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985-16E1-4BDD-AC4C-54DD7E5A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04D-055F-414D-8A9B-2D12FF70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4D1-5EBC-4FE1-A2D9-CA821A2C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189-5FE8-40ED-B8E5-8A75190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809-F5AA-4444-B154-150D7FE5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6F8-0F6E-4E16-8229-29066B4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D39-BF39-4D08-8074-5D54C82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D5A-4D9A-4FA2-AA99-FF37F7C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287-3A03-4613-A8BA-F35E51C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3CB-1E35-43E3-A586-FBE0ECC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BA8-EB2D-42EC-876F-9A77749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10F8-7350-43C7-94C5-69400DDA0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 Light"/>
              </a:rPr>
              <a:t>       </a:t>
            </a:r>
            <a:r>
              <a:rPr b="1" lang="ru-RU" sz="3200" spc="-1" strike="noStrike">
                <a:solidFill>
                  <a:srgbClr val="0563c1"/>
                </a:solidFill>
                <a:latin typeface="Tahoma"/>
                <a:ea typeface="Tahoma"/>
              </a:rPr>
              <a:t>Оценка профессиональной  деятельности    учителя в на основе анализа урока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971640" y="506520"/>
            <a:ext cx="817236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99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027080" y="549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042920" y="446040"/>
            <a:ext cx="76406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921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92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979560" y="333360"/>
            <a:ext cx="8056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886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993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027080" y="54936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1027080" y="404640"/>
            <a:ext cx="7775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971640" y="436680"/>
            <a:ext cx="788652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817236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996840" y="536400"/>
            <a:ext cx="78231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971640" y="399960"/>
            <a:ext cx="788652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1001880" y="476280"/>
            <a:ext cx="78739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042920" y="461880"/>
            <a:ext cx="781524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971640" y="471600"/>
            <a:ext cx="78865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992160" y="549360"/>
            <a:ext cx="79675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1027080" y="476280"/>
            <a:ext cx="777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170000" y="549360"/>
            <a:ext cx="7489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1019160" y="404640"/>
            <a:ext cx="7969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1042920" y="506520"/>
            <a:ext cx="78868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971640" y="708120"/>
            <a:ext cx="80643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1042920" y="611280"/>
            <a:ext cx="77058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971640" y="388800"/>
            <a:ext cx="79930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898560" y="404640"/>
            <a:ext cx="8156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022400" y="260280"/>
            <a:ext cx="81691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806436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971640" y="407880"/>
            <a:ext cx="806112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23:07:54Z</dcterms:created>
  <dc:creator>Olga</dc:creator>
  <dc:description/>
  <dc:language>en-US</dc:language>
  <cp:lastModifiedBy>Пользователь</cp:lastModifiedBy>
  <cp:lastPrinted>2018-04-05T07:34:12Z</cp:lastPrinted>
  <dcterms:modified xsi:type="dcterms:W3CDTF">2018-10-17T02:58:33Z</dcterms:modified>
  <cp:revision>52</cp:revision>
  <dc:subject/>
  <dc:title>Аттестация педагогических работников  в Законе «Об образовании в Российской Федерации»</dc:title>
</cp:coreProperties>
</file>