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70C7E-016B-4EAC-9186-978AAB585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9B435-19B4-483A-A7EB-C2305DCE9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511E-4BA6-4A21-BB08-2AA34DF82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84DA7-AE9B-4BEF-A188-C3EEEBA9A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22814-090F-417D-B818-6AD9EC1C6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B3C63-3394-40A0-A5A6-BD2EC8C7B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BA57C-2378-4BE2-A63A-890E8290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2C507-9E7B-4DF3-AF70-83DB4E600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A36D7-362A-4186-BE5A-6CF151960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5ABFD-15C4-46B0-9F62-03C3BE2A4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1318-8340-48CA-A0BF-E6841DFAF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F1AD-5BE4-43DD-9767-3E6C8A71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8FB6A-0C1F-4B6E-95CD-3151EB3C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6D861-7A82-49B2-8545-F05EA9AAC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ABEFD-421B-4F9E-A460-775E6DEAA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3D88E-B8AE-4EC6-8535-A87A37C11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B3FBB-3947-41A2-BAF5-317C4073E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91D84-0678-4778-B5BF-797A0E377B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C9BFC-742B-4D8C-A06C-A2A934261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2E2B9-C1C8-4F99-95E2-924757050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7113C-A2CE-4EA7-808E-B08BE333B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EE66D-1EAE-4197-AC76-B70245DAD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E599-925C-4CA7-8B53-732E9CCF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419AE-7EE2-4D82-987D-8F2D9AA19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4F3B-4CD3-49DE-923C-416E75DC9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E2359-0E75-4171-A9FE-10832F63C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6BB5C-B707-4678-B7E0-6DCDB9B38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4FD9E-C49F-4120-9356-4230DDF85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D5E04-2612-458F-97A7-C94E47050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1D966-3B9A-40EE-8BD8-9B4631082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7CE50-6150-4083-AEB3-A674EC57BA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EC740-48FD-4960-9366-17642D574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EEADA-EF95-4F44-AD8A-5AE16E83A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4CC3-8B9D-4660-AB33-2DBB0B0CC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41ADA-98A8-47BE-972A-E5F148B05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07D52-E194-4F95-9F57-FB6A79C51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56D4A-C9DE-472F-87C6-6BF3F459F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90808-25FF-4D19-93E3-03CB32421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F7170-78C8-4DF3-BED2-34CDB20D5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FCDAD-6383-48D5-AF18-FDE715094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6BCE1-886B-4F40-B7BD-1500B7769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70922-EC2B-418A-B83C-B146FF1A7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1546F-4EAC-42DA-BA7F-1F25293A40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3D4C98-4D03-409F-91FB-4063BF0BB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C39A-E20F-4EBD-9CC3-B9041EA7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CA0A9-2792-41A4-AAC6-6757F39AC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CA7E9-F3BF-4A2E-935E-D8CF46FB2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D7D64-F1EF-4887-B1C1-D384A5291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6CBEC1-ED2A-499F-A471-8C8218892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1BF9C-3FC3-4921-9395-6A1C0DFC6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E417C-35B3-456D-9854-411837059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74F57-F495-45D1-B5E9-9FC6679A6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F5218-D69A-4C0D-A7E2-12AE22F8B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FEFE7-32E1-44D7-8545-1BD0B59CE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EF2C72-EF5F-435F-8210-32AED6B9FA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48BC-BA85-425E-A9DA-30719263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51FF9C-A936-47BF-930C-5AC8445D95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60E89B-32D4-49B3-A035-FB3158CFEA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88FBD-D987-4433-9417-DEBECBE6A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58DAFC-619E-4196-9BC3-9B6EF1578F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D5E75-ED0C-4074-8BA9-47300F2BF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DF0CCD-B799-4335-A287-13E122B4C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CFC5A-4FEA-419F-A515-78014690A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B181F-2930-4E4F-969C-94B8F6B49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25583-80A3-4190-9D5D-E9840D6D7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605A9-3E3A-4B9A-829F-21153C052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2BBC-4729-4BFA-B963-31A8BF002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94EFE-1B74-4B66-8F1D-9CF56F02D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40E5B2-E799-40B1-AF22-E240A4B9C5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C2CBC0-0B27-4DE0-BC2C-77FBF4500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D42A14-5356-4AA4-A361-F42381EDE0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BE3E2-BCDF-48AB-8D0D-12A5765EF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97B75-305F-46DA-A0EA-824A29EC88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AF412-A65B-413A-A1F3-087039B27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8EA73A-D090-434F-B12C-F75D196F1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B0CFD-8E2D-4619-AC77-70ABE0DF1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91A65-200F-42B4-BE15-E686F0440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C545-2A29-4C4A-BF3F-748F4A91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7C81C-FE2B-4C31-9F53-970599591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95510-F1CA-4DDE-8A4A-F8CA6D338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A7C53-AFF9-4865-BDA5-DDD612AD3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68835-AB5D-4E2B-A3CE-AE952F47BB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7B8358-D0CA-4BBA-984B-9249A3AFB8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A3419B-5C60-4E48-AF39-6D9D594301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B67D8-A29A-4181-8F74-8A865FCF7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D5E7E-B025-4B63-9053-88D38C096E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470452-6518-42E2-AD16-23C3CE82D7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F8136-028E-4895-BD8D-8B2D0A783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EDA6-BAF7-49D2-A7D8-B6E939D68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7F83C-8408-48F8-8DA2-3985198BA7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87373-30B4-4881-BD1F-262F1F347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B7743-FC8A-44A2-8AB7-7AC083E47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10283-C214-44EE-ADB8-5D2E2A3F5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714C9-4F90-4029-8E31-7E8571606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5E804F-74E8-4EEF-9E43-44D6D7A3CF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EB760-4D02-4D88-B268-6AA0463487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4870-A34C-488E-9096-434F8CD7305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D08B-6629-4F5B-BA1C-E51B344776E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9FD5-A4A3-4823-BC2D-3158FA78294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E7B0-93DB-46F4-BCB8-64AB79F8998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24B0-B6B2-4CB1-9866-20573AC5ACF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B1A7-1F2B-466B-BD9E-AA568A177C5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9F4E-7058-43BF-B7DB-43D90B38127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674-925A-490F-BCD4-9EA48A342AE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mbria"/>
              </a:rPr>
              <a:t>Организация профилактики ВИЧ-инфекции в образовательной среде</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64653"/>
                </a:solidFill>
                <a:latin typeface="Cambria"/>
              </a:rPr>
              <a:t>Методы превентивного обучения</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Обучение ответственному поведению несовершеннолетних и молодежи </a:t>
            </a:r>
            <a:endParaRPr b="0" lang="en-US" sz="29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ализация этого направления профилактической работы возможна только в рамках превентивного обучения с формированием мотивации на здоровый образ жизни, изменение проблемного и рискованного поведения, повышение социальной, межличностной компетентности на основе профилактических образовательных программ.</a:t>
            </a: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Обучение ответственному поведению несовершеннолетних и молодежи </a:t>
            </a:r>
            <a:endParaRPr b="0" lang="en-US" sz="29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Задачи, решаемые в рамках данного направления:</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ирование личностных ресурсов;</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звитие эффективных стратегий поведения, способствующих обретению ответственности за свою собственную жизнь;</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обретение уверенности для противостояния негативному влиянию среды, минимизация проявлений рискованного поведения;</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ирование здоровой полоролевой и семейной идентификации личности, в том числе мотивации на отсрочку сексуального дебюта.</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рамках обучения ответственному поведению может быть также реализовано </a:t>
            </a:r>
            <a:r>
              <a:rPr b="0" i="1" lang="ru-RU" sz="2200" spc="-1" strike="noStrike">
                <a:solidFill>
                  <a:srgbClr val="000000"/>
                </a:solidFill>
                <a:latin typeface="Calibri"/>
              </a:rPr>
              <a:t>мотивационное консультирование, </a:t>
            </a:r>
            <a:r>
              <a:rPr b="0" lang="ru-RU" sz="2200" spc="-1" strike="noStrike">
                <a:solidFill>
                  <a:srgbClr val="000000"/>
                </a:solidFill>
                <a:latin typeface="Calibri"/>
              </a:rPr>
              <a:t>направленное на формирование и поддержание готовности к изменению проблемного поведения в сторону здорового.</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Формирование условий, поддерживающих деятельность по превентивному обучению</a:t>
            </a:r>
            <a:endParaRPr b="0" lang="en-US" sz="29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рамках данного направления эффективными методами превентивного обучения могут быть:</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семейное консультирование, </a:t>
            </a:r>
            <a:r>
              <a:rPr b="0" lang="ru-RU" sz="2400" spc="-1" strike="noStrike">
                <a:solidFill>
                  <a:srgbClr val="000000"/>
                </a:solidFill>
                <a:latin typeface="Calibri"/>
              </a:rPr>
              <a:t>направленное на улучшение семейных взаимоотношений. Нормальные семейные взаимоотношения, поддержка семьи являются необходимым условием для полноценного развития личности ребенка, подростка и молодого человека, способствуют формированию привычки заботливого отношения к себе, своему здоровью, навыков ответственного и безопасного поведения. Кроме того, поддержка семьи необходима для изменения проблемного поведения, а также в случае сопереживания кризисной ситуации, связанной с инфицированием ВИЧ;</a:t>
            </a:r>
            <a:endParaRPr b="0" lang="en-US" sz="24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Формирование условий, поддерживающих деятельность по превентивному обучению</a:t>
            </a:r>
            <a:endParaRPr b="0" lang="en-US" sz="29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alibri"/>
              </a:rPr>
              <a:t>обучение родителей основам полового воспитания детей. </a:t>
            </a:r>
            <a:r>
              <a:rPr b="0" lang="ru-RU" sz="2600" spc="-1" strike="noStrike">
                <a:solidFill>
                  <a:srgbClr val="000000"/>
                </a:solidFill>
                <a:latin typeface="Calibri"/>
              </a:rPr>
              <a:t>Работа по половому воспитанию через родителей несовершеннолетних позволит предоставить детям и подросткам объективную информацию и сформировать навыки безопасного сексуального поведения, соблюдая при этом право семьи на выбор формы и содержания семейного воспитания;</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Формирование условий, поддерживающих деятельность по превентивному обучению</a:t>
            </a:r>
            <a:endParaRPr b="0" lang="en-US" sz="29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alibri"/>
              </a:rPr>
              <a:t>привлечение к работе людей, способных влиять на детей и молодежь. </a:t>
            </a:r>
            <a:r>
              <a:rPr b="0" lang="ru-RU" sz="2600" spc="-1" strike="noStrike">
                <a:solidFill>
                  <a:srgbClr val="000000"/>
                </a:solidFill>
                <a:latin typeface="Calibri"/>
              </a:rPr>
              <a:t>Родители, члены семей, учителя, сверстники оказывают большое влияние на поведение детей, подростков и молодежи. Когда авторитетные для молодого человека люди своими действиями подают позитивный пример для подражания, обеспечивают безопасное окружение, доверительные отношения и возможность для самовыражения, у него формируется положительное восприятие инициатив по формированию безопасного поведения;</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Формирование условий, поддерживающих деятельность по превентивному обучению</a:t>
            </a:r>
            <a:endParaRPr b="0" lang="en-US" sz="29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ривлечение молодежи к работе по противодействию эпидемии на лидирующие роли. </a:t>
            </a:r>
            <a:r>
              <a:rPr b="0" lang="ru-RU" sz="2400" spc="-1" strike="noStrike">
                <a:solidFill>
                  <a:srgbClr val="000000"/>
                </a:solidFill>
                <a:latin typeface="Calibri"/>
              </a:rPr>
              <a:t>В этой связи необходимо развитие лидерского и волонтерского</a:t>
            </a:r>
            <a:r>
              <a:rPr b="0" i="1" lang="ru-RU" sz="2400" spc="-1" strike="noStrike">
                <a:solidFill>
                  <a:srgbClr val="000000"/>
                </a:solidFill>
                <a:latin typeface="Calibri"/>
              </a:rPr>
              <a:t> </a:t>
            </a:r>
            <a:r>
              <a:rPr b="0" lang="ru-RU" sz="2400" spc="-1" strike="noStrike">
                <a:solidFill>
                  <a:srgbClr val="000000"/>
                </a:solidFill>
                <a:latin typeface="Calibri"/>
              </a:rPr>
              <a:t>движения с использованием опыта и ресурсов соответствующих общественных</a:t>
            </a:r>
            <a:r>
              <a:rPr b="0" i="1" lang="ru-RU" sz="2400" spc="-1" strike="noStrike">
                <a:solidFill>
                  <a:srgbClr val="000000"/>
                </a:solidFill>
                <a:latin typeface="Calibri"/>
              </a:rPr>
              <a:t> </a:t>
            </a:r>
            <a:r>
              <a:rPr b="0" lang="ru-RU" sz="2400" spc="-1" strike="noStrike">
                <a:solidFill>
                  <a:srgbClr val="000000"/>
                </a:solidFill>
                <a:latin typeface="Calibri"/>
              </a:rPr>
              <a:t>организаций;</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создание и поддержание в образовательных учреждениях организационных и психологических условий </a:t>
            </a:r>
            <a:r>
              <a:rPr b="0" lang="ru-RU" sz="2400" spc="-1" strike="noStrike">
                <a:solidFill>
                  <a:srgbClr val="000000"/>
                </a:solidFill>
                <a:latin typeface="Calibri"/>
              </a:rPr>
              <a:t>для реализации программ профилактики ВИЧ-инфекции и поддерживающего сопровождения ВИЧ-инфицированных и членов их семей.</a:t>
            </a:r>
            <a:r>
              <a:rPr b="0" i="1" lang="ru-RU" sz="2400" spc="-1" strike="noStrike">
                <a:solidFill>
                  <a:srgbClr val="000000"/>
                </a:solidFill>
                <a:latin typeface="Calibri"/>
              </a:rPr>
              <a:t> </a:t>
            </a:r>
            <a:r>
              <a:rPr b="0" lang="ru-RU" sz="2400" spc="-1" strike="noStrike">
                <a:solidFill>
                  <a:srgbClr val="000000"/>
                </a:solidFill>
                <a:latin typeface="Calibri"/>
              </a:rPr>
              <a:t>Конкретной формой реализации каждого из выделенных направлений профилактики ВИЧ/СПИДа являются профилактические программы.</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464653"/>
                </a:solidFill>
                <a:latin typeface="Cambria"/>
              </a:rPr>
              <a:t>Критерии эффективности программ профилактики ВИЧ/СПИДа в образовательном учреждении</a:t>
            </a:r>
            <a:endParaRPr b="0" lang="en-US" sz="2900" spc="-1" strike="noStrike">
              <a:solidFill>
                <a:srgbClr val="464653"/>
              </a:solidFill>
              <a:latin typeface="Bookman Old Style"/>
            </a:endParaRPr>
          </a:p>
        </p:txBody>
      </p:sp>
      <p:sp>
        <p:nvSpPr>
          <p:cNvPr id="380" name=""/>
          <p:cNvSpPr txBox="1"/>
          <p:nvPr/>
        </p:nvSpPr>
        <p:spPr>
          <a:xfrm>
            <a:off x="457200" y="1676520"/>
            <a:ext cx="8229600" cy="44798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Согласно современному подходу к профилактике ВИЧ/СПИДа программа должна соответствовать следующим критериям:</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 программа построена на концепции, адекватной современным направлениям профилактики;</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 в программе четко указаны реалистичные цели и задачи, сформулированы конкретные результаты;</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в программе определена логическая последовательность конкретных мероприятий, необходимых для достижения поставленных целей и получения предполагаемых результатов;</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 программа содержит критерии и способы оценки эффективности проводимой работы и предполагает контроль за полученными результатами;</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464653"/>
                </a:solidFill>
                <a:latin typeface="Times New Roman"/>
                <a:ea typeface="Times New Roman"/>
              </a:rPr>
              <a:t>Критерии эффективности программ профилактики ВИЧ/СПИДа в образовательном учреждении</a:t>
            </a:r>
            <a:endParaRPr b="0" lang="en-US" sz="2900" spc="-1" strike="noStrike">
              <a:solidFill>
                <a:srgbClr val="464653"/>
              </a:solidFill>
              <a:latin typeface="Bookman Old Style"/>
            </a:endParaRPr>
          </a:p>
        </p:txBody>
      </p:sp>
      <p:sp>
        <p:nvSpPr>
          <p:cNvPr id="382" name=""/>
          <p:cNvSpPr txBox="1"/>
          <p:nvPr/>
        </p:nvSpPr>
        <p:spPr>
          <a:xfrm>
            <a:off x="457200" y="1523520"/>
            <a:ext cx="8229600" cy="48006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 программа направлена на усиление проективных и адаптационных факторов и уменьшение факторов риска заражения ВИЧ-инфекцией или развития СПИДа;</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 в программе четко определена целевая группа по таким параметрам, как пол, возраст, сексуальная ориентация, этнические/культурные характеристики, степень вовлеченности в проблему ВИЧ/СПИДа, характер рискованного поведения, социальное окружение, условия жизни;</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ж) программа предполагает развитие ресурсов личности, формирование эффективных стратегий поведения;</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 программа ориентирована на изменение социального окружения от обучающихся и предполагает включение модулей для родителей, учителей, воспитателей, соответствующих тематике программ для несовершеннолетних для инициации внутрисемейного обсуждения и выработки четкой внутрисемейной политики;</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464653"/>
                </a:solidFill>
                <a:latin typeface="Times New Roman"/>
                <a:ea typeface="Times New Roman"/>
              </a:rPr>
              <a:t>Критерии эффективности программ профилактики ВИЧ/СПИДа в образовательном учреждении</a:t>
            </a:r>
            <a:endParaRPr b="0" lang="en-US" sz="2900" spc="-1" strike="noStrike">
              <a:solidFill>
                <a:srgbClr val="464653"/>
              </a:solidFill>
              <a:latin typeface="Bookman Old Style"/>
            </a:endParaRPr>
          </a:p>
        </p:txBody>
      </p:sp>
      <p:sp>
        <p:nvSpPr>
          <p:cNvPr id="384" name=""/>
          <p:cNvSpPr txBox="1"/>
          <p:nvPr/>
        </p:nvSpPr>
        <p:spPr>
          <a:xfrm>
            <a:off x="457200" y="1523880"/>
            <a:ext cx="8229600" cy="46324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 программа предполагает применение интерактивных и тренинговых методов работы: моделирование ситуаций, ролевые игры, дискуссии, обратная связь и т. п.;</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 программа долгосрочная, предполагающая регулярность профилактического воздействия, преемственность тем, цикличность профилактического воздействия;</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л) программа ориентирована на развитие местных ресурсов и предполагает подбор и обучение кадров, информационное и методическое обеспечение;</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м) программа ориентирована на социальный резонанс и учитывает его. Это выражается в привлечении к проблеме общественного внимания и профилактической работе с использованием СМИ;</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 программа содержит потенциал дальнейшего распространения знаний, навыков и умений на другие группы населения, не предусмотренные в программе.</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Методы превентивного обучения</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озговой штурм» </a:t>
            </a:r>
            <a:r>
              <a:rPr b="0" lang="ru-RU" sz="2400" spc="-1" strike="noStrike">
                <a:solidFill>
                  <a:srgbClr val="000000"/>
                </a:solidFill>
                <a:latin typeface="Calibri"/>
              </a:rPr>
              <a:t>– используется для небольшой группы, когда требуется генерация большого количества альтернативных решений определённой проблемы в короткий срок, это метод, при котором принимается любой ответ учащихся на заданный вопрос. Важно не давать оценку высказываемым точкам зрения сразу, а принимать все и записывать мнение каждого на доске или листе бумаги. Участники должны знать, что от них не требуется обоснований или объяснений ответов.</a:t>
            </a:r>
            <a:endParaRPr b="0" lang="en-US" sz="24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озговой штурм» применяется, когда нужно выяснить информированность и/или отношение участников к определенному вопросу. Можно применять эту форму работы для получения обратной связи.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464653"/>
                </a:solidFill>
                <a:latin typeface="Cambria"/>
              </a:rPr>
              <a:t>КОНЦЕПЦИЯ ПРЕВЕНТИВНОГО ОБУЧЕНИЯ В ОБЛАСТИ ПРОФИЛАКТИКИ ВИЧ/СПИДА В ОБРАЗОВАТЕЛЬНОЙ СРЕДЕ</a:t>
            </a:r>
            <a:endParaRPr b="0" lang="en-US" sz="2900" spc="-1" strike="noStrike">
              <a:solidFill>
                <a:srgbClr val="464653"/>
              </a:solidFill>
              <a:latin typeface="Bookman Old Style"/>
            </a:endParaRPr>
          </a:p>
        </p:txBody>
      </p:sp>
      <p:sp>
        <p:nvSpPr>
          <p:cNvPr id="355" name=""/>
          <p:cNvSpPr txBox="1"/>
          <p:nvPr/>
        </p:nvSpPr>
        <p:spPr>
          <a:xfrm>
            <a:off x="457200" y="1676520"/>
            <a:ext cx="8229600" cy="44798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онцепция содержит основные положения, касающиеся организации и проведения превентивного обучения в области ВИЧ/СПИДа в образовательной среде. Своевременное и полномасштабное внедрение указанных положений позволит сдержать темпы роста эпидемии на территории Российской Федерации за счет повышения информированности детей и молодежи о путях передачи ВИЧ/СПИДа и мерах предупреждения заражения и воздействия на их поведение.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04920" y="304920"/>
            <a:ext cx="8229600" cy="4937040"/>
          </a:xfrm>
          <a:prstGeom prst="rect">
            <a:avLst/>
          </a:prstGeom>
          <a:noFill/>
          <a:ln w="0">
            <a:noFill/>
          </a:ln>
        </p:spPr>
        <p:txBody>
          <a:bodyPr anchor="t">
            <a:normAutofit fontScale="84000"/>
          </a:bodyPr>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лгоритм проведения </a:t>
            </a:r>
            <a:r>
              <a:rPr b="1" lang="ru-RU" sz="1800" spc="-1" strike="noStrike">
                <a:solidFill>
                  <a:srgbClr val="000000"/>
                </a:solidFill>
                <a:latin typeface="Calibri"/>
              </a:rPr>
              <a:t>«мозгового штурма»:</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Задать участникам определенную тему или вопрос для обсуждения.</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едложить высказать свои мысли по этому поводу.</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Записывать все прозвучавшие высказывания (принимать их все без возражений). Допускаются уточнения высказываний, если они кажутся вам неясными (в любом случае записывайте идею так, как она прозвучала из уст участника)</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Когда все идеи и суждения высказаны, нужно повторить, какое было дано задание, и перечислить все, что записано вами со слов участников.</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Завершить работу, спросив участников, какие, по их мнению, выводы можно сделать из получившихся результатов и как это может быть связано с темой тренинга.</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завершения «мозгового штурма» (который не должен занимать много времени, в среднем 4-5 минут), необходимо обсудить все варианты ответов, выбрать главные и второстепенные.</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зговой штурм» является эффективным методом при необходимости:</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бсуждения деликатных и спорных вопросов;</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тимулирования неуверенных участников для привлечения их к обсуждению;</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бора большого количества идей в течение короткого периода времени;</a:t>
            </a:r>
            <a:endParaRPr b="0" lang="en-US" sz="1800" spc="-1" strike="noStrike">
              <a:solidFill>
                <a:srgbClr val="000000"/>
              </a:solidFill>
              <a:latin typeface="Gill Sans MT"/>
            </a:endParaRPr>
          </a:p>
          <a:p>
            <a:pPr marL="228960" indent="-22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ыяснения информированности или подготовленности аудитории.</a:t>
            </a:r>
            <a:endParaRPr b="0" lang="en-US" sz="1800" spc="-1" strike="noStrike">
              <a:solidFill>
                <a:srgbClr val="000000"/>
              </a:solidFill>
              <a:latin typeface="Gill Sans MT"/>
            </a:endParaRPr>
          </a:p>
          <a:p>
            <a:pPr marL="228960" indent="-2289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304920"/>
            <a:ext cx="8229600" cy="585144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Работа в малых группах</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профилактического обучения необходимо строить с ориентацией на обучающегося.</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иболее эффективной в данной ситуации является работа в группах. В этом случае педагог обеспечивает диагностику и мониторинг, организует учебную среду, осуществляет поддержку (дает советы, разъяснения).</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Такая форма работы применяется, когда нужно продемонстрировать сходство или различия определенных явлений, выработать стратегию или разработать план, выяснить отношение различных групп участников к одному и тому же вопросу.</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Что же дает внедрение интерактивного режима группе как субъекту образовательного процесса? Это, прежде всего:</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развитие навыков общения и взаимодействия в группе;</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формирование ценностноориентационного единства группы;</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поощрение к гибкой смене социальных ролей в зависимости от ситуации</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380520"/>
            <a:ext cx="8229600" cy="57754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Ролевая игра</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олевая игра – это разыгрывание участниками группы сценки с заранее распределенными ролями в интересах овладения определенной поведенческой или эмоциональной стороной жизненных ситуаций.</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олевая игра проводится в небольших группах (3-5 участников). Участники получают задание на карточках (на доске, листах бумаги и т.д.), распределяют роли, обыгрывают ситуацию и представляют (показывают) всей группе. Преподаватель может сам распределить роли с учетом характеров учащихся.</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еимущество этого метода в том, что каждый из участников может представить себя в предложенной ситуации, ощутить те или иные состояния более реально, почувствовать последствия тех или иных действий и принять решение.</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анная форма работы применяется для моделирования поведения и эмоциональных реакций людей в тех или иных ситуациях путем конструирования игровой ситуации, в которой такое поведение предопределено заданными условиями.</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380520"/>
            <a:ext cx="8229600" cy="632484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инилекция</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ини-лекция является одной из эффективных форм преподнесения теоретического материала. Перед ее началом можно провести мозговой штурм или ролевую игру, связанную с предстоящей темой, что поможет актуализировать ее для участников, выяснить степень их информированности и отношение к теме.</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 излагается на доступном для участников языке. Каждому термину необходимо дать определение. Теорию лучше объяснять по принципу «от общего к частному». Перед тем, как перейти к следующему вопросу, необходимо подытожить сказанное и убедиться, что вы были правильно поняты.</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ажно ссылаться на авторитетные источники и подчеркивать, что все сказанное – не придумано вами, а изучено и описано специалистами в данной области. По окончании выступления нужно обсудить все возникшие у участников вопросы, затем спросить, как можно использовать полученную информацию на практике и к каким результатам это может привести.</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инилекции предлагается проводить в интерактивном режиме: перед объявлением какой либо информации тренер спрашивает, что знают об этом участники; после предоставления какого либо утверждения тренер предлагает обсудить отношение участников к этому вопросу.</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пример:</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А вы как считаете?</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вы предлагаете это делать?</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вы думаете, к чему это может привести? И т.д.</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304920"/>
            <a:ext cx="8229600" cy="585144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аботка проектов</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от метод позволяет участникам мысленно выйти за пределы аудитории и составить проект</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оих действий по обсуждаемому вопросу. Самое главное, что группа или отдельный участник имеет возможность защитить свой проект, доказать преимущество его перед другими и узнать мнение друзей.</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пример: Составить проект по профилактике ВИЧ-инфекции в своем городе.</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частники могут обратиться за консультацией, дополнительной литературой в специализированные учреждения, библиотеки и т.д.</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ожно предложить участникам собрать публикации из газет, фотографии, статьи, касающиеся вопросов темы, а затем обсудить эти материалы со всей группой.</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380520"/>
            <a:ext cx="8229600" cy="57754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смотр и обсуждение видеофильмов</a:t>
            </a:r>
            <a:endParaRPr b="0" lang="en-US" sz="2400" spc="-1" strike="noStrike">
              <a:solidFill>
                <a:srgbClr val="000000"/>
              </a:solidFill>
              <a:latin typeface="Gill Sans MT"/>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занятиях по профилактическому образованию можно использовать как художественные, так и документальные видеофильмы, фрагменты из них, а также видеоролики и видеосюжеты.</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идеофильмы соответствующего содержания можно использовать на любом из этапов занятия и тренинга в соответствии с темой и целью, а не только как дополнительный материал.</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ед показом фильма необходимо поставить перед обучаемыми несколько (3-5) ключевых вопросов. Это будет основой для последующего обсуждения. Можно останавливать фильм на заранее отобранных кадрах и проводить дискуссию.</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конце просмотра фильма необходимо обязательно совместно с обучаемыми подвести итоги и озвучить извлеченные выводы.</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380520"/>
            <a:ext cx="8229600" cy="57754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зминка</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минки проводятся с целью снятия психологической и физической нагрузки. Разминки так же способствуют развитию коммуникативных навыков (общению). Они должны быть уместными по содержанию, форме деятельности и продолжительности. Так, например, перед упражнениями, требующими сосредоточенного внимания, не следует проводить слишком подвижные игры-разминки.</a:t>
            </a:r>
            <a:endParaRPr b="0" lang="en-US" sz="2000" spc="-1" strike="noStrike">
              <a:solidFill>
                <a:srgbClr val="000000"/>
              </a:solidFill>
              <a:latin typeface="Gill Sans MT"/>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братная связь</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тная связь позволяет выяснить реакцию участников на обсуждаемые темы, увидеть достоинства и недостатки организации и проведения обучения, оценить результат.</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частникам предлагается высказаться по поводу прошедшего упражнения, информационного блока, конкретного дня или всего тренинга.</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акцентировать внимание на чувствах и переживаниях каждого из участников.</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 высказывания должны быть выслушаны как со стороны тренера, так и со стороны других участников. Каждого говорящего следует благодарить за сказанное. Предоставлять обратную связь наравне со всеми участниками следует также тренер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80520"/>
            <a:ext cx="8229600" cy="57754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РЕНИНГ</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нинг (от английского train – воспитывать, учить, приучать) – это процесс получения навыков и умений в какой-либо области посредством выполнения последовательных заданий, действий или игр, направленных на достижение наработки и развития требуемого навыка.</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нинг позволяет дать его участникам недостающую информацию, сформировать навыки устойчивости к давлению сверстников, навыки безопасного поведения. Неоспоримым достоинством тренинга является то, что он обеспечивает активное вовлечение всех участников в процесс обучения, в нашем случае – профилактического.</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304920"/>
            <a:ext cx="8229600" cy="5851440"/>
          </a:xfrm>
          <a:prstGeom prst="rect">
            <a:avLst/>
          </a:prstGeom>
          <a:noFill/>
          <a:ln w="0">
            <a:noFill/>
          </a:ln>
        </p:spPr>
        <p:txBody>
          <a:bodyPr anchor="t">
            <a:normAutofit fontScale="95000"/>
          </a:bodyPr>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Каковы же требования к проведению тренинга? Это, прежде всего:</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оптимальное количество участников тренинга 20-25 человек;</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ответствующее по размерам помещение, где посадочные места расположены по «тренинговому кругу», что способствует активному взаимодействию его участников;</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 начале любого занятия тренинга необходимо ознакомить участников с целями и задачами данного занятия;</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оведение на первом занятии тренинга упражнения «знакомство» и принятие «соглашения» – правил работы группы;</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здание дружелюбной доверительной атмосферы и ее поддержание в течение всего тренинга;</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овлечение всех участников в активную деятельность на протяжении всего тренинга;</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уважение чувств и мнений каждого участника;</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оощрение участников тренинга;</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ренер подводит участников к поставленной перед ними цели занятия, не навязывая при этом своего мнения;</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обеспечение тренером соблюдения временных рамок каждого этапа тренинга;</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обеспечение эффективного сочетания теоретического материала и интерактивных упражнений;</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обязательность подведения итогов тренинга по его окончании.</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ренинг может состоять из одного или нескольких занятий, иметь различную продолжительность – от одного часа до нескольких дней.</a:t>
            </a:r>
            <a:endParaRPr b="0" lang="en-US" sz="1600" spc="-1" strike="noStrike">
              <a:solidFill>
                <a:srgbClr val="000000"/>
              </a:solidFill>
              <a:latin typeface="Gill Sans MT"/>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228600"/>
            <a:ext cx="8229600" cy="592776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Каковы же структура и этапы проведения тренинга?</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1. Вначале тренер должен обязательно сообщить участникам тему тренинга.</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2. Затем проводится ознакомление участников с целью и задачами тренинга. Хорошо, если цели и задачи написаны и вывешены на видном месте.</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3. Материалы и оборудование, необходимые для проведения тренинга, готовятся заранее. К подготовке можно привлекать участников тренинга.</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228600"/>
            <a:ext cx="8229600" cy="592776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оценкам экспертов ВОЗ, снизить темпы развития эпидемии возможно, в первую очередь, за счет просвещения людей с целью изменения их поведения в сторону безопасного.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разовательная среда имеет большой ресурс для прямого и опосредованного влияния на систему ценностей детей и подростков, что позволяет в зависимости от целевой аудитории и ожидаемых результатов реализовывать профилактические программы различного уровня. Профилактическая работа может вестись как через предметное обучение, так и через организацию внеурочной активности учащихся. Применение нескольких подходов к профилактике, возможное только в образовательной среде, существенным образом повышает ее эффективность.</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ети и подростки, находящиеся в образовательной среде, имеют еще не сформированную систему жизненных ценностей, которую можно пытаться изменить путем проведения профилактической работы и повышения мотивации к здоровому образу жизни.</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228600"/>
            <a:ext cx="8229600" cy="59277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ведение.</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этап может быть проведен в любой удобной форме, однако он задает тон последующей работы. Поэтому на этом этапе тренер должен создать демократическую, располагающую атмосферу. Хорошо, если тренер скажет о своих ожиданиях и о пожеланиях относительно предстоящей работы. «Ввести» участников в работу можно с помощью вступительного слова, мультимедиапрезентации и т.п.</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накомство.</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комство представляет собой необходимую процедуру первого занятия любого тренинга.</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комство позволяет активизировать группу, вовлечь ее участников в процесс обучения, развить навыки общения. Знакомство проводится даже в том случае, когда участники знают друг друга.</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жно провести игры на знакомство: «Интервью», «Узнай меня», «Обмен визитками» и др.</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33520" y="304920"/>
            <a:ext cx="8229600" cy="58514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жидания участников.</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этом этапе следует выяснить ожидания участников от семинара-тренинга с помощью вопросов, на которые они отвечают по очереди «по кругу». Например: «Что вы хотите получить/узнать на этом семинаре?»</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жно заранее нарисовать на ватмане «дерево ожиданий». Попросить каждого участника написать на цветных клеящихся листочках (стикерах) свои ожидания от семинара-тренинга и наклеить свой листок на «дерево ожиданий». А затем озвучить все эти ожидания.</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ругой вариант – расположить «листочки ожидания» в виде спирали по нарастающей. Можно сделать из листочков «Книгу ожиданий».</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ще один вариант, это, когда каждый участник выходит и записывает свое ожидание на флип-чарте.</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орядок проведения тренинга.</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того, как все участники расскажут (напишут) о своих ожиданиях, тренер обязательно сообщает им порядок проведения тренинга. Это делается независимо от того, какова продолжительность данного семинара-тренинга, сколько занятий он в себя включает. Следует обязательно выяснить, нет ли у участников вопросов.</a:t>
            </a:r>
            <a:endParaRPr b="0" lang="en-US" sz="1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228600"/>
            <a:ext cx="8229600" cy="59277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ринятие правил работы группы («соглашен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того, чтобы с самого начала занятия тренинга участники почувствовали ответственность за свое обучение, создать соответствующую рабочую атмосферу, проникнутую взаимным уважением и доверием, а также для повышения эффективности усвоения материала рекомендуется принятие правил поведения на занятии – тренинге или «соглашен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нятие «соглашения» способствует созданию такой обстановки, когда каждый участник может открыто высказываться и выражать свои чувства и взгляды, не боясь стать объектом насмешек и критики, был уверенным в том, что все личное, обсуждаемое на занятии, не выйдет за пределы группы.</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ункты «соглашения» необходимо записать на листе бумаги или доске. После совместного</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суждения каждого пункта соглашение принимается большинством голосов и вывешивается на видном месте. Необходимо обратить внимание участников тренинга на то, что после голосования каждый из них несет ответственность за исполнение данного «соглашен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304920"/>
            <a:ext cx="8229600" cy="58514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ример «соглашен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не опаздываем</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тремимся узнать и запомнить больше;</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блюдаем правило «поднятой руки»;</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ысказываемся откровенно;</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говорим по одному;</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говорим по существу;</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лушаем друг друга;</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тремимся понять друг друга;</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щадим чувства других;</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блюдаем конфиденциальность;</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блюдаем временные границы;</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оощряем друг друга (словами, аплодисментами) и т.д.</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228600"/>
            <a:ext cx="8229600" cy="5927760"/>
          </a:xfrm>
          <a:prstGeom prst="rect">
            <a:avLst/>
          </a:prstGeom>
          <a:noFill/>
          <a:ln w="0">
            <a:noFill/>
          </a:ln>
        </p:spPr>
        <p:txBody>
          <a:bodyPr anchor="t">
            <a:normAutofit fontScale="98000"/>
          </a:bodyPr>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ценка уровня информированности группы.</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ой из задач, стоящих перед преподавателем (тренером) является оценка уровня информированности участников тренинга. Для этой цели используется опросник или анкета, содержащие вопросы по теме тренинга.</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кеты сохраняются до окончания всего тренинга, и затем уровень знаний учащихся оценивается еще раз. Сравнивая результаты, интересно будет узнать, что изменилось в знаниях и навыках участников. Кроме того, можно будет сделать оценку эффективности тренинга.</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ктуализация проблемы.</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выработки мотивации к изменению поведения следует пробудить у участников интерес к обсуждаемой на тренинге проблеме, сделать эту проблему актуальной для каждого. С этой целью можно провести ролевую игру.</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бучение.</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нер должен владеть психолого-педагогическими знаниями и умело применять их в учебном процессе, владеть методами получения, накопления и преподнесения информации участникам, влияния на их поведение и отношения.</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нер должен знать цели и задачи, методы и способы обучения, источники информации, профилактические образовательные программы.</a:t>
            </a:r>
            <a:endParaRPr b="0" lang="en-US" sz="1800" spc="-1" strike="noStrike">
              <a:solidFill>
                <a:srgbClr val="000000"/>
              </a:solidFill>
              <a:latin typeface="Gill Sans MT"/>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28600"/>
            <a:ext cx="8229600" cy="5927760"/>
          </a:xfrm>
          <a:prstGeom prst="rect">
            <a:avLst/>
          </a:prstGeom>
          <a:noFill/>
          <a:ln w="0">
            <a:noFill/>
          </a:ln>
        </p:spPr>
        <p:txBody>
          <a:bodyPr anchor="t">
            <a:normAutofit fontScale="93000"/>
          </a:bodyPr>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Необходимые условия для успешного обучения:</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400" spc="-1" strike="noStrike">
                <a:solidFill>
                  <a:srgbClr val="000000"/>
                </a:solidFill>
                <a:latin typeface="Calibri"/>
              </a:rPr>
              <a:t>готовность обучаемого учиться;</a:t>
            </a:r>
            <a:endParaRPr b="0" lang="en-US" sz="14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применение различных форм и методов обучения;</a:t>
            </a:r>
            <a:endParaRPr b="0" lang="en-US" sz="14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использование повторения для закрепления знаний;</a:t>
            </a:r>
            <a:endParaRPr b="0" lang="en-US" sz="14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соответствие процесса обучения реальной жизненной ситуации;</a:t>
            </a:r>
            <a:endParaRPr b="0" lang="en-US" sz="14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своевременность непредвзятой, адекватной оценки действий обучаемых тренером</a:t>
            </a:r>
            <a:r>
              <a:rPr b="0" lang="ru-RU" sz="1600" spc="-1" strike="noStrike">
                <a:solidFill>
                  <a:srgbClr val="000000"/>
                </a:solidFill>
                <a:latin typeface="Calibri"/>
              </a:rPr>
              <a:t>.</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Непосредственно обучение включает в себя 2 этапа:</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Информационный блок или предоставление теоретических знаний.</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Выработка практических навыков.</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Информационный блок.</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тот этап можно начать с ответов на вопросы из опросников, которые вызвали затруднение.</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новной материал может быть преподнесен в виде лекции – мультимедийной презентации. Затем на выбор тренера могут быть использованы различные интерактивные методы обучения: ролевые игры, дискуссии, приглашение визитера, работа в малых группах и т.д.</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Выработка практических навыков.</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что любые знания информационного, теоретического плана должны обязательно сочетаться с практическими умениями и навыками, необходимо вырабатывать эти навыки. Данный этап тренинга призван способствовать приобретению участниками практического опыта и формированию ответственного поведения, помочь им определиться в различных жизненных ситуациях и сделать правильный выбор. С этой целью можно использовать ролевые игры, инсценировки, дискуссии, «мозговой штурм» и другие интерактивные формы работы в зависимости от условий.</a:t>
            </a: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228600"/>
            <a:ext cx="8229600" cy="59277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одведение итогов</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тоги подводятся в конце любого занятия, тренинга. Как правило, эта процедура рассчитана на то, чтобы участники поделились своими впечатлениями, ощущениями, высказали свои пожелания. Подведение итогов можно проводить в виде заполнения «листов откровения», опросников, анкет.</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ренер может спросить участников семинара, что нового они узнали, что было для них интересно, полезно, предложить вспомнить, какие упражнения они выполняли, таким образом, закрепляя пройденный материал. Хорошо, если тренер постоянно поощряет участников тренинга различными доступными ему способами: выражает устную или письменную благодарность, вручает какие то брошюры, буклеты, сувениры и т.п. Либо доверяет отличившимся участникам наиболее ответственные задан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римерные вопросы «листа откровений»:</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Какие чувства ты испытывал на протяжении всего занят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Считаешь ли ты, что информация, представленная на занятии, тебе необходима?</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Доступно ли, понятно ли был изложен материал занятия?</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 Считаешь ли ты данное занятие «шагом вперед» в твоей подготовке к тренерской работе?</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ждый участник заполняет «лист откровения», затем все «откровения» зачитываются (можно без указания имени автора), обсуждаются коллективно. Тренер подводит итог, делает резюме.</a:t>
            </a: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464653"/>
                </a:solidFill>
                <a:latin typeface="Cambria"/>
              </a:rPr>
              <a:t>Направления превентивного обучения в области профилактики ВИЧ/СПИДа</a:t>
            </a:r>
            <a:endParaRPr b="0" lang="en-US" sz="29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ксперты ВОЗ и отечественные ученые выделяют сегодня наиболее перспективные направления превентивного обучения в области профилактики ВИЧ/СПИДа: </a:t>
            </a:r>
            <a:endParaRPr b="0" lang="en-US" sz="24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освещение и информирование в области ВИЧ/СПИДа;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учение ответственному поведению детей и молодежи;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формирование условий, поддерживающих профилактическую деятельность.</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Просвещение и информирование в области ВИЧ/СПИД</a:t>
            </a:r>
            <a:r>
              <a:rPr b="1" lang="ru-RU" sz="2900" spc="-1" strike="noStrike">
                <a:solidFill>
                  <a:srgbClr val="464653"/>
                </a:solidFill>
                <a:latin typeface="Cambria"/>
              </a:rPr>
              <a:t> </a:t>
            </a:r>
            <a:endParaRPr b="0" lang="en-US" sz="2900" spc="-1" strike="noStrike">
              <a:solidFill>
                <a:srgbClr val="464653"/>
              </a:solidFill>
              <a:latin typeface="Bookman Old Style"/>
            </a:endParaRPr>
          </a:p>
        </p:txBody>
      </p:sp>
      <p:sp>
        <p:nvSpPr>
          <p:cNvPr id="36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освещение и информирование в области ВИЧ/СПИДа предполагают обеспечение предоставления всесторонней и точной информации: о механизме инфицирования, путях передачи ВИЧ-инфекции, обстоятельствах, повышающих риск инфицирования (злоупотребление наркотическими средствами, промискуитет и др.), о мерах профилактики.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осветительская деятельность в образовательных учреждениях должна опираться на определенные принципы информирования о ВИЧ, необходимость соблюдения которых доказана международным опытом и подтверждена специалистами Всемирной организации здравоохранения (ВОЗ).</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Основные принципы информирования о ВИЧ:</a:t>
            </a:r>
            <a:endParaRPr b="0" lang="en-US" sz="2900" spc="-1" strike="noStrike">
              <a:solidFill>
                <a:srgbClr val="464653"/>
              </a:solidFill>
              <a:latin typeface="Bookman Old Style"/>
            </a:endParaRPr>
          </a:p>
        </p:txBody>
      </p:sp>
      <p:sp>
        <p:nvSpPr>
          <p:cNvPr id="363" name=""/>
          <p:cNvSpPr txBox="1"/>
          <p:nvPr/>
        </p:nvSpPr>
        <p:spPr>
          <a:xfrm>
            <a:off x="457200" y="914040"/>
            <a:ext cx="8229600" cy="52419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достоверность информации;</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нанесение вреда неправильной (ложной) или неправильно понятой информацией;</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ключение манипулирования информацией (смешение достоверной и недостоверной информации или подача достоверной информации в контексте, позволяющем делать ложные выводы);</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йтральность в подаче информации;</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сведомленное согласие на получение профилактической информации;</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заимоуважение в процессе информирования;</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464653"/>
                </a:solidFill>
                <a:latin typeface="Cambria"/>
              </a:rPr>
              <a:t>Основные принципы информирования о ВИЧ:</a:t>
            </a:r>
            <a:endParaRPr b="0" lang="en-US" sz="2900" spc="-1" strike="noStrike">
              <a:solidFill>
                <a:srgbClr val="464653"/>
              </a:solidFill>
              <a:latin typeface="Bookman Old Style"/>
            </a:endParaRPr>
          </a:p>
        </p:txBody>
      </p:sp>
      <p:sp>
        <p:nvSpPr>
          <p:cNvPr id="365" name=""/>
          <p:cNvSpPr txBox="1"/>
          <p:nvPr/>
        </p:nvSpPr>
        <p:spPr>
          <a:xfrm>
            <a:off x="457200" y="914040"/>
            <a:ext cx="8229600" cy="524196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стороннее представление проблемы (объективность и многоаспектность: рассмотрение физиологического, социального, демографического, правового, духовного, психологического аспектов);</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чностное отношение при информировании о путях предохранения от ВИЧ-инфекции;</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декватность целевой группе (социокультурная и когнитивная информации);</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здание экзистенциальной перспективы (альтернативность, иерархичность ступенчатой информации, расстановка ударений, побуждение к более полному восприятию жизни, с ценностями, смыслом, дальнейшей жизненной перспективой);</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чувственное отношение к ВИЧ-инфицированным.</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456840"/>
            <a:ext cx="8229600" cy="5699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нформирование детей и молодежи в области ВИЧ/СПИДа осуществляют не только специалисты образовательных учреждений, но и родители. Следовательно, необходимо просвещение родителей и лиц, заменяющих их.</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na</cp:lastModifiedBy>
  <dcterms:modified xsi:type="dcterms:W3CDTF">2012-02-28T16:55:46Z</dcterms:modified>
  <cp:revision>20</cp:revision>
  <dc:subject/>
  <dc:title>Организация профилактики ВИЧ-инфекции в образовательной среде</dc:title>
</cp:coreProperties>
</file>