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311C-2D57-47C5-BBC3-953657EB1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670E-C85E-4D0A-A4CD-28D51442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AB0E-D101-48B5-8F5A-1EABF4EBB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354A-494E-4341-8BC9-D9E934C81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CB49-A15E-40F6-8E5F-401CABDCA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EA57-78FC-4DE8-8BA2-27800E2B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26C2-AD35-4E6E-9FCF-6C8AAE4C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C804-5802-4D7B-961B-2AA4BBEB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5DAD-E21E-4101-AA4A-0E35354D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ADCD-3538-46BC-91CA-B4CB7424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6341-7BC4-4D9E-BAB2-EB174C43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AC31-0FDB-4413-927D-D6D70508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B882-C799-4E4C-AA8B-4BD4514F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9957-645E-4485-A49C-A3D665E6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216E-D521-449F-A314-637BDFE1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8DF5-AF99-4971-8496-345AFBB36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50F0-99BB-46B4-9F29-B33D51C2A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722C-A537-4A71-8E0B-367EC6D8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11EC-FBFD-4D98-A7A4-7871C06F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FAA7-4B36-4914-8EAA-894A41F2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FE0C-66D6-4211-B1EC-B4602CB4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798C-499E-4E2D-8866-B2EF8EA2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6260-D524-4B56-B1D3-D2211FB2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6EDE-08C4-4993-AE51-D4DA13CA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9360-8913-4567-A07C-A0FC04B4C96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FD2C-00D2-4F63-B75D-B76F23A68FE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532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29e"/>
                </a:solidFill>
                <a:latin typeface="Arial"/>
              </a:rPr>
              <a:t>Основные  положения российского законодательства в сфере ВИЧ/СПИД. </a:t>
            </a:r>
            <a:br>
              <a:rPr sz="3200"/>
            </a:br>
            <a:r>
              <a:rPr b="0" lang="en-US" sz="3200" spc="-1" strike="noStrike">
                <a:solidFill>
                  <a:srgbClr val="00a29e"/>
                </a:solidFill>
                <a:latin typeface="Arial"/>
              </a:rPr>
              <a:t>Социальные и правовые аспекты ВИЧ/СПИДа: права и обязанности ВИЧ -инфицированных граждан</a:t>
            </a:r>
            <a:endParaRPr b="0" lang="en-US" sz="32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648320" y="5105160"/>
            <a:ext cx="3581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ГУЗ СО ОЦ СПИД и ИЗ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г. Ирби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Ивачева Л.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a29e"/>
                </a:solidFill>
                <a:latin typeface="Arial"/>
              </a:rPr>
              <a:t>ВИЧ-инфицированные несовершеннолетние – </a:t>
            </a:r>
            <a:br>
              <a:rPr sz="4000"/>
            </a:br>
            <a:r>
              <a:rPr b="0" lang="ru-RU" sz="4000" spc="-1" strike="noStrike">
                <a:solidFill>
                  <a:srgbClr val="00a29e"/>
                </a:solidFill>
                <a:latin typeface="Arial"/>
              </a:rPr>
              <a:t>дети-инвалиды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ети – инвалиды, прошедшие МСЭК по клиническим показания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ети, приравненные к инвалидам по ФЗ -3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на основании справки КЭК, выданной  в ОЦ СПИД и ИЗ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значение социальной пенс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едоставление льго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ыплата пособий по уходу за ребенком-инвалидо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прерывный стаж родителей, законных представител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29e"/>
                </a:solidFill>
                <a:latin typeface="Arial"/>
              </a:rPr>
              <a:t>Меры социальной поддержки детей-инвалидов 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2280" y="18284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осударственная социальная пенсия детям-инвалидам    (ФЗ от 15.12.01г. № 166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ЕДВ для детей-инвалид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ФЗ от 24.11.95г. №18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Ежемесячная компенсационная выплата неработающим трудоспособным лицам, осуществляющим уход за нетрудоспособными гражданами                                   (Указ Президента РФ от 26.12.2006г. №1455; Постановление  Правительства РФ от 4.06.07г №34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29e"/>
                </a:solidFill>
                <a:latin typeface="Arial"/>
              </a:rPr>
              <a:t>Льготы детей-инвалидов и их семей на областном уровне: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% скидка на оплату коммунальных платежей (также по справкам КЭК или МСЭК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бучение детей-инвалидов на дому с компенсацией затрат родителя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лучение реабилитационных мероприятий, технических средств реабилитации в объеме Федерального перечн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оздание условий труда в соответствии с ИП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Обязанности и ответственность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т. 122 УК РФ «Заражение ВИЧ-инфекцией»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аведомое постановление другого лица в опасность заражения ВИЧ наказывается ограничением свободы на срок до 3 лет либо арестом на срок от 3 до 6 месяцев, либо лишением свободы на срок до 1 го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аражение другого лица ВИЧ лицом, знавшим о наличии у него этой болезни, наказывается лишением свободы на срок до 5 ле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аражение другого лица ВИЧ вследствие ненадлежащего исполнения лицом своих профессиональных обязанностей наказывается лишением свободы на срок до 5 лет с лишением права занимать определенные должности или заниматься определенной деятельностью на срок до 3 лет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29e"/>
                </a:solidFill>
                <a:latin typeface="Arial"/>
              </a:rPr>
              <a:t>В ст. 122 УК РФ в 2003 году  внесено дополнение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а основании которого человек, поставивший партнера в опасность заражения либо заразивший его ВИЧ, освобождается от УО, «если другое лицо, поставленное в опасность заражения либо зараженное ВИЧ-инфекцией, было своевременно предупреждено о наличии у первого этой болезни и добровольно согласилось совершать действия, создавшие опасность заражения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Ограничение прав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ши законы предусматривают небольшое количество ограничений для ВИЧ-положительных людей в Росс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ИЧ-инфицированный человек не может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ть донором крови и орган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ботать с продуктами кров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лужить на срочной военной служб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сыновлять детей (но могут быть опекунами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ИЧ+ иностранец не может проживать в России свыше 3 месяцев, не может получить российское гражданство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сновные виды нарушений прав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ИЧ-инфицированных  </a:t>
            </a:r>
            <a:endParaRPr b="0" lang="en-US" sz="36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При поступлении на работу  или во время проведения  периодических профилактических  медицинских осмотров - требование   работодателя   сдать анализ на ВИЧ и предоставить результаты анализа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В    ОУ – отказ в принятии  несовершеннолетних  с ВИЧ-инфекцией в учреждение, предложение об исключении из ОУ в ситуации разглашения диагноза 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(в ДОУ, среднеспециальных  ОУ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В Пенсионном фонде – отказ в предоставлении социального пособия на несовершеннолетнего с ВИЧ-инфекцией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Отказ в льготах на оплату коммунальных платежей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В социуме имеет место стигма и дискриминация по отношению к ВИЧ-инфицированному в быту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Разглашение диагноза, отказ в оказании мед. помощи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460440"/>
            <a:ext cx="7999200" cy="68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5498f"/>
                </a:solidFill>
                <a:latin typeface="Arial"/>
              </a:rPr>
              <a:t>Основы законодательства РФ об охране здоровья граждан.</a:t>
            </a:r>
            <a:endParaRPr b="0" lang="en-US" sz="32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татья 61. Врачебная тай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нформация о факте обращения за медицинской помощью, состоянии здоровья гражданина, диагнозе его заболевания и иные сведения, полученные при его обследовании и лечении, составляют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рачебную тайну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Гражданину должна быть подтверждена гарантия конфиденциальности передаваемых им сведен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120" y="1676160"/>
            <a:ext cx="79599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 допускается разглашение сведений, составляющих врачебную тайну лицами, которым они стали известны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и обучен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сполнении профессиональных, служебных и иных обязанностей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кроме отдельных случае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533520" y="45720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5498f"/>
                </a:solidFill>
                <a:latin typeface="Comic Sans MS"/>
              </a:rPr>
              <a:t>Основы законодательства РФ об охране здоровья гражда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29e"/>
                </a:solidFill>
                <a:latin typeface="Arial"/>
              </a:rPr>
              <a:t>Причины распространения </a:t>
            </a:r>
            <a:br>
              <a:rPr sz="4000"/>
            </a:br>
            <a:r>
              <a:rPr b="0" lang="en-US" sz="4000" spc="-1" strike="noStrike">
                <a:solidFill>
                  <a:srgbClr val="00a29e"/>
                </a:solidFill>
                <a:latin typeface="Arial"/>
              </a:rPr>
              <a:t>ВИЧ-инфекции: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28951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оявления дискриминаци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рушение прав и свобо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Боязнь раскрытия диагноз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августе 2005 год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издано постановление Правительства Свердловской области от 05.08.2005 года №629-П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«О создании филиалов ГУЗ Свердловский областной центр по профилактике и борьбе со СПИДом и инфекционными заболеваниями в управленческих  округах Свердловской области», на основании которого с 01.01.2006 года в пяти управленческих округах Свердловской области организованы филиалы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г. Первоуральске, г. Н.Тагиле, г. Каменске-Уральском, г. Ирбите, г. Серове</a:t>
            </a:r>
            <a:br>
              <a:rPr sz="2000"/>
            </a:br>
            <a:r>
              <a:rPr b="0" lang="en-US" sz="2000" spc="-1" strike="noStrike">
                <a:solidFill>
                  <a:srgbClr val="4477de"/>
                </a:solidFill>
                <a:latin typeface="Arial"/>
              </a:rPr>
              <a:t>ЦЕЛЬ: улучшение качества и доступности оказания специализированной медицинской помощи ВИЧ-инфицированным в муниципальных образованиях Свердловской области</a:t>
            </a:r>
            <a:br>
              <a:rPr sz="2000"/>
            </a:br>
            <a:endParaRPr b="0" lang="en-US" sz="2000" spc="-1" strike="noStrike">
              <a:solidFill>
                <a:srgbClr val="00a29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075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a29e"/>
                </a:solidFill>
                <a:latin typeface="Arial"/>
              </a:rPr>
              <a:t>Законодательство о ВИЧ/СПИДе</a:t>
            </a:r>
            <a:br>
              <a:rPr sz="6600"/>
            </a:b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77de"/>
                </a:solidFill>
                <a:latin typeface="Tahoma"/>
              </a:rPr>
              <a:t>Федеральный закон от 30 марта 1995г. </a:t>
            </a:r>
            <a:r>
              <a:rPr b="1" lang="en-US" sz="2400" spc="-1" strike="noStrike">
                <a:solidFill>
                  <a:srgbClr val="4477de"/>
                </a:solidFill>
                <a:latin typeface="Tahoma"/>
              </a:rPr>
              <a:t>N</a:t>
            </a:r>
            <a:r>
              <a:rPr b="1" lang="ru-RU" sz="2400" spc="-1" strike="noStrike">
                <a:solidFill>
                  <a:srgbClr val="4477de"/>
                </a:solidFill>
                <a:latin typeface="Tahoma"/>
              </a:rPr>
              <a:t>38-ФЗ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77de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4477de"/>
                </a:solidFill>
                <a:latin typeface="Tahoma"/>
              </a:rPr>
              <a:t>«О предупреждении распространения в РФ заболевания, вызванного вирусом иммунодефицита человека (ВИЧ-инфекции)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новы законодательства РФ об охране здоровья граждан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(в ред. Указа Президента РФ от 24.12.1993 N 2288; Федеральных законов от 02.03.1998 N30-ФЗ, от 20.12.1999 N 214-ФЗ)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головный кодекс РФ - Ст.122 «Заражение  ВИЧ-инфекцией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63480" y="857160"/>
            <a:ext cx="7437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Согласно ФЗ № 38 от 30.03.1995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«О предупреждении  распространения в РФ заболевания, вызываемого ВИЧ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определены контингенты, подлежащие обязательному и добровольному обследованию на ВИЧ-инфек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a29e"/>
                </a:solidFill>
                <a:latin typeface="Arial"/>
              </a:rPr>
              <a:t>Категории лиц, которые должны проходить </a:t>
            </a:r>
            <a:r>
              <a:rPr b="0" lang="en-US" sz="2600" spc="-1" strike="noStrike" u="sng">
                <a:solidFill>
                  <a:srgbClr val="00a29e"/>
                </a:solidFill>
                <a:uFillTx/>
                <a:latin typeface="Arial"/>
              </a:rPr>
              <a:t>ОБЯЗАТЕЛЬНОЕ</a:t>
            </a:r>
            <a:r>
              <a:rPr b="0" lang="en-US" sz="2600" spc="-1" strike="noStrike">
                <a:solidFill>
                  <a:srgbClr val="00a29e"/>
                </a:solidFill>
                <a:latin typeface="Arial"/>
              </a:rPr>
              <a:t> медицинское освидетельствование на выявление ВИЧ</a:t>
            </a:r>
            <a:endParaRPr b="0" lang="en-US" sz="26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Работники отдельных профессий, производств, предприятий, учреждений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и организаций, проходящих обязательное  медицинское обследование пр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оступлении на работу и периодических медицинских осмотрах ( п. 1 Пост. Пр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а РФ № 877 от 04.09.95)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477de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рачи, средний и младший медицинский персонал … учрежден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здравоохранения…,   занятые     непосредственным обследованием, диагностикой, лечением, обслуживанием …    и другой работы с ВИЧ - инфицированными лицами, имеющие с ними   непосредственный контакт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-  научные работники, специалисты, служащие и рабочие научно-исследовательских учреждений, предприятий   по изготовлению медицинских иммунобиологических препаратов и других организаций, работа которых связана с материалами, содержащими ВИЧ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Доноры  крови, биологических жидкостей, органов и тканей (п.1 ст.9 ФЗ № 38 от 30.03.95) (отказавшись от такого обследования, они не могут быть донорами (п.2 ст.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Иностранные граждане и лица без гражданства, прибывающие в Российскую Федерацию на срок свыше 3-х месяцев (ст.10 ФЗ № 38 от 30.03.95)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746748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9933"/>
                </a:solidFill>
                <a:latin typeface="Arial"/>
              </a:rPr>
              <a:t>Перечень контингентов, </a:t>
            </a:r>
            <a:r>
              <a:rPr b="0" lang="en-US" sz="2600" spc="-1" strike="noStrike">
                <a:solidFill>
                  <a:srgbClr val="ff9933"/>
                </a:solidFill>
                <a:latin typeface="Arial"/>
              </a:rPr>
              <a:t>подлежащих добровольному обследованию </a:t>
            </a:r>
            <a:br>
              <a:rPr sz="2600"/>
            </a:br>
            <a:r>
              <a:rPr b="0" lang="en-US" sz="2600" spc="-1" strike="noStrike">
                <a:solidFill>
                  <a:srgbClr val="ff9933"/>
                </a:solidFill>
                <a:latin typeface="Arial"/>
              </a:rPr>
              <a:t>на ВИЧ- инфекцию</a:t>
            </a:r>
            <a:endParaRPr b="0" lang="en-US" sz="26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8930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Tahoma"/>
              </a:rPr>
              <a:t>потребители инъекционных наркотиков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, больные с предположительным или подтвержденным диагнозом "наркомания" обследуются в лечебно-профилактических учреждениях при обращении за медицинской помощью к любому специалисту и в дальнейшем при каждом обращении, если употребление наркотиков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одолжается, но не чаще 1 раза в квартал 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(102 код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лица с </a:t>
            </a:r>
            <a:r>
              <a:rPr b="1" lang="ru-RU" sz="1800" spc="-1" strike="noStrike">
                <a:solidFill>
                  <a:srgbClr val="ff9933"/>
                </a:solidFill>
                <a:latin typeface="Tahoma"/>
              </a:rPr>
              <a:t>рискованным сексуальным поведением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(104 код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больные </a:t>
            </a:r>
            <a:r>
              <a:rPr b="1" lang="ru-RU" sz="1800" spc="-1" strike="noStrike">
                <a:solidFill>
                  <a:srgbClr val="ff9933"/>
                </a:solidFill>
                <a:latin typeface="Tahoma"/>
              </a:rPr>
              <a:t>заболеваниями, передающимися половым путем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, обследуются при выявлении и при снятии с диспансерного учета 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(104 код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Tahoma"/>
              </a:rPr>
              <a:t>гомо</a:t>
            </a:r>
            <a:r>
              <a:rPr b="1" lang="en-US" sz="18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9933"/>
                </a:solidFill>
                <a:latin typeface="Tahoma"/>
              </a:rPr>
              <a:t>- и бисексуалисты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 (103 код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9933"/>
                </a:solidFill>
                <a:latin typeface="Tahoma"/>
              </a:rPr>
              <a:t>беременные, вынашивающие беременность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, обследуются дважды: при постановке на учет и в III триместре 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(109 код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Tahoma"/>
              </a:rPr>
              <a:t>добровольное, в том числе анонимное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, обследование на ВИЧ-инфекцию проводится по просьбе освидетельствуемого лица, в случае освидетельствования несвершеннолетних в возрасте до 14 лет по просьбе или с согласия его законного представителя 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(118 код)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Tahoma"/>
              </a:rPr>
              <a:t>по клиническим показания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74872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9933"/>
                </a:solidFill>
                <a:latin typeface="Arial"/>
              </a:rPr>
              <a:t>Перечень контингентов, </a:t>
            </a:r>
            <a:r>
              <a:rPr b="0" lang="en-US" sz="2600" spc="-1" strike="noStrike">
                <a:solidFill>
                  <a:srgbClr val="ff9933"/>
                </a:solidFill>
                <a:latin typeface="Arial"/>
              </a:rPr>
              <a:t>подлежащих </a:t>
            </a:r>
            <a:r>
              <a:rPr b="0" lang="ru-RU" sz="2600" spc="-1" strike="noStrike">
                <a:solidFill>
                  <a:srgbClr val="ff9933"/>
                </a:solidFill>
                <a:latin typeface="Arial"/>
              </a:rPr>
              <a:t>обследованию</a:t>
            </a:r>
            <a:br>
              <a:rPr sz="2600"/>
            </a:br>
            <a:r>
              <a:rPr b="0" lang="ru-RU" sz="2600" spc="-1" strike="noStrike">
                <a:solidFill>
                  <a:srgbClr val="ff9933"/>
                </a:solidFill>
                <a:latin typeface="Arial"/>
              </a:rPr>
              <a:t>на ВИЧ по эпидемиологическим показаниям </a:t>
            </a:r>
            <a:br>
              <a:rPr sz="2600"/>
            </a:br>
            <a:r>
              <a:rPr b="0" lang="ru-RU" sz="2600" spc="-1" strike="noStrike">
                <a:solidFill>
                  <a:srgbClr val="ff9933"/>
                </a:solidFill>
                <a:latin typeface="Arial"/>
              </a:rPr>
              <a:t>(120 код)</a:t>
            </a:r>
            <a:endParaRPr b="0" lang="en-US" sz="26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91440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Tahoma"/>
              </a:rPr>
              <a:t>лица, имевшие наркотические контакты с ВИЧ-инфицированными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при внутривенном употреблении наркотиков, обследуются при выявлении и в дальнейшем через 3, 6 и 12 мес. после прекращения контакта. Если контакт не прерывается, то обследование продолжается каждые 3 мес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Tahoma"/>
              </a:rPr>
              <a:t>лица, имевшие половые контакты с больными ВИЧ-инфекцией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, обследуются при выявлении и в дальнейшем в течение года 3-кратно (через 3, 6, 12 месяцев после прекращения полового контакта), постоянные половые партнеры обследуются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жизненно 1 раз в 6 мес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Tahoma"/>
              </a:rPr>
              <a:t>лица, имевшие медицинские контакты с ВИЧ-инфицированными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, не исключающие возможности парентерального пути заражения в лечебно-профилактических учреждениях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едработники при риске профессионального заражения в результате "аварийной ситуации" при оказании медицинской помощи ВИЧ-инфицированным, обследуются при выявлении и в дальнейшем 3х-кратно в течение года (3 6, 12 месяцев)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Tahoma"/>
              </a:rPr>
              <a:t>реципиенты крови, спермы, органов и тканей от ВИЧ-инфицированного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обследуются при выявлении и в дальнейшем 3-кратно в течение одного года (через 3, 6, 12 мес.) до постановки окончательного диагноз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29e"/>
                </a:solidFill>
                <a:latin typeface="Arial"/>
              </a:rPr>
              <a:t>Как закон регламентирует ситуацию с ВИЧ?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З от 30 марта 1995г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8-ФЗ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77de"/>
                </a:solidFill>
                <a:latin typeface="Times New Roman"/>
              </a:rPr>
              <a:t>Ст. 4 Гарантии государств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ступность медицинского освидетельствования на ВИЧ, в том числ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нонимного, с  предварительным и последующим консультированием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доставление медицинской помощи ВИЧ-инфицированным –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ражданам РФ в соответствии с Программой государственных гарантий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казания  гражданам РФ бесплатной медицинской помощ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29e"/>
                </a:solidFill>
                <a:latin typeface="Times New Roman"/>
              </a:rPr>
              <a:t>Социально-бытовая помощь ВИЧ-инфицированным, получение им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29e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a29e"/>
                </a:solidFill>
                <a:latin typeface="Times New Roman"/>
              </a:rPr>
              <a:t>образования, их  переквалификация и трудоустройство.</a:t>
            </a:r>
            <a:r>
              <a:rPr b="0" lang="ru-RU" sz="1800" spc="-1" strike="noStrike">
                <a:solidFill>
                  <a:srgbClr val="00a29e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77de"/>
                </a:solidFill>
                <a:latin typeface="Times New Roman"/>
              </a:rPr>
              <a:t>Ст. 5 Гарантии соблюдения прав и свобод ВИЧ-инфицированны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ИЧ-инфицированные граждане РФ  обладают на ее территории всем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авами и свободами и несут обязанности в соответствии с Конституцией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Ф, законодательством РФ и законодательством субъектов РФ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ава и свободы граждан РФ могут быть ограничены в связи с наличием  у них ВИЧ-инфекции только ФЗ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80880" y="304920"/>
            <a:ext cx="8498160" cy="68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Garamond"/>
              </a:rPr>
              <a:t>Права ВИЧ-инфициров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ВИЧ-инфицированные лица имеют пра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на получение информации о результатах освидетельствования в письменной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на непревзятое отношение к себ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на соблюдение медицинской тайны, за исключением случаев, установленных Правитель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на раб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право вступать в бр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право родить и воспитывать 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право на нахождение и обучение в  образовательном учрежд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па получение соответствующих консультаций, на ознакомление с профилактическими мероприятиями, исключающими распространение ВИЧ-инф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CSPID</cp:lastModifiedBy>
  <dcterms:modified xsi:type="dcterms:W3CDTF">2012-03-27T02:16:58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