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21.jpeg" ContentType="image/jpeg"/>
  <Override PartName="/ppt/media/image20.jpeg" ContentType="image/jpeg"/>
  <Override PartName="/ppt/media/image18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061-3BE4-42A9-BA4E-5D145453B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прогн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- финансово затратная тема- РФ, обла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ее- общие поставки, теперь- тест-системы на рег.бюджеты и бюджеты 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25360" y="67320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90640" y="4335120"/>
            <a:ext cx="5051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62440" y="8670960"/>
            <a:ext cx="2970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C451-A7CB-4846-800C-25C5A8A92D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126-DC21-48C3-A8F1-42DA688A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59C-AA72-487C-BFE9-CFE33FD3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F53-D662-4161-B704-8FFEEE32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D52-99DE-48F5-A5A5-349408F7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6204-E93B-4F88-AFF0-8FEDC06E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812-465B-4CB5-9DE4-E97A84E4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8C1E-A578-4023-8638-AB57E5E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4F1D-E855-4A90-A887-158153A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2249-69CE-4F36-B26B-E300181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2D9C-8EDE-4C6E-BA5F-180338A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220-9569-409D-A464-843896A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0E4-6927-4AB5-B655-6718277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168B-E285-4E92-8160-4501BF6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07B3-F8D9-4159-B5C0-0CBAD78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8312-611B-4E2D-80A2-9FFB1AD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A43A-3063-4286-9698-07558B31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73E1-D4C6-466A-96B5-0F5E76E0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712-C0BF-46C3-ACE0-394BCC7D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F1C-E09A-4F0A-8C26-4564A0C7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1D7-588F-440B-B223-ACA1330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185-726B-4FA5-AB30-7D86145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E67-6CE9-47E4-9D36-9A036EB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E6B-9602-4759-A48B-A78227B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CAE-E407-4D37-B682-14F3247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2021-341A-42E7-AC29-C43E6004F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9C3-39C3-4C07-B476-7D2F10A7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476280"/>
            <a:ext cx="871380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Эпидситуа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по ВИЧ-инф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в  Свердловской области и Восточном управленческом округ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ведующая филиалом  ГБУЗ «ОЦ СПИД и ИЗ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ыпышева Светлана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8840" y="1052640"/>
          <a:ext cx="8885160" cy="60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052640"/>
                    <a:ext cx="8885160" cy="60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50920" y="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3480" y="14940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777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Структура ВИЧ-инфицированных по возрасту в Свердловской области  (%) на 01.01.201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спределение ВИЧ-инфицированных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О по факторам риска заражения (в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2209680"/>
          <a:ext cx="8929800" cy="4464000"/>
        </p:xfrm>
        <a:graphic>
          <a:graphicData uri="http://schemas.openxmlformats.org/drawingml/2006/table">
            <a:tbl>
              <a:tblPr/>
              <a:tblGrid>
                <a:gridCol w="2106720"/>
                <a:gridCol w="990360"/>
                <a:gridCol w="1008360"/>
                <a:gridCol w="1008000"/>
                <a:gridCol w="934920"/>
                <a:gridCol w="1008000"/>
                <a:gridCol w="936720"/>
                <a:gridCol w="936720"/>
              </a:tblGrid>
              <a:tr h="109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перед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ов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тик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стика путей передачи по годам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371600"/>
          <a:ext cx="780876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8087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79280" y="404640"/>
            <a:ext cx="88344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  <a:ea typeface="Arial"/>
              </a:rPr>
              <a:t>Пути передачи ВИЧ-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Ведущим путем передачи ВИЧ-инфекции в Свердловской области остается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  <a:ea typeface="Arial"/>
              </a:rPr>
              <a:t>парентеральное </a:t>
            </a:r>
            <a:r>
              <a:rPr b="1" i="1" lang="en-US" sz="2400" spc="-1" strike="noStrike">
                <a:solidFill>
                  <a:srgbClr val="0000ff"/>
                </a:solidFill>
                <a:latin typeface="Garamond"/>
                <a:ea typeface="Arial"/>
              </a:rPr>
              <a:t>употребление наркотиков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(в общем объеме инфицированных СО –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67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Наряду с этим в последние годы наблюдается активизация </a:t>
            </a:r>
            <a:r>
              <a:rPr b="1" i="1" lang="en-US" sz="2400" spc="-1" strike="noStrike">
                <a:solidFill>
                  <a:srgbClr val="0000ff"/>
                </a:solidFill>
                <a:latin typeface="Garamond"/>
                <a:ea typeface="Arial"/>
              </a:rPr>
              <a:t>полового пути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передачи ВИЧ-инфек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рост в СО 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9,1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01г. д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47,2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1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Особенно заметно увеличение полового пути передачи среди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  <a:ea typeface="Arial"/>
              </a:rPr>
              <a:t>женщин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т в СО 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20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01г. д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68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11г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ред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жчи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т 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5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01г. д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31,5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1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47680" y="1263600"/>
          <a:ext cx="872640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263600"/>
                    <a:ext cx="872640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24000" y="2080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Удельный вес ВИЧ-инфицированных мужчин и женщин (%) в 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333360"/>
            <a:ext cx="889308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Активное вовлечение женщин в эпидпроцесс приводит к риску вертикального пути передачи ВИЧ-инфекции (от матери к ребе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За весь период в области родилось от ВИЧ-инфицированных  матере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886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Только в 20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г. в области родилось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26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те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что составило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2% от всех детей, рожденных от ВИЧ+ матерей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Диагноз «ВИЧ-инфекция» установлен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дет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7,1 %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560" y="6237360"/>
            <a:ext cx="889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2011 год выявлено 350 случаев, пок-ль заболеваемости 72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89000"/>
          <a:ext cx="915660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56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Всего по ВУО зарегистрировано </a:t>
            </a:r>
            <a:r>
              <a:rPr b="1" i="1" lang="en-US" sz="2800" spc="-1" strike="noStrike">
                <a:solidFill>
                  <a:srgbClr val="0033cc"/>
                </a:solidFill>
                <a:latin typeface="Arial Unicode MS"/>
              </a:rPr>
              <a:t>3195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случаев ВИЧ-инф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и распространения ВИЧ-инфекции в Восточном округе в 2011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90560" y="907920"/>
          <a:ext cx="835344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907920"/>
                    <a:ext cx="83534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и распространения ВИЧ-инфекции в Восточном округе в 2011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68480" y="1600200"/>
          <a:ext cx="70070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600200"/>
                    <a:ext cx="7007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и распространения ВИЧ-инфекции в Восточном округе в 2011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1484280"/>
          <a:ext cx="83520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352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280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ИЧ-инфекция – хроническое инфекционное заболевание, вызываемое ВИРУСОМ ИММУНОДЕФИЦИТА ЧЕЛОВЕК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типов, в финале которой развивается смертельный синдром приобретенного иммунодефицита (СП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демия ВИЧ-инфекции –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пидемия  крупных масштаб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хватывающая все страны и континенты Земного ш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и распространения ВИЧ-инфекции в Восточном округе в 2011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600200"/>
          <a:ext cx="8105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8105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вляемость ВИЧ-инфекции в группах ри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280" y="1413000"/>
          <a:ext cx="87598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598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четанная патология ВИЧ+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460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01.01.2012 г. по Свердловской области зарегистрировано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58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учаев сочетанной патологии, в том числе за 2011 год –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у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го в  ВУО выявлено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учаев сочетанной патологии,                             в 2011 году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уч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VZV-PNEUMONITIS"/>
          <p:cNvPicPr/>
          <p:nvPr/>
        </p:nvPicPr>
        <p:blipFill>
          <a:blip r:embed="rId1"/>
          <a:stretch/>
        </p:blipFill>
        <p:spPr>
          <a:xfrm>
            <a:off x="4932360" y="1700280"/>
            <a:ext cx="40384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52280" y="152280"/>
            <a:ext cx="876312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а последние 5 лет произошло увеличение в 3 раза летальных исходов в стадии СП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Свердловская область занимает 1 место по летальности среди регионов УрФ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а весь период умерло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756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ИЧ-инфицированных, из них в ст. СПИДа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480 чел. (33%)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в т.ч. в 2011г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53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чел.(48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УО – за весь период регистрации умер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ел, из них в стадии СПИД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42 чел. (28,3%)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2011 году всего – 80 человек, в т.ч. в стадии СПИД – 23 чел. (28,8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392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а смертельных исход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201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413000"/>
          <a:ext cx="8209080" cy="5184360"/>
        </p:xfrm>
        <a:graphic>
          <a:graphicData uri="http://schemas.openxmlformats.org/drawingml/2006/table">
            <a:tbl>
              <a:tblPr/>
              <a:tblGrid>
                <a:gridCol w="2530440"/>
                <a:gridCol w="787320"/>
                <a:gridCol w="787680"/>
                <a:gridCol w="2601720"/>
                <a:gridCol w="750960"/>
                <a:gridCol w="750960"/>
              </a:tblGrid>
              <a:tr h="740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ердловская обл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сточный управленческий окр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чина смер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чина смер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е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частный слу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озировка наркоти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частный случа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беркулез, заболевания С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беркулез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териальные инфе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65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илактика перинатального контакта ВИЧ-инфекции от матери ребе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608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сего за период регистрации родился       591 ребенок (4 двойни) от ВИЧ-инфицированных женщ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 2011 года родилось 79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ИЧ-инфицированных детей в ВУО -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лным курсом химиопрофилактики за 2011 год охвачены 95%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p02"/>
          <p:cNvPicPr/>
          <p:nvPr/>
        </p:nvPicPr>
        <p:blipFill>
          <a:blip r:embed="rId1"/>
          <a:srcRect l="55007" t="-226" r="0" b="40399"/>
          <a:stretch/>
        </p:blipFill>
        <p:spPr>
          <a:xfrm>
            <a:off x="4788000" y="1844640"/>
            <a:ext cx="4105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79280" y="0"/>
            <a:ext cx="8785440" cy="68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Учитывая вышеизложенное, можно констатировать,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то ситуация по ВИЧ/СПИД в област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являетс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резвычайной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прогноз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крайне неблагоприятным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кумулятивное количество ВИЧ-инфицированных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будет </a:t>
            </a:r>
            <a:r>
              <a:rPr b="1" i="1" lang="ru-RU" sz="1900" spc="-1" strike="noStrike">
                <a:solidFill>
                  <a:srgbClr val="0000ff"/>
                </a:solidFill>
                <a:latin typeface="Arial"/>
                <a:ea typeface="Arial"/>
              </a:rPr>
              <a:t>увеличиваться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ут реализовываться </a:t>
            </a:r>
            <a:r>
              <a:rPr b="1" i="1" lang="ru-RU" sz="1900" spc="-1" strike="noStrike">
                <a:solidFill>
                  <a:srgbClr val="0000ff"/>
                </a:solidFill>
                <a:latin typeface="Arial"/>
                <a:ea typeface="Arial"/>
              </a:rPr>
              <a:t>все пути передачи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ет нарастать число ВИЧ-инфицированных в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стадии клинического прогрессирования,  в т.ч. в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1900" spc="-1" strike="noStrike">
                <a:solidFill>
                  <a:srgbClr val="0000ff"/>
                </a:solidFill>
                <a:latin typeface="Arial"/>
                <a:ea typeface="Arial"/>
              </a:rPr>
              <a:t>стадии СПИДа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, а также количество летальны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исходов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интенсивность эпидемии в целом  будет нарастать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за счет «групп риска» по инфицированию  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распространению ВИЧ-инфекции, но и за счет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1900" spc="-1" strike="noStrike">
                <a:solidFill>
                  <a:srgbClr val="0000ff"/>
                </a:solidFill>
                <a:latin typeface="Arial"/>
                <a:ea typeface="Arial"/>
              </a:rPr>
              <a:t>основного социально благополучного населения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ет нарастать проблема </a:t>
            </a:r>
            <a:r>
              <a:rPr b="1" i="1" lang="ru-RU" sz="1900" spc="-1" strike="noStrike">
                <a:solidFill>
                  <a:srgbClr val="0000ff"/>
                </a:solidFill>
                <a:latin typeface="Arial"/>
                <a:ea typeface="Arial"/>
              </a:rPr>
              <a:t>детей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рожденных от ВИЧ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нфицированных матерей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758880"/>
            <a:ext cx="842472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Garamond"/>
                <a:ea typeface="Arial"/>
              </a:rPr>
              <a:t>Система оказания медицинской помощи ВИЧ-инфицированным в Свердлов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Arial"/>
              </a:rPr>
              <a:t>Основа – трехэтап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1990г по пр. МЗ РФ создается сеть специализированных центров (лечебные учреждения особого тип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доверенный врач ЛПУ в каждом муниципальном образовании, работающий в КДК или КИЗ -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врач-инфекционист, врач-эпидемиолог, патронажная мед. сестра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филиал ОЦ СПИ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ИЗ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  <a:ea typeface="Arial"/>
              </a:rPr>
              <a:t>(работа филиалов позволяет провести консультацию инфекциониста, психолога и соц.рабоника, провести специфические исследования,   а также назначить лечение   в ОЦ СПИД и ИЗ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З СО «Свердловский областной центр по профилактике и борьбе со СПИД и ИЗ» - Ясная, 46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абораторная диагностика по определению имунного статуса и вирусной нагрузки, помощь врачей-инфекционистов, педиатров, терапевта, гинеколога, стоматолога, дерматовенеролога, фтизиатра, психолога и специалиста по соц.работ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11280" y="476280"/>
            <a:ext cx="8064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пациенто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сточного округ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иал ГБУЗ СО ОЦ СПИД и 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Ирбит, ул.Мальгина,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/факс (34355) 3-82-0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-irbit@livehiv.r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БУЗ СО ОЦ СПИД и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Екатерин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. Ясная,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рес официального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WW.LIVEHIV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фон доверия по ВИЧ\СП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343) 31 000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иагностики заболевания используются высокотехнологичны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иммуного стат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вирусной нагрузки в кров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чение заболевания антиретровирусными препар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ческая профилактика (прививки) –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сутствие вакци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lowers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7093080" y="189000"/>
            <a:ext cx="326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Благодар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9A4-921B-4224-890B-DD820211F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4248360" cy="194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 мире на 2 человек, получающих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gyutfgehyry"/>
          <p:cNvPicPr/>
          <p:nvPr/>
        </p:nvPicPr>
        <p:blipFill>
          <a:blip r:embed="rId1"/>
          <a:stretch/>
        </p:blipFill>
        <p:spPr>
          <a:xfrm>
            <a:off x="395280" y="2492280"/>
            <a:ext cx="3311640" cy="2808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35" name="Picture 10" descr="jkljgkjj"/>
          <p:cNvPicPr/>
          <p:nvPr/>
        </p:nvPicPr>
        <p:blipFill>
          <a:blip r:embed="rId2"/>
          <a:stretch/>
        </p:blipFill>
        <p:spPr>
          <a:xfrm>
            <a:off x="3419640" y="3068640"/>
            <a:ext cx="5543280" cy="3456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36" name="Text Box 12"/>
          <p:cNvSpPr/>
          <p:nvPr/>
        </p:nvSpPr>
        <p:spPr>
          <a:xfrm>
            <a:off x="3635280" y="1268280"/>
            <a:ext cx="5307120" cy="1556280"/>
          </a:xfrm>
          <a:prstGeom prst="rect">
            <a:avLst/>
          </a:prstGeom>
          <a:solidFill>
            <a:srgbClr val="9900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ходит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новых случае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иц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убъекты Российской Федерации с максимальным числом зарегистрированных случаев ВИЧ-инфе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1600200"/>
          <a:ext cx="8713800" cy="5068800"/>
        </p:xfrm>
        <a:graphic>
          <a:graphicData uri="http://schemas.openxmlformats.org/drawingml/2006/table">
            <a:tbl>
              <a:tblPr/>
              <a:tblGrid>
                <a:gridCol w="4359240"/>
                <a:gridCol w="435456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ы Российской Федер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олютно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532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Санкт-Петербу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Моск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кут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ябин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нбург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ер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град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Заболеваемость ВИЧ-инфекцией в России и 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вердловской области на 01.01.2012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628640"/>
          <a:ext cx="90090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0090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537372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091e3"/>
                </a:solidFill>
                <a:uFillTx/>
                <a:latin typeface="Arial"/>
                <a:ea typeface="Arial"/>
              </a:rPr>
              <a:t>Росс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1e3"/>
                </a:solidFill>
                <a:latin typeface="Arial"/>
                <a:ea typeface="Arial"/>
              </a:rPr>
              <a:t>660 000 случаев ВИЧ-инфек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1e3"/>
                </a:solidFill>
                <a:latin typeface="Arial"/>
                <a:ea typeface="Arial"/>
              </a:rPr>
              <a:t>показатель пораженности - 430,0 на 10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1052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445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вердловская обла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на 01.01.12г.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3259 случаев ВИЧ-инфе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207,8 на 10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27640" y="2492280"/>
            <a:ext cx="439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915840"/>
            <a:ext cx="839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емпы роста инфицирования ВИЧ в России являются одними из наиболее высоких в мир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В последние два  года 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О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ежегодно выявляется п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600-5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новых случаев ВИЧ-инфе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9640" y="47628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89000"/>
            <a:ext cx="851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9640" y="333360"/>
            <a:ext cx="8136000" cy="59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Ситуация по ВИЧ-инфекции в Свердловской области на 01.01.201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 01.01.2012г. в Свердловской области зарегистрировано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53259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лучаев ВИЧ-инфек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й показатель поражённости на 100 тыс. населения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207,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(боле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населения области поражено ВИЧ-инфекцией)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ревысив среднероссийский  уровень в 3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о оценке экспертов, число лиц, живущих с ВИЧ-инфекцией в Свердловской области, составляет  100-150 тысяч 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-3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взрослого населения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448880" y="3230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6048360" cy="18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6048360" cy="4032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468360" y="115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Эпидемия ВИЧ-инфекции – «айсбер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6443640" y="2637000"/>
            <a:ext cx="360360" cy="2952720"/>
          </a:xfrm>
          <a:custGeom>
            <a:avLst/>
            <a:gdLst>
              <a:gd name="textAreaLeft" fmla="*/ 0 w 360360"/>
              <a:gd name="textAreaRight" fmla="*/ 129960 w 360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692360" y="1484280"/>
            <a:ext cx="266544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1268280"/>
            <a:ext cx="2089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ыявлен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32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луча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3645000"/>
            <a:ext cx="2073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Не выявл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луча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9"/>
          <p:cNvSpPr/>
          <p:nvPr/>
        </p:nvSpPr>
        <p:spPr>
          <a:xfrm>
            <a:off x="6372360" y="141300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04000" y="5516640"/>
            <a:ext cx="214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исло лиц, живущих с ВИЧ-инфекцией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-3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взрослого населения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ерритории с уровнем распространенности ВИЧ-инфекции выше среднеобластного показателя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198,5 на 100 тыс. нас.) на 01.01.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85840" y="1197000"/>
            <a:ext cx="38545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ровград-2623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евероуральск- 2439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левской-2202,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рвоуральск- 2104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.Пышма- 2057,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.п. В.Дуброво-2000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.Тагил- 1892,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ухоложский р-он- 1884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.Малышева,Изумруд-1703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рамиль – 1701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пинск – 1697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Arial"/>
              </a:rPr>
              <a:t>Туринский р-н – 1675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ысертский р-н – 1628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284720" y="1214280"/>
            <a:ext cx="4354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4. Краснотурьинск- 1609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5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гдановичский р-н – 1590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6. п.г.т. Рефтинский- 1516,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7. Заречный- 1486,8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8. Дегтярск – 1484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9. Екатеринбург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– 1459,5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0. Качканар – 1369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1. Белоярский р-он – 1321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2.Красноуральский МО – 1224,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84720" y="5157720"/>
            <a:ext cx="44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 22 МО показатель распространенности превышает среднеобластной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1-2 ВИЧ-инф.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100 чел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35:44Z</dcterms:created>
  <dc:creator>Пользователь</dc:creator>
  <dc:description/>
  <dc:language>en-US</dc:language>
  <cp:lastModifiedBy>Лаборант</cp:lastModifiedBy>
  <dcterms:modified xsi:type="dcterms:W3CDTF">2012-03-27T03:27:29Z</dcterms:modified>
  <cp:revision>481</cp:revision>
  <dc:subject/>
  <dc:title>Слайд 1</dc:title>
</cp:coreProperties>
</file>