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10691813" cy="7559675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18"/>
          </p:nvPr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893880" y="722160"/>
            <a:ext cx="510048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19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0"/>
          </p:nvPr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2A58-A5A0-4DDA-8FEF-7120E62413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CBA8-0BA2-47CE-923A-C85E4C0DA1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93880" y="722160"/>
            <a:ext cx="5100480" cy="36086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A862-3CEB-418F-B078-A6AC591A71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93880" y="722160"/>
            <a:ext cx="5100480" cy="36086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E646-1482-4C38-81F4-B4DA802AFF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893880" y="722160"/>
            <a:ext cx="5100480" cy="36086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0AB2-2CBC-4C29-88B4-5C7173878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61560" y="327492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96E2-76F4-4AA8-91F5-C7C5AAF6A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6912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AEDD8-D105-4BCE-8C57-331516DBF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3552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984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6156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3552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0984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E8482-A878-48BA-A422-9BDA9BBF9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667B7-DD7E-4662-ABE0-6E0B9417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551AC-7E2C-4863-AF9B-5F03ADDF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58603-3C0B-43AB-9130-D7023909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D1C53-8ACC-4851-B70F-76A57BED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D1A46-18E1-4B10-9713-F3CB6381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61560" y="403200"/>
            <a:ext cx="879660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611F0-EB16-487A-864D-2250C3CD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219D2-9225-4B9D-AF66-79CAE434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1B7D6-A1CD-4082-916B-6BAA9B847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912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E3C85-CF2C-47B4-9355-2128D1AB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3BC01-E425-4C86-9E12-A6E8026C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61560" y="327492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ABC2C-462E-4651-9845-8105735E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912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25151-8781-49ED-A5E5-C6B39B95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3552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0984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6156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3552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0984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192E4-866D-4746-B17E-237F0E47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A49DB-A19C-41B6-BAB0-9C90B137E0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61560" y="403200"/>
            <a:ext cx="879660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46912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61560" y="327492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46912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3552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90984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6156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93552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90984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968B9-4A18-461C-AD1D-6A19E8F3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2F31F-4C7F-4FEB-8C02-004EB125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62122-0460-4EEA-903A-C30DD413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9497E-A5D8-42F6-BAC1-A334F36AE6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9DD40-6AE5-4256-8DFE-882A4A7C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43128-1320-4B6B-8981-2C7DF2D0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961560" y="403200"/>
            <a:ext cx="879660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9E84B-F67E-4AB4-87BD-B3471356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1C453-30E7-45B6-A2E6-521DEE27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46912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BC8BE-D5B5-4F69-8577-DC229066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C9E4F-87DB-4DBD-B9A9-FC1A94D3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961560" y="327492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6DBB3-9962-49DB-B10C-B5EB1D52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46912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6C6B2-A698-4EFC-8B2E-AD2E2638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93552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90984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96156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93552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90984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328D7-FCEA-472D-91A5-4EA5A153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937FBF-CEFC-4FFB-B021-343E1CE5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D9D3-08BE-4584-BCE5-28F2CE6D69A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FCECA9-C5E8-4782-AB09-A78387D8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D6EA0-A18B-4A3A-BB33-680F2384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B4368-DEE0-4A96-8527-76055520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6ACE55-6E03-4921-B546-D7F96B05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961560" y="403200"/>
            <a:ext cx="879660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6143C-1991-4FA1-9EEF-EBC03E7C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50C0D-E582-4A63-83C6-336923BD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46912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384EBE-8943-4119-B29E-F2A156FF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0F9735-6882-4450-A2BB-5CE50040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61560" y="327492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1611B-2FEA-491A-B06D-3A0450CF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46912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F799A-677D-4E3F-A04D-9D7F9CE6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560" y="403200"/>
            <a:ext cx="879660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C87C-B659-4AFC-A5D6-A2FC39F181F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93552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0984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6156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93552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0984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1B833-0126-42D9-9AC9-F9419122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99362-5C1C-4B71-A41F-60967B62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D42E3-23A2-47A7-AE00-D46C8ADF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B09B8-A59C-4944-BAEB-D60A0252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479A4-64D9-4FB5-A92A-516F37A6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FFC39-7FE2-496C-9B19-4D959467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961560" y="403200"/>
            <a:ext cx="879660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BFC840-E5B1-4CA9-A863-399E11B6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380CA-5B26-4B34-8716-F9307D69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46912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817D5F-0B77-4934-9E55-78882ADC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AB6FE9-EBA7-4AFA-9774-32EF6C32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F366-0E36-46E3-B17B-82FA769D735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61560" y="327492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1C92F-17B2-4F9A-BB26-6A4CF471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46912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7CB2F-6699-4796-9FA3-E7E55437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93552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90984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6156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93552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90984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6E192-73E9-447F-AB6F-715DDA7A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1C2834-F731-48E4-A3FE-B237E008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70B2D-8A09-463C-8411-5708813E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019DB9-8B5C-4E4C-9CFD-5A27899A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477DD-34EC-4FBC-938E-C497DD18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66C63B-0AAD-4671-89D9-7C59D61D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61560" y="403200"/>
            <a:ext cx="879660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9BAA2C-E301-49CD-B789-1B9B91B2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534BD-9AD7-4F3E-8255-B35E8C63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6912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4146-25D0-4222-8DF4-3AB9ACB0DA2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6912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C4104C-EB6F-4349-976B-69F6DAC5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9A192-C4BA-4F02-917E-292D9427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61560" y="327492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C7435-3635-4E65-94FF-85DA794E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469120" y="327492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0CF89-1F61-4F54-BD4B-28563FAB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3552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909840" y="121248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6156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3552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909840" y="3274920"/>
            <a:ext cx="283212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AC985-09C3-4B75-A108-A1F4C404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6156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9120" y="1212480"/>
            <a:ext cx="429264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61560" y="3274920"/>
            <a:ext cx="8796600" cy="1883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9C7A4-F031-4B3D-8EDE-7DA6DBBB5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996240"/>
            <a:ext cx="10693440" cy="457200"/>
          </a:xfrm>
          <a:prstGeom prst="rect">
            <a:avLst/>
          </a:prstGeom>
          <a:solidFill>
            <a:srgbClr val="ecf3f4"/>
          </a:soli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txBody>
          <a:bodyPr lIns="614880" rIns="79920" tIns="39960" bIns="399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Презентация №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Семинар-тренинг «Интеграция детей, затронутых эпидемией ВИЧ, в образовательную среду»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36640" y="380520"/>
            <a:ext cx="77738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50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836280" y="1905120"/>
            <a:ext cx="7621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6588000" y="7072200"/>
            <a:ext cx="2287440" cy="380880"/>
            <a:chOff x="6588000" y="7072200"/>
            <a:chExt cx="2287440" cy="380880"/>
          </a:xfrm>
        </p:grpSpPr>
        <p:pic>
          <p:nvPicPr>
            <p:cNvPr id="4" name="Picture 6" descr=""/>
            <p:cNvPicPr/>
            <p:nvPr/>
          </p:nvPicPr>
          <p:blipFill>
            <a:blip r:embed="rId2"/>
            <a:stretch/>
          </p:blipFill>
          <p:spPr>
            <a:xfrm>
              <a:off x="6588000" y="7072200"/>
              <a:ext cx="17535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"/>
            <p:cNvPicPr/>
            <p:nvPr/>
          </p:nvPicPr>
          <p:blipFill>
            <a:blip r:embed="rId3"/>
            <a:stretch/>
          </p:blipFill>
          <p:spPr>
            <a:xfrm>
              <a:off x="8341560" y="7072200"/>
              <a:ext cx="5338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1817640" y="7021440"/>
            <a:ext cx="1416240" cy="2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/   Слайд </a:t>
            </a:r>
            <a:fld id="{DAA6AB16-4908-4B77-8659-3D267E5D0355}" type="slidenum">
              <a:rPr b="1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r>
              <a:rPr b="1" lang="ru-RU" sz="1000" spc="-1" strike="noStrike">
                <a:solidFill>
                  <a:srgbClr val="969696"/>
                </a:solidFill>
                <a:latin typeface="Times New Roman"/>
              </a:rPr>
              <a:t>   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RKIB"/>
          <p:cNvPicPr/>
          <p:nvPr/>
        </p:nvPicPr>
        <p:blipFill>
          <a:blip r:embed="rId4"/>
          <a:stretch/>
        </p:blipFill>
        <p:spPr>
          <a:xfrm>
            <a:off x="9018720" y="702144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5"/>
          <a:stretch/>
        </p:blipFill>
        <p:spPr>
          <a:xfrm>
            <a:off x="9667800" y="7021440"/>
            <a:ext cx="866880" cy="40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3240" y="5568840"/>
            <a:ext cx="4179960" cy="199260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3240" y="5568840"/>
            <a:ext cx="10696680" cy="199260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90600" indent="-390600">
              <a:spcBef>
                <a:spcPts val="91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90600" indent="-390600">
              <a:spcBef>
                <a:spcPts val="91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 rot="19140000">
            <a:off x="234720" y="6471720"/>
            <a:ext cx="2544480" cy="222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B0F7-C456-4AA6-8320-9BDFB30F69A1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4113000" y="6928920"/>
            <a:ext cx="5524200" cy="30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ПРЕЗЕНТАЦИЯ № 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ЕМИНАР-ТРЕНИНГ «ИНТЕГРАЦИЯ ДЕТЕЙ, ЗАТРОНУТЫХ ЭПИДЕМИЕЙ ВИЧ, В ОБРАЗОВАТЕЛЬНУЮ СРЕДУ»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9910440" y="6884640"/>
            <a:ext cx="41580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440" rIns="10440" tIns="10440" bIns="104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/   Слайд </a:t>
            </a:r>
            <a:fld id="{04D79689-E6DE-4EB9-856D-3EC3F561E2A4}" type="slidenum"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    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RKIB"/>
          <p:cNvPicPr/>
          <p:nvPr/>
        </p:nvPicPr>
        <p:blipFill>
          <a:blip r:embed="rId2"/>
          <a:stretch/>
        </p:blipFill>
        <p:spPr>
          <a:xfrm>
            <a:off x="9018720" y="702144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9667800" y="7021440"/>
            <a:ext cx="866880" cy="40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19080" y="0"/>
            <a:ext cx="9144000" cy="6858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2"/>
          <a:srcRect l="70593" t="0" r="0" b="0"/>
          <a:stretch/>
        </p:blipFill>
        <p:spPr>
          <a:xfrm>
            <a:off x="6095880" y="6156360"/>
            <a:ext cx="763560" cy="622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382920" y="5940360"/>
            <a:ext cx="2971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нисе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475080" y="678024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динимся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д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т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6640" y="380520"/>
            <a:ext cx="77738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50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36280" y="1905120"/>
            <a:ext cx="7621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ight Triangle 6"/>
          <p:cNvSpPr/>
          <p:nvPr/>
        </p:nvSpPr>
        <p:spPr>
          <a:xfrm>
            <a:off x="0" y="2919240"/>
            <a:ext cx="4176720" cy="4642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-3240" y="-1440"/>
            <a:ext cx="10696680" cy="756288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90600" indent="-390600">
              <a:spcBef>
                <a:spcPts val="91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90600" indent="-390600">
              <a:spcBef>
                <a:spcPts val="91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6"/>
          </p:nvPr>
        </p:nvSpPr>
        <p:spPr>
          <a:xfrm rot="19140000">
            <a:off x="234720" y="6471720"/>
            <a:ext cx="2544480" cy="222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0FC0-9B31-4B26-8D6B-365F17FE0CD6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7"/>
          </p:nvPr>
        </p:nvSpPr>
        <p:spPr>
          <a:xfrm>
            <a:off x="4113000" y="6928920"/>
            <a:ext cx="5524200" cy="30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8"/>
          </p:nvPr>
        </p:nvSpPr>
        <p:spPr>
          <a:xfrm>
            <a:off x="9910440" y="6884640"/>
            <a:ext cx="41580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440" rIns="10440" tIns="10440" bIns="104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CCA8-5782-4520-B782-C9EFB6DBDDCE}" type="slidenum"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eeform 7"/>
          <p:cNvSpPr/>
          <p:nvPr/>
        </p:nvSpPr>
        <p:spPr>
          <a:xfrm>
            <a:off x="-3240" y="-1440"/>
            <a:ext cx="10696680" cy="756288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ight Triangle 6"/>
          <p:cNvSpPr/>
          <p:nvPr/>
        </p:nvSpPr>
        <p:spPr>
          <a:xfrm>
            <a:off x="0" y="2919240"/>
            <a:ext cx="4176720" cy="4642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90600" indent="-390600">
              <a:spcBef>
                <a:spcPts val="91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90600" indent="-390600">
              <a:spcBef>
                <a:spcPts val="91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9"/>
          </p:nvPr>
        </p:nvSpPr>
        <p:spPr>
          <a:xfrm rot="19140000">
            <a:off x="234720" y="6471720"/>
            <a:ext cx="2544480" cy="222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2BEC-71AF-4CB6-9212-6CD28215E1FF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0"/>
          </p:nvPr>
        </p:nvSpPr>
        <p:spPr>
          <a:xfrm>
            <a:off x="4113000" y="6928920"/>
            <a:ext cx="5524200" cy="30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ПРЕЗЕНТАЦИЯ № 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ЕМИНАР-ТРЕНИНГ «ИНТЕГРАЦИЯ ДЕТЕЙ, ЗАТРОНУТЫХ ЭПИДЕМИЕЙ ВИЧ, В ОБРАЗОВАТЕЛЬНУЮ СРЕДУ»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1"/>
          </p:nvPr>
        </p:nvSpPr>
        <p:spPr>
          <a:xfrm>
            <a:off x="9910440" y="6884640"/>
            <a:ext cx="41580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440" rIns="10440" tIns="10440" bIns="104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/   Слайд </a:t>
            </a:r>
            <a:fld id="{79DAF23F-B09B-4724-A510-4319209D6D5F}" type="slidenum"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    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ight Triangle 16"/>
          <p:cNvSpPr/>
          <p:nvPr/>
        </p:nvSpPr>
        <p:spPr>
          <a:xfrm>
            <a:off x="0" y="2919240"/>
            <a:ext cx="4176720" cy="4642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736560" y="-736560"/>
            <a:ext cx="7561440" cy="903456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90600" indent="-390600">
              <a:spcBef>
                <a:spcPts val="91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90600" indent="-390600">
              <a:spcBef>
                <a:spcPts val="91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2"/>
          </p:nvPr>
        </p:nvSpPr>
        <p:spPr>
          <a:xfrm rot="19140000">
            <a:off x="234720" y="6471720"/>
            <a:ext cx="2544480" cy="222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AB1E-6EF0-4D1C-9C14-E5C0E04385E2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3"/>
          </p:nvPr>
        </p:nvSpPr>
        <p:spPr>
          <a:xfrm>
            <a:off x="4113000" y="6928920"/>
            <a:ext cx="5524200" cy="30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34342"/>
                </a:solidFill>
                <a:latin typeface="Times New Roman"/>
              </a:rPr>
              <a:t>ПРЕЗЕНТАЦИЯ № 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34342"/>
                </a:solidFill>
                <a:latin typeface="Times New Roman"/>
              </a:rPr>
              <a:t>СЕМИНАР-ТРЕНИНГ «ИНТЕГРАЦИЯ ДЕТЕЙ, ЗАТРОНУТЫХ ЭПИДЕМИЕЙ ВИЧ, В ОБРАЗОВАТЕЛЬНУЮ СРЕДУ»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4"/>
          </p:nvPr>
        </p:nvSpPr>
        <p:spPr>
          <a:xfrm>
            <a:off x="9910440" y="6884640"/>
            <a:ext cx="415800" cy="392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10440" rIns="10440" tIns="10440" bIns="104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9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34342"/>
                </a:solidFill>
                <a:latin typeface="Times New Roman"/>
              </a:rPr>
              <a:t>/   Слайд </a:t>
            </a:r>
            <a:fld id="{FAB84F91-B6A8-4FD3-9CFD-E5640DE6DD9A}" type="slidenum">
              <a:rPr b="1" lang="ru-RU" sz="19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r>
              <a:rPr b="1" lang="ru-RU" sz="1900" spc="-1" strike="noStrike">
                <a:solidFill>
                  <a:srgbClr val="434342"/>
                </a:solidFill>
                <a:latin typeface="Times New Roman"/>
              </a:rPr>
              <a:t>    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ight Triangle 8"/>
          <p:cNvSpPr/>
          <p:nvPr/>
        </p:nvSpPr>
        <p:spPr>
          <a:xfrm>
            <a:off x="0" y="2919240"/>
            <a:ext cx="4176720" cy="4642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9"/>
          <p:cNvSpPr/>
          <p:nvPr/>
        </p:nvSpPr>
        <p:spPr>
          <a:xfrm>
            <a:off x="0" y="5565600"/>
            <a:ext cx="4176720" cy="199584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90600" indent="-390600">
              <a:spcBef>
                <a:spcPts val="913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90600" indent="-390600">
              <a:spcBef>
                <a:spcPts val="91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90600" indent="-390600">
              <a:spcBef>
                <a:spcPts val="91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5"/>
          </p:nvPr>
        </p:nvSpPr>
        <p:spPr>
          <a:xfrm rot="19140000">
            <a:off x="234720" y="6471720"/>
            <a:ext cx="2544480" cy="222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5567-5547-4183-9D37-D29DC2C775F4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6"/>
          </p:nvPr>
        </p:nvSpPr>
        <p:spPr>
          <a:xfrm>
            <a:off x="4113000" y="6928920"/>
            <a:ext cx="5524200" cy="30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ПРЕЗЕНТАЦИЯ № 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ЕМИНАР-ТРЕНИНГ «ИНТЕГРАЦИЯ ДЕТЕЙ, ЗАТРОНУТЫХ ЭПИДЕМИЕЙ ВИЧ, В ОБРАЗОВАТЕЛЬНУЮ СРЕДУ»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7"/>
          </p:nvPr>
        </p:nvSpPr>
        <p:spPr>
          <a:xfrm>
            <a:off x="9910440" y="6884640"/>
            <a:ext cx="41580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440" rIns="10440" tIns="10440" bIns="104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/   Слайд </a:t>
            </a:r>
            <a:fld id="{AEC93718-A5A6-4C52-9F48-30167F84B085}" type="slidenum"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    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6360" y="147240"/>
            <a:ext cx="9759960" cy="1428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10440" anchor="ctr">
            <a:noAutofit/>
          </a:bodyPr>
          <a:p>
            <a:pPr marL="542880"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 ТРЕНИНГ ПО ПОДГОТОВКЕ СПЕЦИАЛИСТОВ-ТЬЮТОРОВ ПО ПРОГРАММЕ ПРОФИЛАКТИКИ ВИЧ-ИНФЕКЦИИ В ОБРАЗОВАТЕЛЬНЫХ УЧРЕЖДЕНИЯ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525600" y="1944720"/>
            <a:ext cx="98456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a4b05"/>
                </a:solidFill>
                <a:latin typeface="Arial"/>
              </a:rPr>
              <a:t>Название организац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a4b05"/>
                </a:solidFill>
                <a:latin typeface="Arial"/>
              </a:rPr>
              <a:t>проводящих семинар-трен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БОУ СО для детей, нуждающихся в психолого-педагогической и медико-социальной помощи, «Центр психолого-педагогической реабилитации и коррекции «Ладо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ГБУЗ СО «Центр по профилактике и борьбе со СПИД и инфекционными заболеваниями». Филиал г. Ирби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Номер слайда 4"/>
          <p:cNvSpPr/>
          <p:nvPr/>
        </p:nvSpPr>
        <p:spPr>
          <a:xfrm>
            <a:off x="9825120" y="6804000"/>
            <a:ext cx="587160" cy="554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" rIns="10440" tIns="10440" bIns="10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/   Слайд </a:t>
            </a:r>
            <a:fld id="{A8E9644D-8392-41E0-B803-DFACF575CE07}" type="slidenum">
              <a:rPr b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7"/>
          <p:cNvGrpSpPr/>
          <p:nvPr/>
        </p:nvGrpSpPr>
        <p:grpSpPr>
          <a:xfrm>
            <a:off x="8442360" y="5292720"/>
            <a:ext cx="2251080" cy="2268360"/>
            <a:chOff x="8442360" y="5292720"/>
            <a:chExt cx="2251080" cy="2268360"/>
          </a:xfrm>
        </p:grpSpPr>
        <p:sp>
          <p:nvSpPr>
            <p:cNvPr id="361" name="Прямоугольный треугольник 6"/>
            <p:cNvSpPr/>
            <p:nvPr/>
          </p:nvSpPr>
          <p:spPr>
            <a:xfrm rot="16200000">
              <a:off x="8505720" y="5373360"/>
              <a:ext cx="2124360" cy="2251080"/>
            </a:xfrm>
            <a:prstGeom prst="rtTriangle">
              <a:avLst/>
            </a:prstGeom>
            <a:solidFill>
              <a:srgbClr val="17a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Franklin Gothic Book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7"/>
            <p:cNvSpPr/>
            <p:nvPr/>
          </p:nvSpPr>
          <p:spPr>
            <a:xfrm>
              <a:off x="10171080" y="5292720"/>
              <a:ext cx="522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 txBox="1"/>
          <p:nvPr/>
        </p:nvSpPr>
        <p:spPr>
          <a:xfrm>
            <a:off x="961560" y="612360"/>
            <a:ext cx="8796600" cy="4824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rmAutofit/>
          </a:bodyPr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3000" spc="-1" strike="noStrike">
                <a:solidFill>
                  <a:srgbClr val="f96a1b"/>
                </a:solidFill>
                <a:latin typeface="Franklin Gothic Book"/>
              </a:rPr>
              <a:t>Представления о толерантности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346040" y="1065240"/>
            <a:ext cx="5216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и существования толерант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1846440" y="1494000"/>
            <a:ext cx="8466120" cy="56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3600" indent="-363600">
              <a:spcAft>
                <a:spcPts val="751"/>
              </a:spcAft>
              <a:buClr>
                <a:srgbClr val="f96a1b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цивилизационн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ненасилие между культурными цивилизация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Aft>
                <a:spcPts val="751"/>
              </a:spcAft>
              <a:buClr>
                <a:srgbClr val="f96a1b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международный</a:t>
            </a: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как условие сотрудничества и мирного сосуществования государст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Aft>
                <a:spcPts val="751"/>
              </a:spcAft>
              <a:buClr>
                <a:srgbClr val="f96a1b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этнический</a:t>
            </a: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терпимость к чужому образу жизни, обычаям, традициям, нравам, понимание их культурологической обусловленности; веротерпимость – первая историческая форма толерант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Aft>
                <a:spcPts val="751"/>
              </a:spcAft>
              <a:buClr>
                <a:srgbClr val="f96a1b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социальн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форма партнерского взаимодействия между разными социальными группами, властными структурами общества; направлена на равновесие отношений в обществе, признание права людей на объединение для защиты своих пра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Aft>
                <a:spcPts val="751"/>
              </a:spcAft>
              <a:buClr>
                <a:srgbClr val="f96a1b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индивидуаль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уважение к личности другого, понимание многообразия идей и це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4"/>
          <p:cNvSpPr/>
          <p:nvPr/>
        </p:nvSpPr>
        <p:spPr>
          <a:xfrm>
            <a:off x="9825120" y="6804000"/>
            <a:ext cx="587160" cy="554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" rIns="10440" tIns="10440" bIns="10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/   Слайд </a:t>
            </a:r>
            <a:fld id="{83651CF5-7174-40CC-9953-56A86990ABD0}" type="slidenum">
              <a:rPr b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Группа 7"/>
          <p:cNvGrpSpPr/>
          <p:nvPr/>
        </p:nvGrpSpPr>
        <p:grpSpPr>
          <a:xfrm>
            <a:off x="8442360" y="5292720"/>
            <a:ext cx="2251080" cy="2268360"/>
            <a:chOff x="8442360" y="5292720"/>
            <a:chExt cx="2251080" cy="2268360"/>
          </a:xfrm>
        </p:grpSpPr>
        <p:sp>
          <p:nvSpPr>
            <p:cNvPr id="368" name="Прямоугольный треугольник 6"/>
            <p:cNvSpPr/>
            <p:nvPr/>
          </p:nvSpPr>
          <p:spPr>
            <a:xfrm rot="16200000">
              <a:off x="8505720" y="5373360"/>
              <a:ext cx="2124360" cy="2251080"/>
            </a:xfrm>
            <a:prstGeom prst="rtTriangle">
              <a:avLst/>
            </a:prstGeom>
            <a:solidFill>
              <a:srgbClr val="17a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Franklin Gothic Book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Прямоугольник 7"/>
            <p:cNvSpPr/>
            <p:nvPr/>
          </p:nvSpPr>
          <p:spPr>
            <a:xfrm>
              <a:off x="10171080" y="5292720"/>
              <a:ext cx="522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 txBox="1"/>
          <p:nvPr/>
        </p:nvSpPr>
        <p:spPr>
          <a:xfrm>
            <a:off x="988560" y="350640"/>
            <a:ext cx="8796600" cy="4824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rmAutofit/>
          </a:bodyPr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3000" spc="-1" strike="noStrike">
                <a:solidFill>
                  <a:srgbClr val="f96a1b"/>
                </a:solidFill>
                <a:latin typeface="Franklin Gothic Book"/>
              </a:rPr>
              <a:t>Представления о толерантности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774800" y="1636560"/>
            <a:ext cx="8207280" cy="56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3600" indent="-363600" algn="just">
              <a:spcAft>
                <a:spcPts val="751"/>
              </a:spcAft>
              <a:buClr>
                <a:srgbClr val="f96a1b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Нулевой уровен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когда человек при незначительных расхождениях во взглядах  и мнениях быстро переходит от положительного и нейтрального отношения к другому человеку к резко отрицательному. При этом легко может возникнуть конфлик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Aft>
                <a:spcPts val="751"/>
              </a:spcAft>
              <a:buClr>
                <a:srgbClr val="f96a1b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Низкий  уровен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человек допускает терпимые отношения, но поддерживать их может не всег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Aft>
                <a:spcPts val="75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Aft>
                <a:spcPts val="751"/>
              </a:spcAft>
              <a:buClr>
                <a:srgbClr val="f96a1b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Средний уровен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человек толерантно относиться к людям «из своего круга». Возможен конструктивный диал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Aft>
                <a:spcPts val="75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Aft>
                <a:spcPts val="751"/>
              </a:spcAft>
              <a:buClr>
                <a:srgbClr val="f96a1b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Высокий уровен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характеризуется эмоционально устойчивым отношением к «другим». Анализ своего поведения и речи позволяет поддерживать конструктивные отношения, не допускать конфликтных ситуа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060560" y="1065240"/>
            <a:ext cx="6767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и проявления толерант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4"/>
          <p:cNvSpPr/>
          <p:nvPr/>
        </p:nvSpPr>
        <p:spPr>
          <a:xfrm>
            <a:off x="9825120" y="6804000"/>
            <a:ext cx="587160" cy="554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" rIns="10440" tIns="10440" bIns="10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/   Слайд </a:t>
            </a:r>
            <a:fld id="{EB7744B2-0C25-48EB-AE80-A087A8F7B67D}" type="slidenum">
              <a:rPr b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Группа 7"/>
          <p:cNvGrpSpPr/>
          <p:nvPr/>
        </p:nvGrpSpPr>
        <p:grpSpPr>
          <a:xfrm>
            <a:off x="8442360" y="5292720"/>
            <a:ext cx="2251080" cy="2268360"/>
            <a:chOff x="8442360" y="5292720"/>
            <a:chExt cx="2251080" cy="2268360"/>
          </a:xfrm>
        </p:grpSpPr>
        <p:sp>
          <p:nvSpPr>
            <p:cNvPr id="375" name="Прямоугольный треугольник 6"/>
            <p:cNvSpPr/>
            <p:nvPr/>
          </p:nvSpPr>
          <p:spPr>
            <a:xfrm rot="16200000">
              <a:off x="8505720" y="5373360"/>
              <a:ext cx="2124360" cy="2251080"/>
            </a:xfrm>
            <a:prstGeom prst="rtTriangle">
              <a:avLst/>
            </a:prstGeom>
            <a:solidFill>
              <a:srgbClr val="17a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Franklin Gothic Book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Прямоугольник 7"/>
            <p:cNvSpPr/>
            <p:nvPr/>
          </p:nvSpPr>
          <p:spPr>
            <a:xfrm>
              <a:off x="10171080" y="5292720"/>
              <a:ext cx="522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 txBox="1"/>
          <p:nvPr/>
        </p:nvSpPr>
        <p:spPr>
          <a:xfrm>
            <a:off x="961560" y="612360"/>
            <a:ext cx="8796600" cy="4824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rmAutofit fontScale="77000"/>
          </a:bodyPr>
          <a:p>
            <a:pPr marL="300600" indent="-300600">
              <a:spcBef>
                <a:spcPts val="12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0600" indent="-300600" algn="just">
              <a:spcBef>
                <a:spcPts val="15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96a1b"/>
                </a:solidFill>
                <a:latin typeface="Franklin Gothic Book"/>
              </a:rPr>
              <a:t>Толерантность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– это способность различать и признавать нравственные, правовые и психологические границы, умение конструктивно действовать в пограничных ситуациях, разрешать противоречия, согласовывать позиции, сотрудничать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00600" indent="-300600" algn="just">
              <a:spcBef>
                <a:spcPts val="15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00600" indent="-300600" algn="just">
              <a:spcBef>
                <a:spcPts val="15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96a1b"/>
                </a:solidFill>
                <a:latin typeface="Franklin Gothic Book"/>
              </a:rPr>
              <a:t>Цель толерантности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– утверждение ценности человеческого достоинства и неприкосновенности человеческой личност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00600" indent="-300600" algn="just">
              <a:lnSpc>
                <a:spcPct val="125000"/>
              </a:lnSpc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00600" indent="-300600" algn="just">
              <a:lnSpc>
                <a:spcPct val="125000"/>
              </a:lnSpc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96a1b"/>
                </a:solidFill>
                <a:latin typeface="Franklin Gothic Book"/>
              </a:rPr>
              <a:t>Интолерантность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– это неприятие другого человека, неготовность к сосуществованию с другими людьми, проявляющаяся через деструктивность, конфликтность, агрессивное поведение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00600" indent="-30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4"/>
          <p:cNvSpPr/>
          <p:nvPr/>
        </p:nvSpPr>
        <p:spPr>
          <a:xfrm>
            <a:off x="9825120" y="6804000"/>
            <a:ext cx="587160" cy="554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" rIns="10440" tIns="10440" bIns="10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/   Слайд </a:t>
            </a:r>
            <a:fld id="{F90CDC56-78FD-4D41-98F4-EEAD9B0F8001}" type="slidenum">
              <a:rPr b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Группа 7"/>
          <p:cNvGrpSpPr/>
          <p:nvPr/>
        </p:nvGrpSpPr>
        <p:grpSpPr>
          <a:xfrm>
            <a:off x="8442360" y="5292720"/>
            <a:ext cx="2251080" cy="2268360"/>
            <a:chOff x="8442360" y="5292720"/>
            <a:chExt cx="2251080" cy="2268360"/>
          </a:xfrm>
        </p:grpSpPr>
        <p:sp>
          <p:nvSpPr>
            <p:cNvPr id="380" name="Прямоугольный треугольник 6"/>
            <p:cNvSpPr/>
            <p:nvPr/>
          </p:nvSpPr>
          <p:spPr>
            <a:xfrm rot="16200000">
              <a:off x="8505720" y="5373360"/>
              <a:ext cx="2124360" cy="2251080"/>
            </a:xfrm>
            <a:prstGeom prst="rtTriangle">
              <a:avLst/>
            </a:prstGeom>
            <a:solidFill>
              <a:srgbClr val="17a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Franklin Gothic Book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Прямоугольник 7"/>
            <p:cNvSpPr/>
            <p:nvPr/>
          </p:nvSpPr>
          <p:spPr>
            <a:xfrm>
              <a:off x="10171080" y="5292720"/>
              <a:ext cx="522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 txBox="1"/>
          <p:nvPr/>
        </p:nvSpPr>
        <p:spPr>
          <a:xfrm>
            <a:off x="961560" y="612360"/>
            <a:ext cx="8796600" cy="4824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rmAutofit/>
          </a:bodyPr>
          <a:p>
            <a:pPr marL="390600" indent="-390600" algn="ctr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3600" spc="-1" strike="noStrike">
                <a:solidFill>
                  <a:srgbClr val="f96a1b"/>
                </a:solidFill>
                <a:latin typeface="Franklin Gothic Book"/>
              </a:rPr>
              <a:t>Толерантность – условие самоизменения,                              а самоизменение – условие развития толерантности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1720" y="1091880"/>
            <a:ext cx="9267840" cy="1428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10440" anchor="b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СПАСИБО ЗА ВНИМАНИЕ !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88880" y="1564920"/>
            <a:ext cx="9267840" cy="416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10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ГМАТИЗАЦИЯ, ДИСКРИМИНАЦИЯ  И ТОЛЕРАНТНОСТЬ В КОНТЕКСТЕ ВИЧ/СПИ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4200"/>
            </a:br>
            <a:r>
              <a:rPr b="0" lang="ru-RU" sz="29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2"/>
          <p:cNvSpPr/>
          <p:nvPr/>
        </p:nvSpPr>
        <p:spPr>
          <a:xfrm>
            <a:off x="9825120" y="6804000"/>
            <a:ext cx="587160" cy="554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" rIns="10440" tIns="10440" bIns="10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/   Слайд </a:t>
            </a:r>
            <a:fld id="{8B9D70C7-867C-4E06-9E9A-183BEB6DC458}" type="slidenum">
              <a:rPr b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060560" y="636480"/>
            <a:ext cx="8928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96a1b"/>
                </a:solidFill>
                <a:latin typeface="Arial"/>
              </a:rPr>
              <a:t>Стигматизация (стигма)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взятое, негативное отношение      к отдельному человеку или группе людей, связанное с наличием     у него/них каких-либо особых свойств или призн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114720" y="684360"/>
            <a:ext cx="74754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060560" y="3422520"/>
            <a:ext cx="885672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96a1b"/>
                </a:solidFill>
                <a:latin typeface="Arial"/>
              </a:rPr>
              <a:t>Дискриминация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аничение или прямое ущемление прав       и свобод, что ставит одних людей в худшее положение                   по сравнению с друг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Группа 3"/>
          <p:cNvGrpSpPr/>
          <p:nvPr/>
        </p:nvGrpSpPr>
        <p:grpSpPr>
          <a:xfrm>
            <a:off x="8442360" y="5292720"/>
            <a:ext cx="2251080" cy="2268360"/>
            <a:chOff x="8442360" y="5292720"/>
            <a:chExt cx="2251080" cy="2268360"/>
          </a:xfrm>
        </p:grpSpPr>
        <p:sp>
          <p:nvSpPr>
            <p:cNvPr id="319" name="Прямоугольный треугольник 8"/>
            <p:cNvSpPr/>
            <p:nvPr/>
          </p:nvSpPr>
          <p:spPr>
            <a:xfrm rot="16200000">
              <a:off x="8505720" y="5373360"/>
              <a:ext cx="2124360" cy="2251080"/>
            </a:xfrm>
            <a:prstGeom prst="rtTriangle">
              <a:avLst/>
            </a:prstGeom>
            <a:solidFill>
              <a:srgbClr val="17a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Franklin Gothic Book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оугольник 2"/>
            <p:cNvSpPr/>
            <p:nvPr/>
          </p:nvSpPr>
          <p:spPr>
            <a:xfrm>
              <a:off x="10171080" y="5292720"/>
              <a:ext cx="522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2"/>
          <p:cNvSpPr/>
          <p:nvPr/>
        </p:nvSpPr>
        <p:spPr>
          <a:xfrm>
            <a:off x="9825120" y="6804000"/>
            <a:ext cx="587160" cy="554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" rIns="10440" tIns="10440" bIns="10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/   Слайд </a:t>
            </a:r>
            <a:fld id="{8E04BB52-DC5F-4CEF-BE17-93469BE1A9EB}" type="slidenum">
              <a:rPr b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1962000" y="262908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buClr>
                <a:srgbClr val="96c85a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098720" y="1590840"/>
            <a:ext cx="907236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3600" indent="-363600">
              <a:lnSpc>
                <a:spcPct val="11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емление быстрее </a:t>
            </a: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прекратить общ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 ВИЧ-инфицирова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Игнорирование потребност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ЛЖВ (в игре – у детей, образовании, общении и труд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риятие ЛЖВ как </a:t>
            </a: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угроз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воей личной безопасности, страх бытового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Враждебность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сутствие сочув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винение ЛЖВ в том, что с ними произошло, </a:t>
            </a: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морализаторство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ез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Отказ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получении работы, образования, различного рода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Несоблюдение конфиденци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3114720" y="684360"/>
            <a:ext cx="74754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060560" y="493560"/>
            <a:ext cx="92170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3000" spc="-1" strike="noStrike">
                <a:solidFill>
                  <a:srgbClr val="f96a1b"/>
                </a:solidFill>
                <a:latin typeface="Arial"/>
              </a:rPr>
              <a:t>Проявления стигмы и дискриминации</a:t>
            </a:r>
            <a:r>
              <a:rPr b="1" lang="ru-RU" sz="3000" spc="-1" strike="noStrike">
                <a:solidFill>
                  <a:srgbClr val="0a50a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Группа 8"/>
          <p:cNvGrpSpPr/>
          <p:nvPr/>
        </p:nvGrpSpPr>
        <p:grpSpPr>
          <a:xfrm>
            <a:off x="8442360" y="5292720"/>
            <a:ext cx="2251080" cy="2268360"/>
            <a:chOff x="8442360" y="5292720"/>
            <a:chExt cx="2251080" cy="2268360"/>
          </a:xfrm>
        </p:grpSpPr>
        <p:sp>
          <p:nvSpPr>
            <p:cNvPr id="327" name="Прямоугольный треугольник 9"/>
            <p:cNvSpPr/>
            <p:nvPr/>
          </p:nvSpPr>
          <p:spPr>
            <a:xfrm rot="16200000">
              <a:off x="8505720" y="5373360"/>
              <a:ext cx="2124360" cy="2251080"/>
            </a:xfrm>
            <a:prstGeom prst="rtTriangle">
              <a:avLst/>
            </a:prstGeom>
            <a:solidFill>
              <a:srgbClr val="17a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Franklin Gothic Book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Прямоугольник 10"/>
            <p:cNvSpPr/>
            <p:nvPr/>
          </p:nvSpPr>
          <p:spPr>
            <a:xfrm>
              <a:off x="10171080" y="5292720"/>
              <a:ext cx="522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2"/>
          <p:cNvSpPr/>
          <p:nvPr/>
        </p:nvSpPr>
        <p:spPr>
          <a:xfrm>
            <a:off x="9825120" y="6804000"/>
            <a:ext cx="587160" cy="554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" rIns="10440" tIns="10440" bIns="10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/   Слайд </a:t>
            </a:r>
            <a:fld id="{A7063152-3EE9-45E6-85DC-F79FE135F11A}" type="slidenum">
              <a:rPr b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1962000" y="262908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buClr>
                <a:srgbClr val="96c85a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770040" y="468360"/>
            <a:ext cx="992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631800" y="6364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3000" spc="-1" strike="noStrike">
                <a:solidFill>
                  <a:srgbClr val="f96a1b"/>
                </a:solidFill>
                <a:latin typeface="Arial"/>
              </a:rPr>
              <a:t>Причины стигмы и дискриминации</a:t>
            </a:r>
            <a:r>
              <a:rPr b="0" lang="ru-RU" sz="3000" spc="-1" strike="noStrike">
                <a:solidFill>
                  <a:srgbClr val="434342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703440" y="1565280"/>
            <a:ext cx="691344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знание, невеж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статок чувства безопасности, защищ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х, порожденный инстинктом самос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Группа 9"/>
          <p:cNvGrpSpPr/>
          <p:nvPr/>
        </p:nvGrpSpPr>
        <p:grpSpPr>
          <a:xfrm>
            <a:off x="8442360" y="5292720"/>
            <a:ext cx="2251080" cy="2268360"/>
            <a:chOff x="8442360" y="5292720"/>
            <a:chExt cx="2251080" cy="2268360"/>
          </a:xfrm>
        </p:grpSpPr>
        <p:sp>
          <p:nvSpPr>
            <p:cNvPr id="335" name="Прямоугольный треугольник 10"/>
            <p:cNvSpPr/>
            <p:nvPr/>
          </p:nvSpPr>
          <p:spPr>
            <a:xfrm rot="16200000">
              <a:off x="8505720" y="5373360"/>
              <a:ext cx="2124360" cy="2251080"/>
            </a:xfrm>
            <a:prstGeom prst="rtTriangle">
              <a:avLst/>
            </a:prstGeom>
            <a:solidFill>
              <a:srgbClr val="17a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Franklin Gothic Book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Прямоугольник 11"/>
            <p:cNvSpPr/>
            <p:nvPr/>
          </p:nvSpPr>
          <p:spPr>
            <a:xfrm>
              <a:off x="10171080" y="5292720"/>
              <a:ext cx="522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3000" spc="-1" strike="noStrike">
                <a:solidFill>
                  <a:srgbClr val="f96a1b"/>
                </a:solidFill>
                <a:latin typeface="Arial"/>
                <a:ea typeface="Arial"/>
              </a:rPr>
              <a:t>Как преодолеть стигму и дискриминацию?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61560" y="1212480"/>
            <a:ext cx="8796600" cy="3948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96a1b"/>
                </a:solidFill>
                <a:latin typeface="Franklin Gothic Book"/>
              </a:rPr>
              <a:t>Дать полную информацию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 том, что такое ВИЧ/СПИД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 путях передачи ВИЧ-инфекции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 социальном, экономическом и возрастном статусе ВИЧ-инфицированных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 безопасном поведении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 способах защиты от ВИЧ/СПИД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90600" indent="-390600">
              <a:spcBef>
                <a:spcPts val="9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39" name="Группа 7"/>
          <p:cNvGrpSpPr/>
          <p:nvPr/>
        </p:nvGrpSpPr>
        <p:grpSpPr>
          <a:xfrm>
            <a:off x="8442360" y="5292720"/>
            <a:ext cx="2251080" cy="2268360"/>
            <a:chOff x="8442360" y="5292720"/>
            <a:chExt cx="2251080" cy="2268360"/>
          </a:xfrm>
        </p:grpSpPr>
        <p:sp>
          <p:nvSpPr>
            <p:cNvPr id="340" name="Прямоугольный треугольник 6"/>
            <p:cNvSpPr/>
            <p:nvPr/>
          </p:nvSpPr>
          <p:spPr>
            <a:xfrm rot="16200000">
              <a:off x="8505720" y="5373360"/>
              <a:ext cx="2124360" cy="2251080"/>
            </a:xfrm>
            <a:prstGeom prst="rtTriangle">
              <a:avLst/>
            </a:prstGeom>
            <a:solidFill>
              <a:srgbClr val="17a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Franklin Gothic Book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Прямоугольник 7"/>
            <p:cNvSpPr/>
            <p:nvPr/>
          </p:nvSpPr>
          <p:spPr>
            <a:xfrm>
              <a:off x="10171080" y="5292720"/>
              <a:ext cx="522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61560" y="403200"/>
            <a:ext cx="8796600" cy="60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3000" spc="-1" strike="noStrike">
                <a:solidFill>
                  <a:srgbClr val="f96a1b"/>
                </a:solidFill>
                <a:latin typeface="Arial"/>
                <a:ea typeface="Arial"/>
              </a:rPr>
              <a:t>Устранение стигмы и дискриминации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961560" y="1212480"/>
            <a:ext cx="8796600" cy="5211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6000"/>
          </a:bodyPr>
          <a:p>
            <a:pPr marL="374760" indent="-37476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овышает уровень выявляемости ВИЧ, так как у людей уходит страх перед сдачей теста на ВИЧ и получением результатов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74760" indent="-37476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редотвращает заражение других людей из-за незнания собственного диагноза ВИЧ-инфицированным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74760" indent="-37476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овышает  возможности человека в плане своевременного начала  лечения 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74760" indent="-37476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родлевает жизнь и трудоспособность людей, живущих с ВИЧ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74760" indent="-37476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станавливает эпидемию ВИЧ,  позволяет контролировать ситуацию, связанную с распространением ВИЧ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Номер слайда 4"/>
          <p:cNvSpPr/>
          <p:nvPr/>
        </p:nvSpPr>
        <p:spPr>
          <a:xfrm>
            <a:off x="9825120" y="6804000"/>
            <a:ext cx="587160" cy="554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" rIns="10440" tIns="10440" bIns="10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/   Слайд </a:t>
            </a:r>
            <a:fld id="{CE05AE03-7B98-4204-919A-6FBD9A24DAF4}" type="slidenum">
              <a:rPr b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Группа 7"/>
          <p:cNvGrpSpPr/>
          <p:nvPr/>
        </p:nvGrpSpPr>
        <p:grpSpPr>
          <a:xfrm>
            <a:off x="8442360" y="5292720"/>
            <a:ext cx="2251080" cy="2268360"/>
            <a:chOff x="8442360" y="5292720"/>
            <a:chExt cx="2251080" cy="2268360"/>
          </a:xfrm>
        </p:grpSpPr>
        <p:sp>
          <p:nvSpPr>
            <p:cNvPr id="346" name="Прямоугольный треугольник 6"/>
            <p:cNvSpPr/>
            <p:nvPr/>
          </p:nvSpPr>
          <p:spPr>
            <a:xfrm rot="16200000">
              <a:off x="8505720" y="5373360"/>
              <a:ext cx="2124360" cy="2251080"/>
            </a:xfrm>
            <a:prstGeom prst="rtTriangle">
              <a:avLst/>
            </a:prstGeom>
            <a:solidFill>
              <a:srgbClr val="17a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Franklin Gothic Book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Прямоугольник 7"/>
            <p:cNvSpPr/>
            <p:nvPr/>
          </p:nvSpPr>
          <p:spPr>
            <a:xfrm>
              <a:off x="10171080" y="5292720"/>
              <a:ext cx="522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961560" y="612360"/>
            <a:ext cx="8796600" cy="4824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lnSpc>
                <a:spcPct val="90000"/>
              </a:lnSpc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сновные международные законы в области прав человека  </a:t>
            </a:r>
            <a:r>
              <a:rPr b="1" lang="ru-RU" sz="2200" spc="-1" strike="noStrike">
                <a:solidFill>
                  <a:srgbClr val="f96a1b"/>
                </a:solidFill>
                <a:latin typeface="Franklin Gothic Book"/>
              </a:rPr>
              <a:t>запрещают дискриминацию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о расовому признаку, цвету кожи, полу, языку,  религиозным, политическим и другим убеждениям, национальному или социальному происхождению, имущественному, сословному или </a:t>
            </a:r>
            <a:r>
              <a:rPr b="1" lang="ru-RU" sz="2200" spc="-1" strike="noStrike">
                <a:solidFill>
                  <a:srgbClr val="f96a1b"/>
                </a:solidFill>
                <a:latin typeface="Franklin Gothic Book"/>
              </a:rPr>
              <a:t>иному положению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 резолюции комиссии ООН по правам человека провозглашено, что термин </a:t>
            </a:r>
            <a:r>
              <a:rPr b="1" lang="ru-RU" sz="2200" spc="-1" strike="noStrike">
                <a:solidFill>
                  <a:srgbClr val="f96a1b"/>
                </a:solidFill>
                <a:latin typeface="Franklin Gothic Book"/>
              </a:rPr>
              <a:t>«или иное положение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 различных международных законодательных актах о правах человека следует толковать как </a:t>
            </a:r>
            <a:r>
              <a:rPr b="1" lang="ru-RU" sz="2200" spc="-1" strike="noStrike">
                <a:solidFill>
                  <a:srgbClr val="f96a1b"/>
                </a:solidFill>
                <a:latin typeface="Franklin Gothic Book"/>
              </a:rPr>
              <a:t>имеющий отношение к состоянию здоровья, включая ВИЧ-инфекцию и СПИД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Номер слайда 4"/>
          <p:cNvSpPr/>
          <p:nvPr/>
        </p:nvSpPr>
        <p:spPr>
          <a:xfrm>
            <a:off x="9825120" y="6804000"/>
            <a:ext cx="587160" cy="554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" rIns="10440" tIns="10440" bIns="10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/   Слайд </a:t>
            </a:r>
            <a:fld id="{849E5B35-22AB-4936-BBD7-ECA4AD7CC046}" type="slidenum">
              <a:rPr b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Группа 7"/>
          <p:cNvGrpSpPr/>
          <p:nvPr/>
        </p:nvGrpSpPr>
        <p:grpSpPr>
          <a:xfrm>
            <a:off x="8442360" y="5292720"/>
            <a:ext cx="2251080" cy="2268360"/>
            <a:chOff x="8442360" y="5292720"/>
            <a:chExt cx="2251080" cy="2268360"/>
          </a:xfrm>
        </p:grpSpPr>
        <p:sp>
          <p:nvSpPr>
            <p:cNvPr id="351" name="Прямоугольный треугольник 6"/>
            <p:cNvSpPr/>
            <p:nvPr/>
          </p:nvSpPr>
          <p:spPr>
            <a:xfrm rot="16200000">
              <a:off x="8505720" y="5373360"/>
              <a:ext cx="2124360" cy="2251080"/>
            </a:xfrm>
            <a:prstGeom prst="rtTriangle">
              <a:avLst/>
            </a:prstGeom>
            <a:solidFill>
              <a:srgbClr val="17a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Franklin Gothic Book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Прямоугольник 7"/>
            <p:cNvSpPr/>
            <p:nvPr/>
          </p:nvSpPr>
          <p:spPr>
            <a:xfrm>
              <a:off x="10171080" y="5292720"/>
              <a:ext cx="522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45640" y="350640"/>
            <a:ext cx="8796600" cy="4824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>
              <a:lnSpc>
                <a:spcPct val="90000"/>
              </a:lnSpc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96a1b"/>
                </a:solidFill>
                <a:latin typeface="Franklin Gothic Book"/>
              </a:rPr>
              <a:t>Толерантность </a:t>
            </a:r>
            <a:br>
              <a:rPr sz="2400"/>
            </a:br>
            <a:r>
              <a:rPr b="1" lang="ru-RU" sz="2400" spc="-1" strike="noStrike">
                <a:solidFill>
                  <a:srgbClr val="f96a1b"/>
                </a:solidFill>
                <a:latin typeface="Franklin Gothic Book"/>
              </a:rPr>
              <a:t>как социальный феномен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9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Номер слайда 4"/>
          <p:cNvSpPr/>
          <p:nvPr/>
        </p:nvSpPr>
        <p:spPr>
          <a:xfrm>
            <a:off x="9825120" y="6804000"/>
            <a:ext cx="587160" cy="554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" rIns="10440" tIns="10440" bIns="10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/   Слайд </a:t>
            </a:r>
            <a:fld id="{F412E7EE-BD56-4154-A9AC-829C8C8AD83B}" type="slidenum">
              <a:rPr b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Группа 7"/>
          <p:cNvGrpSpPr/>
          <p:nvPr/>
        </p:nvGrpSpPr>
        <p:grpSpPr>
          <a:xfrm>
            <a:off x="8442360" y="5292720"/>
            <a:ext cx="2251080" cy="2268360"/>
            <a:chOff x="8442360" y="5292720"/>
            <a:chExt cx="2251080" cy="2268360"/>
          </a:xfrm>
        </p:grpSpPr>
        <p:sp>
          <p:nvSpPr>
            <p:cNvPr id="356" name="Прямоугольный треугольник 6"/>
            <p:cNvSpPr/>
            <p:nvPr/>
          </p:nvSpPr>
          <p:spPr>
            <a:xfrm rot="16200000">
              <a:off x="8505720" y="5373360"/>
              <a:ext cx="2124360" cy="2251080"/>
            </a:xfrm>
            <a:prstGeom prst="rtTriangle">
              <a:avLst/>
            </a:prstGeom>
            <a:solidFill>
              <a:srgbClr val="17a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Franklin Gothic Book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оугольник 7"/>
            <p:cNvSpPr/>
            <p:nvPr/>
          </p:nvSpPr>
          <p:spPr>
            <a:xfrm>
              <a:off x="10171080" y="5292720"/>
              <a:ext cx="522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3"/>
          <p:cNvSpPr/>
          <p:nvPr/>
        </p:nvSpPr>
        <p:spPr>
          <a:xfrm>
            <a:off x="560520" y="1136520"/>
            <a:ext cx="972000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Толерантность, терпим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(рус.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умение терпе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выдерживать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носить, мириться с чем-либо), принимать/признав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ование кого-либо, примирять, приводить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ие с самим собой, быть снисходительным к чему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бо/кому-ли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000" spc="-1" strike="noStrike">
                <a:solidFill>
                  <a:srgbClr val="f96a1b"/>
                </a:solidFill>
                <a:latin typeface="Arial"/>
              </a:rPr>
              <a:t>Tolerance </a:t>
            </a: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(англ.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товность быть терпимым, снисходите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000" spc="-1" strike="noStrike">
                <a:solidFill>
                  <a:srgbClr val="f96a1b"/>
                </a:solidFill>
                <a:latin typeface="Arial"/>
              </a:rPr>
              <a:t>Tolerance</a:t>
            </a: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 (фр.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убежденность в том, что другие могут думать,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овать в манере, отличной от нашей собств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000" spc="-1" strike="noStrike">
                <a:solidFill>
                  <a:srgbClr val="f96a1b"/>
                </a:solidFill>
                <a:latin typeface="Arial"/>
              </a:rPr>
              <a:t>Tolerencia</a:t>
            </a: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 (исп.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пособность принимать идеи и мнени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личные от собств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000" spc="-1" strike="noStrike">
                <a:solidFill>
                  <a:srgbClr val="f96a1b"/>
                </a:solidFill>
                <a:latin typeface="Arial"/>
              </a:rPr>
              <a:t>Kuan rong </a:t>
            </a: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(кит.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принимать других такими, какие они есть, и бы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кодушным по отношению к друг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000" spc="-1" strike="noStrike">
                <a:solidFill>
                  <a:srgbClr val="f96a1b"/>
                </a:solidFill>
                <a:latin typeface="Arial"/>
              </a:rPr>
              <a:t>Tasamul </a:t>
            </a:r>
            <a:r>
              <a:rPr b="1" lang="ru-RU" sz="2000" spc="-1" strike="noStrike">
                <a:solidFill>
                  <a:srgbClr val="f96a1b"/>
                </a:solidFill>
                <a:latin typeface="Arial"/>
              </a:rPr>
              <a:t>(араб.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нисхождение, милосердие, всепрощение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ум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имать других такими, какие они есть, и прощ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11:08:29Z</dcterms:created>
  <dc:creator>sergey</dc:creator>
  <dc:description/>
  <dc:language>en-US</dc:language>
  <cp:lastModifiedBy>Руководитель отдела</cp:lastModifiedBy>
  <dcterms:modified xsi:type="dcterms:W3CDTF">2012-03-23T05:47:47Z</dcterms:modified>
  <cp:revision>149</cp:revision>
  <dc:subject/>
  <dc:title>Слайд 1</dc:title>
</cp:coreProperties>
</file>