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B67-62E3-40C9-86AF-FBDDC898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801-195A-4C30-B4EC-4076B44A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E51-E107-4058-BC91-7BE8BFE1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0F1-86EA-4839-A149-A18991D8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A0E-8463-40A6-AEF6-39F8BA4A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AF9-DEE4-4043-9A6C-08DBE818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016-CEDA-40FD-A1B6-435FBD50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109-E041-4AAC-9502-BF6C68E7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8C6-32DB-410B-A22D-3991F6A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C1D-AC61-4494-80DA-67745AF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8F1-E8DB-4A79-AA5A-C22D454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3D6-C924-40EC-8C9C-6404EA61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8CA3-DB82-442E-A5C6-7A301E4AC8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s://yuliyakiyaeva.my1.ru/" TargetMode="External"/><Relationship Id="rId8" Type="http://schemas.openxmlformats.org/officeDocument/2006/relationships/hyperlink" Target="https://logoped-kiyaeva2020.blogspot.com/" TargetMode="External"/><Relationship Id="rId9" Type="http://schemas.openxmlformats.org/officeDocument/2006/relationships/hyperlink" Target="https://proektfoosh.blogspot.com/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ение квалификации педагогов</a:t>
            </a:r>
            <a:br>
              <a:rPr sz="48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Форум «Педагоги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4356000" y="4869000"/>
            <a:ext cx="39592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ияева Ю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ОУ «Фоминская О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6" descr="C:\Users\Юля\Desktop\Выступление РМО НОО 12.11.20\Screenshot.png"/>
          <p:cNvPicPr/>
          <p:nvPr/>
        </p:nvPicPr>
        <p:blipFill>
          <a:blip r:embed="rId1"/>
          <a:stretch/>
        </p:blipFill>
        <p:spPr>
          <a:xfrm>
            <a:off x="1403280" y="907920"/>
            <a:ext cx="6381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Юля\Desktop\Выступление РМО НОО 12.11.20\Screenshot (26).png"/>
          <p:cNvPicPr/>
          <p:nvPr/>
        </p:nvPicPr>
        <p:blipFill>
          <a:blip r:embed="rId1"/>
          <a:stretch/>
        </p:blipFill>
        <p:spPr>
          <a:xfrm>
            <a:off x="4427640" y="3284640"/>
            <a:ext cx="3441600" cy="18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3" descr="C:\Users\Юля\Desktop\Выступление РМО НОО 12.11.20\Screenshot (27).png"/>
          <p:cNvPicPr/>
          <p:nvPr/>
        </p:nvPicPr>
        <p:blipFill>
          <a:blip r:embed="rId2"/>
          <a:stretch/>
        </p:blipFill>
        <p:spPr>
          <a:xfrm>
            <a:off x="6300720" y="3933720"/>
            <a:ext cx="2087640" cy="23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4" descr="C:\Users\Юля\Desktop\Выступление РМО НОО 12.11.20\page_1.jpg"/>
          <p:cNvPicPr/>
          <p:nvPr/>
        </p:nvPicPr>
        <p:blipFill>
          <a:blip r:embed="rId3"/>
          <a:srcRect l="10501" t="16007" r="5500" b="0"/>
          <a:stretch/>
        </p:blipFill>
        <p:spPr>
          <a:xfrm>
            <a:off x="250920" y="2924280"/>
            <a:ext cx="2976480" cy="223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5" descr="C:\Users\Юля\Desktop\Выступление РМО НОО 12.11.20\Screenshot (19).png"/>
          <p:cNvPicPr/>
          <p:nvPr/>
        </p:nvPicPr>
        <p:blipFill>
          <a:blip r:embed="rId4"/>
          <a:stretch/>
        </p:blipFill>
        <p:spPr>
          <a:xfrm>
            <a:off x="2843280" y="3860640"/>
            <a:ext cx="1503360" cy="214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7" descr="C:\Users\Юля\Desktop\Выступление РМО НОО 12.11.20\Screenshot (25).png"/>
          <p:cNvPicPr/>
          <p:nvPr/>
        </p:nvPicPr>
        <p:blipFill>
          <a:blip r:embed="rId5"/>
          <a:stretch/>
        </p:blipFill>
        <p:spPr>
          <a:xfrm>
            <a:off x="468360" y="333360"/>
            <a:ext cx="390852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6" descr="C:\Users\Юля\Desktop\Выступление РМО НОО 12.11.20\Screenshot (24).png"/>
          <p:cNvPicPr/>
          <p:nvPr/>
        </p:nvPicPr>
        <p:blipFill>
          <a:blip r:embed="rId6"/>
          <a:stretch/>
        </p:blipFill>
        <p:spPr>
          <a:xfrm>
            <a:off x="5076720" y="981000"/>
            <a:ext cx="3598920" cy="181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Скругленный прямоугольник 7"/>
          <p:cNvSpPr/>
          <p:nvPr/>
        </p:nvSpPr>
        <p:spPr>
          <a:xfrm>
            <a:off x="4067280" y="6093000"/>
            <a:ext cx="41767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s://yuliyakiyaeva.my1.ru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8"/>
          <p:cNvSpPr/>
          <p:nvPr/>
        </p:nvSpPr>
        <p:spPr>
          <a:xfrm>
            <a:off x="179280" y="2276640"/>
            <a:ext cx="439272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https://logoped-kiyaeva2020.blogspot.com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4932360" y="2637000"/>
            <a:ext cx="38876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s://proektfoosh.blogspot.com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Юля\Desktop\Выступление РМО НОО 12.11.20\Screenshot (14).png"/>
          <p:cNvPicPr/>
          <p:nvPr/>
        </p:nvPicPr>
        <p:blipFill>
          <a:blip r:embed="rId1"/>
          <a:stretch/>
        </p:blipFill>
        <p:spPr>
          <a:xfrm>
            <a:off x="250920" y="189000"/>
            <a:ext cx="6402240" cy="33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Юля\Desktop\Выступление РМО НОО 12.11.20\Screenshot (11).png"/>
          <p:cNvPicPr/>
          <p:nvPr/>
        </p:nvPicPr>
        <p:blipFill>
          <a:blip r:embed="rId2"/>
          <a:stretch/>
        </p:blipFill>
        <p:spPr>
          <a:xfrm>
            <a:off x="5508720" y="1197000"/>
            <a:ext cx="264636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Юля\Desktop\Выступление РМО НОО 12.11.20\Screenshot (10).png"/>
          <p:cNvPicPr/>
          <p:nvPr/>
        </p:nvPicPr>
        <p:blipFill>
          <a:blip r:embed="rId3"/>
          <a:stretch/>
        </p:blipFill>
        <p:spPr>
          <a:xfrm>
            <a:off x="2700360" y="3213000"/>
            <a:ext cx="57592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C:\Users\Юля\Desktop\Выступление РМО НОО 12.11.20\Screenshot (15).png"/>
          <p:cNvPicPr/>
          <p:nvPr/>
        </p:nvPicPr>
        <p:blipFill>
          <a:blip r:embed="rId1"/>
          <a:stretch/>
        </p:blipFill>
        <p:spPr>
          <a:xfrm>
            <a:off x="250920" y="0"/>
            <a:ext cx="7304040" cy="2602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Users\Юля\Desktop\Выступление РМО НОО 12.11.20\Screenshot (16).png"/>
          <p:cNvPicPr/>
          <p:nvPr/>
        </p:nvPicPr>
        <p:blipFill>
          <a:blip r:embed="rId2"/>
          <a:stretch/>
        </p:blipFill>
        <p:spPr>
          <a:xfrm>
            <a:off x="250920" y="3878280"/>
            <a:ext cx="6337080" cy="283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Юля\Desktop\Выступление РМО НОО 12.11.20\Screenshot (12).png"/>
          <p:cNvPicPr/>
          <p:nvPr/>
        </p:nvPicPr>
        <p:blipFill>
          <a:blip r:embed="rId3"/>
          <a:stretch/>
        </p:blipFill>
        <p:spPr>
          <a:xfrm>
            <a:off x="4500720" y="2060640"/>
            <a:ext cx="4248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C:\Users\Юля\Desktop\Выступление РМО НОО 12.11.20\Screenshot (13).png"/>
          <p:cNvPicPr/>
          <p:nvPr/>
        </p:nvPicPr>
        <p:blipFill>
          <a:blip r:embed="rId1"/>
          <a:stretch/>
        </p:blipFill>
        <p:spPr>
          <a:xfrm>
            <a:off x="468360" y="189000"/>
            <a:ext cx="4464000" cy="5449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Users\Юля\Desktop\Выступление РМО НОО 12.11.20\Screenshot (17).png"/>
          <p:cNvPicPr/>
          <p:nvPr/>
        </p:nvPicPr>
        <p:blipFill>
          <a:blip r:embed="rId2"/>
          <a:stretch/>
        </p:blipFill>
        <p:spPr>
          <a:xfrm>
            <a:off x="3059280" y="3213000"/>
            <a:ext cx="5776920" cy="343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Юля\ДК дистант\марафон ДО\СОШ\Kiaeva_Yulia_Alexandrovna_12.jpg"/>
          <p:cNvPicPr/>
          <p:nvPr/>
        </p:nvPicPr>
        <p:blipFill>
          <a:blip r:embed="rId3"/>
          <a:stretch/>
        </p:blipFill>
        <p:spPr>
          <a:xfrm>
            <a:off x="4211640" y="0"/>
            <a:ext cx="2035080" cy="144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Юля\ДК дистант\марафон ДО\СОШ\Kiaeva_Yulia_Alexandrovna_13.jpg"/>
          <p:cNvPicPr/>
          <p:nvPr/>
        </p:nvPicPr>
        <p:blipFill>
          <a:blip r:embed="rId4"/>
          <a:stretch/>
        </p:blipFill>
        <p:spPr>
          <a:xfrm rot="576600">
            <a:off x="5841720" y="3357360"/>
            <a:ext cx="2352600" cy="332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Юля\ДК дистант\марафон ДО\СОШ\Kiaeva_Yulia_Alexandrovna_11.jpg"/>
          <p:cNvPicPr/>
          <p:nvPr/>
        </p:nvPicPr>
        <p:blipFill>
          <a:blip r:embed="rId5"/>
          <a:stretch/>
        </p:blipFill>
        <p:spPr>
          <a:xfrm>
            <a:off x="4932360" y="476280"/>
            <a:ext cx="2035080" cy="144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Юля\ДК дистант\марафон ДО\СОШ\Kiaeva_Yulia_Alexandrovna_9.jpg"/>
          <p:cNvPicPr/>
          <p:nvPr/>
        </p:nvPicPr>
        <p:blipFill>
          <a:blip r:embed="rId6"/>
          <a:stretch/>
        </p:blipFill>
        <p:spPr>
          <a:xfrm>
            <a:off x="5580000" y="981000"/>
            <a:ext cx="2035080" cy="14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Юля\ДК дистант\марафон ДО\СОШ\Kiaeva_Yulia_Alexandrovna_8.jpg"/>
          <p:cNvPicPr/>
          <p:nvPr/>
        </p:nvPicPr>
        <p:blipFill>
          <a:blip r:embed="rId7"/>
          <a:stretch/>
        </p:blipFill>
        <p:spPr>
          <a:xfrm>
            <a:off x="6300720" y="1413000"/>
            <a:ext cx="2035080" cy="143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Юля\ДК дистант\марафон ДО\СОШ\Kiaeva_Yulia_Alexandrovna_7.jpg"/>
          <p:cNvPicPr/>
          <p:nvPr/>
        </p:nvPicPr>
        <p:blipFill>
          <a:blip r:embed="rId8"/>
          <a:stretch/>
        </p:blipFill>
        <p:spPr>
          <a:xfrm>
            <a:off x="7108920" y="1916280"/>
            <a:ext cx="2035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Юля\Desktop\Выступление РМО НОО 12.11.20\Screenshot (28).png"/>
          <p:cNvPicPr/>
          <p:nvPr/>
        </p:nvPicPr>
        <p:blipFill>
          <a:blip r:embed="rId1"/>
          <a:stretch/>
        </p:blipFill>
        <p:spPr>
          <a:xfrm>
            <a:off x="324000" y="189000"/>
            <a:ext cx="6153120" cy="28573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755640" y="3192120"/>
            <a:ext cx="7561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борник методических видео по организации дистанционного обучения в школе: https://docs.google.com/document/d/1PslSJFKCszsErkUmqibk-eJ1lXn0sb8LX6K6hHp6VCU/edit?usp=sha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борник методических видео «Создание собственных интерактивных ресурсов»: https://docs.google.com/document/d/11VFw6IdEDeux_r3006K0rKms2zVhWocNQS6qnJ-Qcmc/edit?usp=sha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ограммы и сайты для организации формирующего оценивания и работы группы https://docs.google.com/document/d/1pmth0SdfiITYxCHCrxZQ28pcTgLqtehYLBoMgrTlpOw/ed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Юля\Desktop\Выступление РМО НОО 12.11.20\Screenshot (23).png"/>
          <p:cNvPicPr/>
          <p:nvPr/>
        </p:nvPicPr>
        <p:blipFill>
          <a:blip r:embed="rId1"/>
          <a:stretch/>
        </p:blipFill>
        <p:spPr>
          <a:xfrm>
            <a:off x="395280" y="620640"/>
            <a:ext cx="4570560" cy="39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C:\Users\Юля\Desktop\Выступление РМО НОО 12.11.20\Screenshot (22).png"/>
          <p:cNvPicPr/>
          <p:nvPr/>
        </p:nvPicPr>
        <p:blipFill>
          <a:blip r:embed="rId2"/>
          <a:stretch/>
        </p:blipFill>
        <p:spPr>
          <a:xfrm>
            <a:off x="4140360" y="2276640"/>
            <a:ext cx="4689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Юля\Downloads\V formie chashki kofie.jpg"/>
          <p:cNvPicPr/>
          <p:nvPr/>
        </p:nvPicPr>
        <p:blipFill>
          <a:blip r:embed="rId1"/>
          <a:stretch/>
        </p:blipFill>
        <p:spPr>
          <a:xfrm>
            <a:off x="1547640" y="836640"/>
            <a:ext cx="60487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irector_cro</cp:lastModifiedBy>
  <dcterms:modified xsi:type="dcterms:W3CDTF">2021-08-27T07:27:53Z</dcterms:modified>
  <cp:revision>728</cp:revision>
  <dc:subject/>
  <dc:title>Diapositiva 1</dc:title>
</cp:coreProperties>
</file>