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0.gif" ContentType="image/gif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4.png" ContentType="image/png"/>
  <Override PartName="/ppt/media/image11.gif" ContentType="image/gif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FE65-4B34-4BA4-9047-CD2757271D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AD28-0534-416F-97FE-C413CF2368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E16C-B5B5-4E4F-A5AB-E40C3446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214-3134-4763-BE2A-528877D1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7F1-596C-4397-A2C7-2EAE3FF7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E6EE-6CBA-4027-BEEA-167D1649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111E-6460-4781-8036-008BB7EA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5BFE-E937-4783-8312-E0C5361B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F6FD-47B8-4209-AF49-59DED159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7837-2FA3-44BB-98C1-38D87494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C53D-2E28-484A-8D6C-990E7944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5F3A-A967-46F4-91E6-BCF1E1AB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5506-5DA8-4755-950F-FF1BF895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FA4-097B-4815-A66C-6ED931AF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B090-CDCC-4221-9220-CB1D40A0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50F7-8512-4551-920A-6E905F43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9769-9045-4867-8979-ECA01D80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0107-6612-4867-BD6D-6C1FA206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D494-08C4-4567-84E4-B3E33D1F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51BD6-477F-4399-A5BE-006A981C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4306F-D952-45E2-9089-B3617694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9332F-F276-471D-853B-F829B409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F1D8B-9CD1-4919-9E86-484F40B0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DA116-6864-4A2C-85D0-C0260036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E7CF-64AE-41D9-BCAE-F6C7C09B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418B4-6645-4E70-B6D3-9045B193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9709C-ACAD-4B26-93A3-61DFF6B6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D6F0D-82BF-4A00-9D10-5B2C2C42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B9A6-E3C8-48D2-A572-8B8AA6BA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67DB5-2B43-43B9-8FEF-DA5EF7F8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62491-01E2-4783-9B71-00928B34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23010-38A1-40E8-AB36-1BF16878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89AA9-AFCA-4644-9978-59143F1A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6EE8C-988A-4EA8-892A-686F73E8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F3924-404E-4548-B486-C2E1DD2A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ABB-45BC-4B3B-97AA-F93C578A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E5178-DB8F-464F-829A-1F5CA5EE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7415E-0815-4D3E-A5A8-A8D1459B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4B3CA-D2B9-411A-9D08-4A949403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16911-E7C5-4B23-936F-47BFE990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CF331-D1E1-40F1-A5B8-8F5AD21F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2C852-81DC-49D7-A782-DD177F25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96229-8F94-493A-AD9C-81BB20CB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88512-CE91-4C80-A1D8-EF6CDBDA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52BE3-7479-480A-9808-5B1F334D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2F1-027B-4E54-9849-2989332A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7F7-31BF-4C19-81D4-BD499E6E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17D4-69DB-4F84-9091-4ABD09FD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3117-54E6-4D73-B048-1643E046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71F1-AA8F-4681-A77C-A4C82AD7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C848-24AA-4316-A5AB-F7F07D1AE29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3C2B-6DC0-4616-BC5C-56978BBEAE9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B0A8-FC56-4FD7-B6D1-0A09592E4A5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2EEF-44C4-4DF7-9B6A-C9A37B909B4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lecta.rosuchebnik.ru/proverochnye-raboty" TargetMode="Externa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480960" y="835200"/>
            <a:ext cx="8358120" cy="37368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j0354499.gif"/>
          <p:cNvPicPr/>
          <p:nvPr/>
        </p:nvPicPr>
        <p:blipFill>
          <a:blip r:embed="rId2"/>
          <a:stretch/>
        </p:blipFill>
        <p:spPr>
          <a:xfrm>
            <a:off x="1000080" y="4572000"/>
            <a:ext cx="1928880" cy="14749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5444280" y="5356080"/>
            <a:ext cx="34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рионова Еле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202480" y="189000"/>
            <a:ext cx="523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иргинская средня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817560" y="3131640"/>
            <a:ext cx="717552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Рисунок 3" descr=""/>
          <p:cNvPicPr/>
          <p:nvPr/>
        </p:nvPicPr>
        <p:blipFill>
          <a:blip r:embed="rId1"/>
          <a:srcRect l="25845" t="27300" r="11651" b="21891"/>
          <a:stretch/>
        </p:blipFill>
        <p:spPr>
          <a:xfrm>
            <a:off x="468360" y="404640"/>
            <a:ext cx="7920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806436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ИКО (Национальные исследования качества образования)  https://www.eduniko.ru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«Образовательные тесты» http://testedu.ru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Современный учительский портал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Российская цифровая образовательная платформа «</a:t>
            </a:r>
            <a:r>
              <a:rPr b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LECTA</a:t>
            </a:r>
            <a:r>
              <a:rPr b="0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» с учебными материалами для учеников, учителей, родителей (</a:t>
            </a:r>
            <a:r>
              <a:rPr b="0" lang="ru-RU" sz="2800" spc="-1" strike="noStrike" u="sng">
                <a:solidFill>
                  <a:srgbClr val="56c7aa"/>
                </a:solidFill>
                <a:uFillTx/>
                <a:latin typeface="Times New Roman"/>
                <a:ea typeface="Times New Roman"/>
                <a:hlinkClick r:id="rId1"/>
              </a:rPr>
              <a:t>https://lecta.rosuchebnik.ru/proverochnye-raboty</a:t>
            </a:r>
            <a:r>
              <a:rPr b="0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Учи.ру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2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175520" cy="103644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3" descr=""/>
          <p:cNvPicPr/>
          <p:nvPr/>
        </p:nvPicPr>
        <p:blipFill>
          <a:blip r:embed="rId2"/>
          <a:srcRect l="0" t="18918" r="27530" b="11624"/>
          <a:stretch/>
        </p:blipFill>
        <p:spPr>
          <a:xfrm>
            <a:off x="179280" y="1052640"/>
            <a:ext cx="8496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785880" y="237960"/>
            <a:ext cx="7615080" cy="115272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2"/>
          <p:cNvSpPr/>
          <p:nvPr/>
        </p:nvSpPr>
        <p:spPr>
          <a:xfrm>
            <a:off x="428760" y="1166760"/>
            <a:ext cx="8358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1. Составьте план подготовки по  предмету и расскажите о нём учащим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2.  Дайте учащимся возможность оценить их достижения в уч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3. Не говорите с учащимися о ВПР слишком ча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4.  Используйте при изучении учебного материала различные педагогические технологии, методы и при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«Скажи мне - и я забуду, учи меня - и я могу запомнить, вовлекай меня - и я научус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(Б. Франкл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6. Научите учащихся работать с критериями оценки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1000080" y="237960"/>
            <a:ext cx="7400880" cy="11527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2"/>
          <p:cNvSpPr/>
          <p:nvPr/>
        </p:nvSpPr>
        <p:spPr>
          <a:xfrm>
            <a:off x="357120" y="1214280"/>
            <a:ext cx="842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Не показывайте страха и беспокойства по поводу предстоящих В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Хвалите своих уче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Общайтесь с коллегам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Обсуждайте с учащимися важность здорового образа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. Поддерживайте внеучебные интересы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. Общайтесь с родителями и привлекайте их на свою сторон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5" descr="мишка.gif"/>
          <p:cNvPicPr/>
          <p:nvPr/>
        </p:nvPicPr>
        <p:blipFill>
          <a:blip r:embed="rId2"/>
          <a:stretch/>
        </p:blipFill>
        <p:spPr>
          <a:xfrm>
            <a:off x="7542360" y="5429160"/>
            <a:ext cx="13874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324000" y="98064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средоточься!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опись не спеша!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ни с легкого!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кай!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й задание до конца!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май только о текущем задании!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ай!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ланируй два круга!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!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ывай!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горчайся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1116000" y="262080"/>
            <a:ext cx="71740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1"/>
          <p:cNvSpPr/>
          <p:nvPr/>
        </p:nvSpPr>
        <p:spPr>
          <a:xfrm>
            <a:off x="250920" y="214200"/>
            <a:ext cx="6535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4124"/>
                </a:solidFill>
                <a:latin typeface="Times New Roman"/>
                <a:ea typeface="Times New Roman"/>
              </a:rPr>
              <a:t>Ежегодное проведение ВПР выпускников начальной школы в результате позвол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сихологически подготовить учащихся к экзаменам в старших классах, в частности к ГИА и ЕГ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ить количество и уровень знаний, которые были получены в течение пройденного года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имул к систематическим занятиям в течение всех лет обучения, а не только в выпускных клас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дут видны недостатки учебной программы по проверяемым предме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тели будут в курсе уровня знаний своего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ст возможность улучшить общую систему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6715080" y="357120"/>
            <a:ext cx="2103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963720" y="208080"/>
            <a:ext cx="7345080" cy="104112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2"/>
          <p:cNvSpPr/>
          <p:nvPr/>
        </p:nvSpPr>
        <p:spPr>
          <a:xfrm>
            <a:off x="500040" y="9288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писать перечень планируемых результатов по предмету ( окружающий ми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добрать несколько заданий для проверки того, насколько усвоен  пред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вести повторение по разделам учебной предметной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полнить несколько проверочных работ на все разделы программы, вместе обсуждать возможные стратегии выполнения работы, особенности формулировок заданий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ести учет выявленных пробелов для адресной помощи в ликвидации слабых сторон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3" descr="018.gif"/>
          <p:cNvPicPr/>
          <p:nvPr/>
        </p:nvPicPr>
        <p:blipFill>
          <a:blip r:embed="rId2"/>
          <a:stretch/>
        </p:blipFill>
        <p:spPr>
          <a:xfrm>
            <a:off x="7772400" y="5214960"/>
            <a:ext cx="12492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658800" y="444600"/>
            <a:ext cx="7802640" cy="131760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2"/>
          <p:cNvSpPr/>
          <p:nvPr/>
        </p:nvSpPr>
        <p:spPr>
          <a:xfrm>
            <a:off x="500040" y="1643040"/>
            <a:ext cx="8286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ение нестандартных заданий сформулированных в нетрадиционной форме: на уроках и во внеурочное врем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дистанционных олимпиадах по предме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пробных проверочных рабо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логическая подготовка обучающихся к проведению В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3" descr="flower.jpg"/>
          <p:cNvPicPr/>
          <p:nvPr/>
        </p:nvPicPr>
        <p:blipFill>
          <a:blip r:embed="rId2"/>
          <a:stretch/>
        </p:blipFill>
        <p:spPr>
          <a:xfrm>
            <a:off x="5786280" y="5214960"/>
            <a:ext cx="14353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858960" y="658800"/>
            <a:ext cx="7449840" cy="9144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2"/>
          <p:cNvSpPr/>
          <p:nvPr/>
        </p:nvSpPr>
        <p:spPr>
          <a:xfrm>
            <a:off x="642960" y="1428840"/>
            <a:ext cx="764388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дополнительных групповых и индивидуальных занятий с учащими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жедневно на уроках проводить подготовку учащихся, совершенствовать методы и приёмы работы с текстовой информаци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сихологическая подготовка обучающихся к проведению В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Маша и медведь.Маша и медведь"/>
          <p:cNvPicPr/>
          <p:nvPr/>
        </p:nvPicPr>
        <p:blipFill>
          <a:blip r:embed="rId2"/>
          <a:stretch/>
        </p:blipFill>
        <p:spPr>
          <a:xfrm>
            <a:off x="6858000" y="5072040"/>
            <a:ext cx="1143000" cy="1143000"/>
          </a:xfrm>
          <a:prstGeom prst="rect">
            <a:avLst/>
          </a:prstGeom>
          <a:ln cap="sq" w="38160">
            <a:solidFill>
              <a:srgbClr val="81d31a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858960" y="371520"/>
            <a:ext cx="7449840" cy="89064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2"/>
          <p:cNvSpPr/>
          <p:nvPr/>
        </p:nvSpPr>
        <p:spPr>
          <a:xfrm>
            <a:off x="571680" y="1000080"/>
            <a:ext cx="7929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классных родительских собраний по вопросам подготовки и участия в ВП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комление родителей с нормативной базой и порядком проведения мониторинг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ые консультации для родител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логическая подготовка родителей к проведению В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Маша и медведь."/>
          <p:cNvPicPr/>
          <p:nvPr/>
        </p:nvPicPr>
        <p:blipFill>
          <a:blip r:embed="rId2"/>
          <a:stretch/>
        </p:blipFill>
        <p:spPr>
          <a:xfrm>
            <a:off x="7572240" y="5643720"/>
            <a:ext cx="952560" cy="952200"/>
          </a:xfrm>
          <a:prstGeom prst="rect">
            <a:avLst/>
          </a:prstGeom>
          <a:ln cap="sq" w="38160">
            <a:solidFill>
              <a:srgbClr val="81d31a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927000" y="378000"/>
            <a:ext cx="8040960" cy="115884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2"/>
          <p:cNvSpPr/>
          <p:nvPr/>
        </p:nvSpPr>
        <p:spPr>
          <a:xfrm>
            <a:off x="357120" y="1305000"/>
            <a:ext cx="8215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4124"/>
                </a:solidFill>
                <a:latin typeface="Arial"/>
              </a:rPr>
              <a:t>Первая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Задания 1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и  работы относятся к сфере социально-гуманитарного 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Задания 2 части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едставляют собой небольши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(Исходя из этого можно составить памятки  для составления текстов – рассуждений и  упражнения для формирования умения акцентировать ответ на ключевом слове вопрос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боту можно построить по  следующим направлен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 рамках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 рамках дополнительных консультаций по подготовке к В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95280" y="2060280"/>
            <a:ext cx="85694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Цель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реализация в полном объеме ООП НОО, направленная на повышение качества начального образования на уровне образовательной организации и качественную подготовку выпускников к Всероссийским проверочным работам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152280" y="-158760"/>
            <a:ext cx="8742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10920" y="1557000"/>
            <a:ext cx="7993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rebuchet MS"/>
              </a:rPr>
              <a:t>образовательный портал «Решу ВПР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969840" y="334800"/>
            <a:ext cx="7174080" cy="117000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3" descr=""/>
          <p:cNvPicPr/>
          <p:nvPr/>
        </p:nvPicPr>
        <p:blipFill>
          <a:blip r:embed="rId2"/>
          <a:srcRect l="14192" t="6757" r="13509" b="4930"/>
          <a:stretch/>
        </p:blipFill>
        <p:spPr>
          <a:xfrm>
            <a:off x="1619280" y="2023920"/>
            <a:ext cx="63374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817560" y="3131640"/>
            <a:ext cx="717552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Рисунок 3" descr=""/>
          <p:cNvPicPr/>
          <p:nvPr/>
        </p:nvPicPr>
        <p:blipFill>
          <a:blip r:embed="rId1"/>
          <a:srcRect l="25171" t="12972" r="11144" b="35300"/>
          <a:stretch/>
        </p:blipFill>
        <p:spPr>
          <a:xfrm>
            <a:off x="611280" y="333360"/>
            <a:ext cx="7705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2:45:29Z</dcterms:created>
  <dc:creator>Helen</dc:creator>
  <dc:description/>
  <dc:language>en-US</dc:language>
  <cp:lastModifiedBy>director_cro</cp:lastModifiedBy>
  <cp:lastPrinted>2017-04-05T16:07:32Z</cp:lastPrinted>
  <dcterms:modified xsi:type="dcterms:W3CDTF">2021-08-27T07:26:56Z</dcterms:modified>
  <cp:revision>170</cp:revision>
  <dc:subject/>
  <dc:title>Слайд 1</dc:title>
</cp:coreProperties>
</file>